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applause.wav" ContentType="audio/x-wav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4A6-2F19-460B-964D-A5327816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FDF-5F5F-42C8-814B-BE027B37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A6622-3B54-447B-8D1A-D1DB5D4A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60569-4D2C-4C6F-867A-CA7A32D4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D2539-5EF8-4457-9EE9-73F67CB9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B5997-C1AB-48F5-A008-9A4D7906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7FBBF-52FC-4521-9B9A-C74ACDCC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CE468-949D-4C85-90E8-179732C6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85B94-92D2-4A55-8C11-D58FF4B9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3532C-D4B7-4ACD-B265-E348F8EE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77A36-F73A-4DA2-A9EE-B634B24B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3A146-BF6B-4B24-968A-5AAE65B0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C584-8E87-406A-9DE4-82B5D584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ABA35-A0F5-44F1-AF19-9E4CBB9B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75929-7554-4914-8AAE-B3EDBAD4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5FF06-897A-42C0-9680-6B5676A7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EFFA2-2B9F-4201-83F7-2083FADA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4E746-285E-4797-B674-70AA2514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D16FF-96DA-46F5-8D72-7A1A3AA3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72D58-48FA-4554-9C27-51E7C3D4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FCCBE-895B-4910-BE66-9BE0BEA2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081D8-51EA-4480-B5CA-1868CF0C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CF063-ED00-4F1C-8A98-9651398A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9AB-C602-4C83-854F-02B113C5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8410A-DB56-4BA9-8BB6-D35F3773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FD346-137F-4947-BD63-140951F1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49826-2E8D-4690-ACBD-C6754B0C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0C668-3A3A-4C3D-8E91-DD5EC69B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B5EEC-FC81-4F73-9009-554EEF8F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D3654-93ED-4296-B8CD-D2BCB4F0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931A4-BB83-40B1-B6A7-736F2E23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60DDC-749E-432B-B349-4A28B7A6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BA21C-CF3E-41DB-9DDD-58944088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52374-B375-433A-8F68-6AC96088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A89E-7FD9-4EFD-A5A0-92C26871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50304-A12E-4DA7-9B0E-9F59747F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D74C6-2355-4C7B-A6CB-F98C9F16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EA8E5-7A09-4A5A-A5CA-E0C57EAE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EA58A-49E6-4EE3-8E83-28BAF9C3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9E2FE-3BAE-4E54-AD33-45B17B63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4C5DF-8550-4FB7-B100-6E92BB06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86215-ADE3-4318-8638-E98129E5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FF8AB-31A3-4D19-8C3F-E90E46E2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3487C-027A-4871-BAEF-3F96AF82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2636E-5A40-4EE3-A3A4-12B02F42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0E1A-9349-410F-847F-32527D8A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87ED0-276B-437C-BAEB-1C3AB56E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AFCFC-E3F2-4100-A45E-0C1F36A4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292C2-F62D-4137-9DF1-EC45FA75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A2CC6-9034-4AA6-9186-B2C9358A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37232-A5C6-45BC-A1B5-801C5836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8D915-BA85-4B27-A6FA-AC25B00D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DE640-C4B4-4761-9305-83A49DF7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E01E0-2D9F-4441-9645-7CE172BC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A2D68-4250-424A-9780-5884EB31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5694B-8E85-4C07-B0EA-8AB90C78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4688-D0E0-45E1-9F37-62077793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9492C-13D3-4AC7-B6D8-1B7AA788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47D18-5413-4D17-B599-03710706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9BCAB-DCE2-4CB6-98EC-3A4A12BD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65351D-5C8E-4BFF-AF1C-14F7A307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476AE7-DDAD-41C1-9F22-A06CBA27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D452D-973A-4B3B-B2B0-06185374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03C59C-2878-4750-AE8B-A0752EA8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7732-70BD-404E-944B-9B606416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4A25-5AFE-453A-8F56-A8D0A4A5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EE99-D622-4529-8567-FC7ADB81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82A4-6DF6-4ABF-9B98-1B9C04EB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E797-FAD4-4E3E-9670-AB2CF019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076F-E8F5-4CF6-BFFD-30A3B422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CCDC-C7CB-49AA-8635-45DE3729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F056-CC2C-477C-B066-D5C5805D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1DE0-5811-4901-8A6F-8F8EECA2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B2BC-E705-4E8A-BC3E-7D6B5B9D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7F30C-E034-47AE-9B2A-12B1B117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FE88E-691E-4892-9048-1E9B3680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0E8D1-9BE6-4789-A7C2-BD34348F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F00D-EBCF-44DC-9093-940E2B31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FE51B-00DC-4E62-A65B-92FDB6A6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9EE-86B2-4B6B-B7B3-0661919A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58A89-E3C1-4967-862E-4057482C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84C73-5092-4E84-9A1E-BFFCC768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15DD8-8697-49D6-BECF-7A1F05BB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64E00-1BAF-4B38-B1BF-CFD40880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E7E6E-2B24-42F8-B318-D3358023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681A1-14B9-4F4A-9789-BF1231E6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7DBFD-10CB-4282-9272-6DDE8089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00FE4-1BCD-46CF-97DD-A374768C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3DE76-30C0-437A-A9BE-5AE07168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5316B-2219-47AD-808F-8C9FEF33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590-875A-4A6D-B12B-02FC6034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D99FB-5749-45B5-A37F-198D3044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3DC7D-7C73-48B3-A3AC-48335C25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19C1E-3040-484B-85CE-D9C9B7EA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04074-CBDC-4C0C-B02E-B14D5958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C170E-A256-4191-84EF-0524A823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4AABA-3565-4854-B6B0-E47D5B46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B9958-77F1-4C42-B90B-D220A7F8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CF4FE-EB61-48FA-85D7-85C65203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37C77-4DD8-468D-A6D2-1CC4AAF7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200F7-428D-4B8E-BBAE-0C2E85EE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44E-F8C0-4931-A9A7-BB33ABAD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9E681-95B8-4652-B233-E8422238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8C3A1-B932-430F-9B14-486304C5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0FD2F-585F-43AA-A294-10D87968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9C55F-ECEA-4A84-B3EF-8E8942F9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CC1BF-E400-420D-873F-14454E0E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4C6E6-3CFC-4BFA-A5E9-E586EA29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90BCB-BD09-45D3-8E5F-75726CE0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9DCBD-F40D-4BC4-8369-30AE08F6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D7855-B82B-45EE-B0D4-68D4F37E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D0B55-502C-46B0-9350-BF8091C2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B42D-2F8E-4BB3-B60E-62B58774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C413A-5AE4-4208-9110-EA0882BD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F83A8-573A-4F7F-BD9B-0C09BC1C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80317-0B20-4F98-A46D-3BE1A434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BA442-3FF4-45FF-A465-640AF5D4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F7A63-AA6C-4283-9AB4-E4A918D4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CC161-8122-4ED7-B5E3-2E29A631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90CEA-78B3-4FCB-AD43-2F0EF3AA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B184A-6F00-49F5-8D0F-72B5629B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91394-7813-4FB4-954C-9624B3B7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BF44C-7600-4B6D-9B77-E1FF1642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407-4872-4812-9138-937D97E8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38B02-0FE1-49A9-9907-F4A9334F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DB4CA-179D-479D-94F5-5BE8775E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33127-4C07-4489-BEF1-853D6033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662C4-67C5-466A-A798-AE7F03B2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36632-10C2-4C75-9EBD-8C3C5570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0CF35-5562-4DE4-BAF7-07CFBAB3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24FB0-07AB-44B6-9C74-74D2354E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4A7C1-14FD-4F16-94EA-3653779A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D5622-EAC0-42CF-9B5F-74515026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2B509-1EA2-425B-B8FE-A9145AA0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D80-0B92-47FF-8005-845F753A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6EB6B-56F9-4814-B4BE-70691A9A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DC447-8002-4702-A858-AD0956F3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50B32-6E3E-4087-9EAB-D67CB477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AFB50-E942-47C6-9B54-29E4431F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DDE20-0999-43CB-AA1A-992E45A7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CD0DA-2D6D-4A89-9427-F9AC2704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0AFAB-D949-4345-946C-27C52ACF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07755-7ED2-4341-89EA-135DEC70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FEA5E-ACE4-4036-AEF3-45743B66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97E61-A1A7-4A61-B6B4-E24604FE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E1D4-17D3-4631-AF6F-C0C491E5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8BAEF-59A1-4535-91DE-C9E8751F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F264A-6DC7-41DC-B76C-F47B165D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98CCE-F2BB-4292-A475-B480D177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C8720-CCA8-4B7C-A248-04BDF700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17FD3-FA5B-4438-BF89-DECFA26B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E0EB0-207F-47CF-AA1A-69789847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6C328-20D2-4DAC-A59F-AE4F465F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B97FD-5A89-4B41-8324-560B0733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09BEF-57B0-4E8B-ABA7-83B8305A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A1DE3-7476-4FE7-A7BB-B9E23F04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A56E-1C11-4C3D-8E25-3A0D87BEF19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97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134F-191F-4A64-909E-37C955DE38F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4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1915-CCAC-4194-AC21-DEC4161B04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85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8786-1FBD-46CD-AC49-67C2754E0AA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29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8601-0868-4115-8529-24C7423351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1084-FBEB-424F-B914-32542A8FB12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9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6124-9807-4CCE-B44F-071DDA18BDE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3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4D65-BD07-4ACC-8339-AC8225E5D7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77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8D10-7353-4627-A941-B6F1F833D09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2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C115-8D10-4A4E-9CF0-0D71C14EF55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5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84B3-2924-4160-A682-E0342007168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9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A0EF-28F0-4E8D-A222-D2DC586C220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3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77B4-963A-4332-9D88-7C34F23F4C7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ПРОЕКТ </a:t>
            </a:r>
            <a:br>
              <a:rPr sz="6000"/>
            </a:b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«Игрушка «Киндер сюрприз»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73" name="Object 5"/>
          <p:cNvGraphicFramePr/>
          <p:nvPr/>
        </p:nvGraphicFramePr>
        <p:xfrm>
          <a:off x="214200" y="6000840"/>
          <a:ext cx="10764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6000840"/>
                    <a:ext cx="1076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5" name="Рисунок 3" descr=""/>
          <p:cNvPicPr/>
          <p:nvPr/>
        </p:nvPicPr>
        <p:blipFill>
          <a:blip r:embed="rId3"/>
          <a:stretch/>
        </p:blipFill>
        <p:spPr>
          <a:xfrm>
            <a:off x="7072200" y="571680"/>
            <a:ext cx="1078200" cy="1428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готовка к выставке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индер игруше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5" name="Picture 4" descr="C:\Documents and Settings\Администратор\Рабочий стол\SAM_0305.JPG"/>
          <p:cNvPicPr/>
          <p:nvPr/>
        </p:nvPicPr>
        <p:blipFill>
          <a:blip r:embed="rId1"/>
          <a:stretch/>
        </p:blipFill>
        <p:spPr>
          <a:xfrm>
            <a:off x="457200" y="2000160"/>
            <a:ext cx="4038480" cy="33624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C:\Documents and Settings\Администратор\Рабочий стол\SAM_0303.JPG"/>
          <p:cNvPicPr/>
          <p:nvPr/>
        </p:nvPicPr>
        <p:blipFill>
          <a:blip r:embed="rId2"/>
          <a:stretch/>
        </p:blipFill>
        <p:spPr>
          <a:xfrm>
            <a:off x="4648320" y="2000160"/>
            <a:ext cx="4038480" cy="3362400"/>
          </a:xfrm>
          <a:prstGeom prst="rect">
            <a:avLst/>
          </a:prstGeom>
          <a:ln w="0">
            <a:noFill/>
          </a:ln>
        </p:spPr>
      </p:pic>
    </p:spTree>
  </p:cSld>
  <p:transition advTm="1000"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азучивание новой подвижной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гры «Заводные игрушки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8" name="Picture 5" descr="C:\Documents and Settings\Администратор\Рабочий стол\Новая папка\PIC_0355.JPG"/>
          <p:cNvPicPr/>
          <p:nvPr/>
        </p:nvPicPr>
        <p:blipFill>
          <a:blip r:embed="rId1"/>
          <a:stretch/>
        </p:blipFill>
        <p:spPr>
          <a:xfrm>
            <a:off x="1357200" y="157176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7" descr="C:\Documents and Settings\Администратор\Рабочий стол\Новая папка\PIC_0356.JPG"/>
          <p:cNvPicPr/>
          <p:nvPr/>
        </p:nvPicPr>
        <p:blipFill>
          <a:blip r:embed="rId2"/>
          <a:stretch/>
        </p:blipFill>
        <p:spPr>
          <a:xfrm>
            <a:off x="5357880" y="164304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C:\Documents and Settings\Администратор\Рабочий стол\Новая папка\PIC_0359.JPG"/>
          <p:cNvPicPr/>
          <p:nvPr/>
        </p:nvPicPr>
        <p:blipFill>
          <a:blip r:embed="rId3"/>
          <a:stretch/>
        </p:blipFill>
        <p:spPr>
          <a:xfrm>
            <a:off x="4500720" y="392904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9" descr="C:\Documents and Settings\Администратор\Рабочий стол\Новая папка\PIC_0358.JPG"/>
          <p:cNvPicPr/>
          <p:nvPr/>
        </p:nvPicPr>
        <p:blipFill>
          <a:blip r:embed="rId4"/>
          <a:stretch/>
        </p:blipFill>
        <p:spPr>
          <a:xfrm>
            <a:off x="571680" y="392904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Беседа с детьми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Мой любимый киндер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03" name="Picture 5" descr="C:\Documents and Settings\Администратор\Рабочий стол\Новая папка\PIC_0328.JPG"/>
          <p:cNvPicPr/>
          <p:nvPr/>
        </p:nvPicPr>
        <p:blipFill>
          <a:blip r:embed="rId1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" descr="C:\Documents and Settings\Администратор\Рабочий стол\SAM_0299.JPG"/>
          <p:cNvPicPr/>
          <p:nvPr/>
        </p:nvPicPr>
        <p:blipFill>
          <a:blip r:embed="rId2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6" descr="C:\Documents and Settings\Администратор\Рабочий стол\SAM_0300.JPG"/>
          <p:cNvPicPr/>
          <p:nvPr/>
        </p:nvPicPr>
        <p:blipFill>
          <a:blip r:embed="rId3"/>
          <a:stretch/>
        </p:blipFill>
        <p:spPr>
          <a:xfrm>
            <a:off x="3000240" y="392904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ыставка-презентация игруше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07" name="Picture 6" descr="C:\Documents and Settings\Администратор\Рабочий стол\Новая папка\PIC_0326.JPG"/>
          <p:cNvPicPr/>
          <p:nvPr/>
        </p:nvPicPr>
        <p:blipFill>
          <a:blip r:embed="rId1"/>
          <a:stretch/>
        </p:blipFill>
        <p:spPr>
          <a:xfrm>
            <a:off x="1574640" y="1500120"/>
            <a:ext cx="5994720" cy="4929120"/>
          </a:xfrm>
          <a:prstGeom prst="rect">
            <a:avLst/>
          </a:prstGeom>
          <a:ln w="0">
            <a:noFill/>
          </a:ln>
        </p:spPr>
      </p:pic>
    </p:spTree>
  </p:cSld>
  <p:transition advTm="6000">
    <p:strips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ЛЬБОМ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 ИЗ ИСТОРИИ КИНДЕР СЮРПРИЗ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99680" y="1928520"/>
            <a:ext cx="4186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Фигурки живот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из серии «Tierfiguren» (197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4960" indent="-21924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ерия «Tierfiguren» стала продаваться в шоколадных яйцах «Kinder Surprise» в 1975 году. Набор, так же как и «Hundefiguren» был одним из первых, появившимся внутри нашей любимой слад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звание серии в России – «Животные» или «Звери».  Вы видите 21 игрушку, но, возможно, некоторые из них относятся к другим сериям – как-то уж слишком нелогично среди зайцев и лисичек смотрится улитка или, например, лягушка.  К тому же, возможно, здесь могут встретится не только оригинальные фигурки, но и их вариант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1" name="Рисунок 11" descr="C:\Documents and Settings\Администратор\Мои документы\киндер1.jpg"/>
          <p:cNvPicPr/>
          <p:nvPr/>
        </p:nvPicPr>
        <p:blipFill>
          <a:blip r:embed="rId1"/>
          <a:stretch/>
        </p:blipFill>
        <p:spPr>
          <a:xfrm>
            <a:off x="428760" y="2643120"/>
            <a:ext cx="4071960" cy="210024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ahoma"/>
              </a:rPr>
              <a:t>Астерикс и римляне из серии «Asterix und die Romer» (2000)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64832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торой сюжет из жизни мультипликационных героев Астерикса и Обеликса был запечатлен в серии фигурок из киндер сюрприза, вышедшей в 2000 году в Германии, - «Астерикс и римляне» («Asterix und die Romer»). Своим внешним видом игрушки полностью и в мельчайших деталях копируют персонажей мульти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ерез три года, в 2003, такой же комплект появился во Франции. Назывался он проще – «Asterix». Кроме того, набор выходил в «Kinder Joy» в 2004 (2005?). Набор носил название, как и предыдущий, - «Asterix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любом из вариантов серий по 10 фигурок.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4" name="Содержимое 27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4281480" cy="36432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ВинКС Клуб-2 из серии «WinX Club» (2008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помните, в 2006 году в Италии уже выходила серия фигурок «WinX Club». Она представляла собой комплект симпатичных куколок. А в 2008 году собиратели Киндер Сюрпризов из Италии снова увидели этих замечательных персонажей. Причем теперь и без того красивые фигурки стали еще лучше: ярче, детальней, и теперь они «в движении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российских каталогах серия называется – «ВинКС Клуб-2». Несмотря на внешнее различие, персонажи сохранили первоначально данные им име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коллекции 2008 года 6 игруше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7" name="Содержимое 4" descr=""/>
          <p:cNvPicPr/>
          <p:nvPr/>
        </p:nvPicPr>
        <p:blipFill>
          <a:blip r:embed="rId1"/>
          <a:stretch/>
        </p:blipFill>
        <p:spPr>
          <a:xfrm>
            <a:off x="357120" y="2143080"/>
            <a:ext cx="4214880" cy="257184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Звон колокольчиков из новогодней серии «Die Kling-Glockchen Bande» (2010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чередной новогодней серией, выпущенной в 2010 году, стала «Die Kling-Glockchen Bande («Звон колокольчиков»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наборе 7 персонажей. У каждого из них за спиной по мешку (видимо с подарками для мальчиков и девочек, которые хорошо себя вели в прошедшем году ) и тот самый колокольчик. У оленя из упряжки Санта Клауса (здесь он называется Рождественский Дед) колокольчиков целых два, и разместили их с выдумко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х, да! На картинке сверху не видно, но у каждой игрушки есть специальный шнурочек, чтобы ее можно было повесить на елк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0" name="Содержимое 9" descr=""/>
          <p:cNvPicPr/>
          <p:nvPr/>
        </p:nvPicPr>
        <p:blipFill>
          <a:blip r:embed="rId1"/>
          <a:stretch/>
        </p:blipFill>
        <p:spPr>
          <a:xfrm>
            <a:off x="285840" y="2214720"/>
            <a:ext cx="4209840" cy="30096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овместная творческая деятельность. Рисование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Мой любимый киндер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22" name="Picture 8" descr="C:\Documents and Settings\Администратор\Рабочий стол\PIC_0362.JPG"/>
          <p:cNvPicPr/>
          <p:nvPr/>
        </p:nvPicPr>
        <p:blipFill>
          <a:blip r:embed="rId1"/>
          <a:stretch/>
        </p:blipFill>
        <p:spPr>
          <a:xfrm>
            <a:off x="457200" y="23335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" descr="C:\Documents and Settings\Администратор\Рабочий стол\SAM_0307.JPG"/>
          <p:cNvPicPr/>
          <p:nvPr/>
        </p:nvPicPr>
        <p:blipFill>
          <a:blip r:embed="rId2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пользованные ресур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213840" y="1600200"/>
            <a:ext cx="847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тератур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. Д. Пашкевич «Таинства педагогического проектирования в ДОУ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. К. Силевко «Современные педагогические образовательные технологии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. В. Жукова «Проектировочная деятельность в образовательном процесс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 – ресур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ойчук Т.В., Бабкина Е. 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Авторы проекта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WordArt 4"/>
          <p:cNvSpPr txBox="1"/>
          <p:nvPr/>
        </p:nvSpPr>
        <p:spPr>
          <a:xfrm>
            <a:off x="900000" y="260280"/>
            <a:ext cx="7417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 </a:t>
            </a:r>
            <a:endParaRPr b="0" lang="en-US" sz="1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7" name="WordArt 5"/>
          <p:cNvSpPr txBox="1"/>
          <p:nvPr/>
        </p:nvSpPr>
        <p:spPr>
          <a:xfrm>
            <a:off x="755640" y="2492280"/>
            <a:ext cx="7416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 свидания!</a:t>
            </a:r>
            <a:endParaRPr b="0" lang="en-US" sz="1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5000">
    <p:zoom dir="in"/>
    <p:sndAc>
      <p:stSnd>
        <p:snd r:embed="rId5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ahoma"/>
              </a:rPr>
              <a:t>Тип проекта:</a:t>
            </a: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Творческий, фронтальный,</a:t>
            </a: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краткосрочный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6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АКТУАЛЬНОСТЬ РАЗРАБОТКИ  И РЕАЛИЗАЦИИ ПЕДАГОГИЧЕСКОГО ПРОЕКТА: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цессе игровой деятельности ребенок познает мир, учится общаться и договариваться, ценить и любить прекрасное, становится смелее и выносливее. Огромное место в этом виде деятельности занимает игрушка. При помощи нее ребенок самовыражается, получает возможности для реализации своих потребностей, может проявить себя как организатор или подчиненный.                                                                                                                 В современном мире развлечений немаловажное место занимает забавная сладость – киндер сюрприз. Ведь что может быть большей радостью для ребенка, чем, зажав в руке заветное шоколадное яйцо, трясти его, прислушиваясь к звуку: « Что же там внутри?». А потом, поедая молочный шоколад, собирать из нескольких частей, как конструктор, игрушку. Или, если игрушка цельная и коллекционная, воображать, как соберешь всю коллекцию и украсишь ею самую заметную полочку в доме, расставив фигурки так же, как их расположили создатели на вкладыше. А, если такая игрушка уже была, то прикидывать, с кем же можно удачно поменяться. Или оформить театральный уголок  «Киндер сюрприза» в групповой комнате детского сада, а упаковку использовать для разного вида экспериментальной деятельности и для развития мелкой моторики ру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Цель проект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ть условия для эмоционально – познавательного развития воспитанников через совместную творческую  деятельность детей и  взросл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ть единую команду детей и взрослых по реализации проекта, развивать игровые, познавательные, сенсорные, речевые способности, учитывая индивидуальные и возрастные особенности ребенка; овладевать образно – игровыми и имитационными движениями; формировать у ребенка эмоционально – эстетическое и бережное отношение к игрушк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едполагаемые результат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тавка-презентац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ьбом «Из истории киндер сюрприза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тоархи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ртуальный архи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тавка рисун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ЛАН РАБОТЫ ПО РЕАЛИЗАЦИИ ПРОЕК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476360" y="129708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428760" y="1214280"/>
          <a:ext cx="8429400" cy="5357880"/>
        </p:xfrm>
        <a:graphic>
          <a:graphicData uri="http://schemas.openxmlformats.org/drawingml/2006/table">
            <a:tbl>
              <a:tblPr/>
              <a:tblGrid>
                <a:gridCol w="474480"/>
                <a:gridCol w="2805120"/>
                <a:gridCol w="3460680"/>
                <a:gridCol w="1689120"/>
              </a:tblGrid>
              <a:tr h="2430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Эта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Ц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част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анятие познавательного цикла для детей и родителей «Из истории киндер сюрприз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сширять и обогащать представления участников проекта о киндер - игрушке; развивать эмоциональное взаимодействие с воспитанниками и их семья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родители, де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дготовка к выставке киндер игрушек (сбор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особствовать возникновению интереса и желания у детей и взрослых участвовать в оформлении выстав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род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зучивание новой подвижной игр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Заводные игруш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звать у детей желание изобразить какую-либо игрушку при помощи движений, эмоц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де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еседа с детьми «Мой любимый киндер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звать  у каждого ребенка желание поделиться своими эмоциями и впечатлениями со взрослыми и сверстника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де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ставка – презентация игруш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звать у детей чувство гордости за совместную деятельность с родителями и воспитателя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родители, де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пуск альбома «Из истории киндер сюрприз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особствовать возникновению у воспитанников устойчивого интереса к игрушкам, расширение кругоз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вместная творческая деятельность детей и родителей (рисование любимой киндер игрушк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особствовать развитию умения передавать задуманные образы в рисунке; способствовать освоению детьми различных приемов рисо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дети, род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8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нятие познавательного цикла для детей и родителей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Из истории киндер сюрприз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38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*   « Киндер Сюрприз» - он же «Шоколадное яйцо», он же «яйцо с сюрпризом» - кондитерское изделие, состоящее из двух слоев шоколада, в форме яйца. Внутри находится пластиковый контейнер, который, в свою очередь, содержит небольшую игрушку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щий вес яйца приблизительно 35 грамм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 Сюрпризы» из шоколадного яйца радуют нас с 1972 (1974?) года. Их изобретателем был швейцарец Генри Ро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мая первая партия была продана за ЧАС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 30 лет существования Киндер Сюрприза было продано 30 млрд. шоколадных яиц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феврале 2007 года на аукционе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Bay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лекция из 90000 киндер игрушек была продана за 30000 евро. (Так и хочется спросить: «А вам слабо?» Не собрать, так хоть купить…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2" name="Picture 13" descr="C:\Documents and Settings\Администратор\Рабочий стол\Новая папка\PIC_0335.JPG"/>
          <p:cNvPicPr/>
          <p:nvPr/>
        </p:nvPicPr>
        <p:blipFill>
          <a:blip r:embed="rId1"/>
          <a:stretch/>
        </p:blipFill>
        <p:spPr>
          <a:xfrm>
            <a:off x="214200" y="1785960"/>
            <a:ext cx="3500640" cy="26431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4" descr="C:\Documents and Settings\Администратор\Рабочий стол\Новая папка\PIC_0339.JPG"/>
          <p:cNvPicPr/>
          <p:nvPr/>
        </p:nvPicPr>
        <p:blipFill>
          <a:blip r:embed="rId2"/>
          <a:stretch/>
        </p:blipFill>
        <p:spPr>
          <a:xfrm>
            <a:off x="1785960" y="4214880"/>
            <a:ext cx="2857320" cy="2643120"/>
          </a:xfrm>
          <a:prstGeom prst="rect">
            <a:avLst/>
          </a:prstGeom>
          <a:ln w="0">
            <a:noFill/>
          </a:ln>
        </p:spPr>
      </p:pic>
    </p:spTree>
  </p:cSld>
  <p:transition advTm="14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28T12:53:37Z</dcterms:modified>
  <cp:revision>42</cp:revision>
  <dc:subject/>
  <dc:title>PowerPoint Presentation</dc:title>
</cp:coreProperties>
</file>