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applause.wav" ContentType="audio/x-wav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wmf" ContentType="image/x-wmf"/>
  <Override PartName="/ppt/media/image4.jpeg" ContentType="image/jpeg"/>
  <Override PartName="/ppt/media/image2.png" ContentType="image/pn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34F5-502C-4AD2-BF79-30E0A2FC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1640-90CD-486F-AA2C-D3AF113C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6230A-6102-474A-9322-32E579A4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204B5-2C49-4874-B1B2-41E1AD46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88739-0C18-44DA-A6AE-D27D89B3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64B2F-8A49-410B-9504-3D60120D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08FD5-E3B2-4BD8-8AFC-116C2708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D3E32-4316-4D7E-BBCD-9E93CAF9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46641-2A9C-4967-A4BE-17427615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A6624-339B-454F-AC15-C5413F50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6484F-0733-4854-B36A-84EF3378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B4664-8F46-477D-B1AA-BF51383D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F04C-D9FB-4FE5-8C10-CF5A9118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9088C-8D8D-43A8-9734-2F031268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964BF-727E-4F49-985F-3B8C04BE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3EE7B-CA4A-4550-89C3-115C256A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EA801-5BA3-448B-B2FA-24C7A759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F236D-BC70-469D-9FAF-54B36F76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CB1EF-FF7E-4020-80A9-3C82FB45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CFFD3-7A59-4100-A67A-1B5D01F1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D5913-67B5-439C-BB45-85F9BACC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B469B-857E-4124-9300-54EA13D3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3119D-2DF9-4304-AC38-837833B5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E0A0-75A1-4EB2-AF9B-E19CEEF6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2BC20-14A6-41DB-9F4C-80769532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4E4F3-F1C2-43FD-AF14-8568DFFF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A60EB-9C80-4138-9900-3A0B9847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C8032-4623-493B-9F24-594BDC31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6A7F6-9231-4FB9-814C-E15D5DCB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5BD72-219D-46D0-9B7F-096A105D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2F8B5-044D-435D-B313-711D6479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A31CD-256B-4FC5-951A-E1420DAC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53FC5-4A8E-4532-9503-B9C2A449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1A8F2-CE82-4C95-87FA-96801A4F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27D0-7735-46FB-941E-2546257E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25A60-42DA-4842-9CBC-E4C956C1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11CBD-B355-4749-A5F8-83610BBD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6C7AA-5B8D-4155-86AD-AEBF655E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26B12-4345-4848-A03A-33157BCD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7C078-BCD3-4F28-A209-F8C05AE7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27155-4594-4086-850C-EB418CD4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1B767-2E34-41AD-9F11-1A9643B7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789B6-3441-4B4E-A9FB-7BDED79F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BC69B-78E8-469F-9F5B-F444D494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C5C53-15B1-42D5-82E9-EA7A31E7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3CAA-7722-4B52-8B02-BF61CCCE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F205F-5C67-4A41-BF91-A4A5544F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FAA09-E465-47FE-813B-B6CB0E0F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B514B-3B23-48B2-8BCA-6216BB8F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69FC9-6B5B-4A93-A75A-2723AB91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F8A40-9EB1-46B8-B69A-6CF42BF6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2354E5-D362-4E53-9924-D4224072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318985-DB20-462C-96AD-C69A49DA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494DFA-812B-4ED1-A294-F2634FE7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19BB0C-1704-4EE4-A105-47F85721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B0573D-A0CA-44C1-9B78-46AD6F14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977F-7A59-4423-ADBB-26C76782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F6D893-47DF-4EC2-9FEC-F34C6431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704E40-0DC2-4647-BE9F-23638A11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28A80B-A942-4EBC-A9FA-C7809E68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56C620-5C53-4AF1-9AD4-ECC01090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C0D777-871D-48EE-A8DD-93875FD8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2F7A78-A66A-4D96-B2CF-5B8968A0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A2CB48-039B-41BF-8E59-777AC9A0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D86D-084C-489C-A9A8-82CC8BD5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4FC9-1E3E-463F-8D9B-9EEC5956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72C4-0901-48E2-A9F5-FC44CB1B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8D30-F2A3-4F9F-B57C-957D1FC9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26F3-7347-4CF0-86B5-30715D3B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16AE-7ED3-40F1-B275-8B1EDEBF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0B40-D525-4C7B-801B-3CA1B0F8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4DAD-ED12-4706-AB75-B9E7B57B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544A-6711-4A87-9D1E-0B8D8A9A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4E8E-94D1-41F1-8F29-8DE37E88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F812C-9427-41C2-A28E-BD70D179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9FA5B-1201-419C-80B3-86071D45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3265B-FADF-49D1-BC2F-362E959A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D27E9-5817-4A5D-9C2D-81E010BB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9AF4F-25B6-4369-B6B0-8890E735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B28E-4828-4932-A69B-55ACD73C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414C8-B80A-4F72-8C83-700BA9A9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2E797-6089-4C91-B767-4E55A19D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A91A1-A218-436C-A878-6D38AA0E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55B79-37E4-4C92-BD27-380ED30B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10E1F-A039-4202-978D-0871A851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D23AD-9D0C-4F14-9F62-B2ABBA44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1088D-D8E8-4184-861D-6D490019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0AC23-7B27-4670-88E4-C1B56CA2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C9305-7ED2-488E-80BD-F863184D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9E1D2-005D-4A19-B990-FC6991A2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8F5-4E7F-4AB7-8E97-D0B7ADC0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4E9E9-2B13-465A-A853-D3131501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82EC9-7FC7-44B4-BB48-4217C4AE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F7C89-2C68-4D3D-83C9-9AAFE2E3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CEE88-5FF6-4616-BA22-810C3434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97F99-F136-4F93-9217-F346A8F9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A6314-74E4-4C29-BF84-B10334B9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EF3BF-CAA0-4906-B9A4-B0809F34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7F44A-D2AE-4EB9-AE82-40E412FB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49C6F-F1B6-48A8-81A5-21DAABE41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DBFD7-4224-4E52-8C59-5A12887A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96AD-542C-4468-AF79-0A5A5C8C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A4D33-E524-4557-AB4B-9B4E221E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9F563-2988-4F43-A920-B5DE9FFB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B903B-9203-4448-9B55-EB2FE0E0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188AE-C38D-4224-954F-16720DE9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3BEE5-B6D1-471C-85EC-21A34F04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2BAED-1506-4F75-B57A-CE866B8B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768BF-34A0-4C45-9D0B-7DDE6277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E779A-9BD9-4DD1-96CA-83988245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84731-99CB-4592-A8D1-B9C759B1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B61FE-2FE1-4ADB-9D8E-1B211A2C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3BB-751A-45B8-9047-154CD63F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A85AB-B3D0-48E6-AEAD-F04BA00C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72D8D-EA9E-4E30-A400-E114DEE8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3B37B-AE16-49FD-8D87-63137030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4639B-7E61-47B4-9DF9-CED14B99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BAED8-6BD0-44BC-88FF-99A913AB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01342-D966-4AC0-AB3D-C4F6420B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82E48-1605-492F-9632-8DA44476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7C83C-EC7A-423E-B29F-647D7FA2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9E5F7-902B-4EE7-AA07-C5D2C134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B36D2-D76B-4E43-B8A4-BC86051B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B5E8-A04F-4D2B-B0FA-769164F9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81F8E-F86A-44C1-8D53-742658A8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974CB-55BE-4EF6-8A94-ECE1442C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065DE-34D9-423D-92AF-260F16CF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FF93A-1135-4871-9A46-664D425D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3A41F-B81D-4511-BCA5-4CFDCF53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B3D09-6022-45B3-BC7F-DE85BEFE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44217-BBE1-40FC-A122-7D8BD366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A6B0D-51D6-4AFB-8273-D444C011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C0977-523C-44B2-8D84-5F984DB3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94FE2-D09C-4439-B948-E73F9B60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56A-8EFB-4A45-8430-AAE9EDBE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05C99-AE61-4102-9769-EBD5ACDA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9C4C3-D817-46C2-B704-78D2C8AA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2EAC9-EDD0-4598-A3AB-35F4A30D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00365-66A3-4AF3-8C36-44113BFF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048ED-BDC7-42B4-8EFD-F430D62C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BA7D8-DF36-4C28-ADEB-A2A343917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0A8C0-DD54-420A-BA82-FAABEC59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0FFD3-2C87-4223-ACA3-AF15E337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C58A9-0182-41D5-BA78-55411063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72D07-7623-411C-A1DC-4BF8815B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296E-037A-4915-98D8-26A0C022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13AC1-2EB4-4C05-85BB-F1319247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9B351-C573-48C8-A877-EFE24DA7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CCEF0-9369-4E25-A381-E049C3EF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622B9-7693-42F0-B258-6B060A9C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C53EE-7D00-454F-8616-81ACF815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7F422-C26C-40C3-8B22-56560BF1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6E459-4082-4D25-B084-7197954A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24FEC-1331-4DAE-8B9D-6E1B8E75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A64A5-6FF9-4AE5-BD6A-81D5B060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EFF2E-E4C8-42B0-85A8-029075B3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0CA8-9F2F-44FB-B372-F8C18507997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97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5EDC-55A1-47C8-8BA8-03DD10132C7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4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518B-76DF-415B-93BF-2EFD35B39E8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85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2CB5-CDE8-42B7-95F2-0DDBA70E418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29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5D02-3012-415A-A309-2E613F0F4D6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6F77-2DED-4124-85EC-D66B8D59223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9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67CF-28AC-44FF-9B1F-D1E80CC8989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33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7DC2-7938-4AD8-BBE3-4CC3DF557E8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77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749B-FDBD-4E92-ACD8-3759D801FBC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2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58FE-146E-4C73-BD8E-766D3849341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65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2C09-8CBA-4780-9135-EE1E40A0CD5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09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548A-A41E-44A3-90C9-24C03A04D3B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53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4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30BB-D83E-4EC8-9F99-81D9EA8FA9B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ПРОЕКТ </a:t>
            </a:r>
            <a:br>
              <a:rPr sz="6000"/>
            </a:b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«Игрушка «Киндер сюрприз»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73" name="Object 5"/>
          <p:cNvGraphicFramePr/>
          <p:nvPr/>
        </p:nvGraphicFramePr>
        <p:xfrm>
          <a:off x="214200" y="6000840"/>
          <a:ext cx="10764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6000840"/>
                    <a:ext cx="1076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5" name="Рисунок 3" descr=""/>
          <p:cNvPicPr/>
          <p:nvPr/>
        </p:nvPicPr>
        <p:blipFill>
          <a:blip r:embed="rId3"/>
          <a:stretch/>
        </p:blipFill>
        <p:spPr>
          <a:xfrm>
            <a:off x="7072200" y="571680"/>
            <a:ext cx="1078200" cy="1428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дготовка к выставке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индер игруше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95" name="Picture 4" descr="C:\Documents and Settings\Администратор\Рабочий стол\SAM_0305.JPG"/>
          <p:cNvPicPr/>
          <p:nvPr/>
        </p:nvPicPr>
        <p:blipFill>
          <a:blip r:embed="rId1"/>
          <a:stretch/>
        </p:blipFill>
        <p:spPr>
          <a:xfrm>
            <a:off x="457200" y="2000160"/>
            <a:ext cx="4038480" cy="33624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" descr="C:\Documents and Settings\Администратор\Рабочий стол\SAM_0303.JPG"/>
          <p:cNvPicPr/>
          <p:nvPr/>
        </p:nvPicPr>
        <p:blipFill>
          <a:blip r:embed="rId2"/>
          <a:stretch/>
        </p:blipFill>
        <p:spPr>
          <a:xfrm>
            <a:off x="4648320" y="2000160"/>
            <a:ext cx="4038480" cy="3362400"/>
          </a:xfrm>
          <a:prstGeom prst="rect">
            <a:avLst/>
          </a:prstGeom>
          <a:ln w="0">
            <a:noFill/>
          </a:ln>
        </p:spPr>
      </p:pic>
    </p:spTree>
  </p:cSld>
  <p:transition advTm="1000">
    <p:zoom dir="in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азучивание новой подвижной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игры «Заводные игрушки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98" name="Picture 5" descr="C:\Documents and Settings\Администратор\Рабочий стол\Новая папка\PIC_0355.JPG"/>
          <p:cNvPicPr/>
          <p:nvPr/>
        </p:nvPicPr>
        <p:blipFill>
          <a:blip r:embed="rId1"/>
          <a:stretch/>
        </p:blipFill>
        <p:spPr>
          <a:xfrm>
            <a:off x="1357200" y="157176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7" descr="C:\Documents and Settings\Администратор\Рабочий стол\Новая папка\PIC_0356.JPG"/>
          <p:cNvPicPr/>
          <p:nvPr/>
        </p:nvPicPr>
        <p:blipFill>
          <a:blip r:embed="rId2"/>
          <a:stretch/>
        </p:blipFill>
        <p:spPr>
          <a:xfrm>
            <a:off x="5357880" y="164304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8" descr="C:\Documents and Settings\Администратор\Рабочий стол\Новая папка\PIC_0359.JPG"/>
          <p:cNvPicPr/>
          <p:nvPr/>
        </p:nvPicPr>
        <p:blipFill>
          <a:blip r:embed="rId3"/>
          <a:stretch/>
        </p:blipFill>
        <p:spPr>
          <a:xfrm>
            <a:off x="4500720" y="392904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9" descr="C:\Documents and Settings\Администратор\Рабочий стол\Новая папка\PIC_0358.JPG"/>
          <p:cNvPicPr/>
          <p:nvPr/>
        </p:nvPicPr>
        <p:blipFill>
          <a:blip r:embed="rId4"/>
          <a:stretch/>
        </p:blipFill>
        <p:spPr>
          <a:xfrm>
            <a:off x="571680" y="392904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Беседа с детьми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«Мой любимый киндер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03" name="Picture 5" descr="C:\Documents and Settings\Администратор\Рабочий стол\Новая папка\PIC_0328.JPG"/>
          <p:cNvPicPr/>
          <p:nvPr/>
        </p:nvPicPr>
        <p:blipFill>
          <a:blip r:embed="rId1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5" descr="C:\Documents and Settings\Администратор\Рабочий стол\SAM_0299.JPG"/>
          <p:cNvPicPr/>
          <p:nvPr/>
        </p:nvPicPr>
        <p:blipFill>
          <a:blip r:embed="rId2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6" descr="C:\Documents and Settings\Администратор\Рабочий стол\SAM_0300.JPG"/>
          <p:cNvPicPr/>
          <p:nvPr/>
        </p:nvPicPr>
        <p:blipFill>
          <a:blip r:embed="rId3"/>
          <a:stretch/>
        </p:blipFill>
        <p:spPr>
          <a:xfrm>
            <a:off x="3000240" y="392904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in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ыставка-презентация игруше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07" name="Picture 6" descr="C:\Documents and Settings\Администратор\Рабочий стол\Новая папка\PIC_0326.JPG"/>
          <p:cNvPicPr/>
          <p:nvPr/>
        </p:nvPicPr>
        <p:blipFill>
          <a:blip r:embed="rId1"/>
          <a:stretch/>
        </p:blipFill>
        <p:spPr>
          <a:xfrm>
            <a:off x="1574640" y="1500120"/>
            <a:ext cx="5994720" cy="4929120"/>
          </a:xfrm>
          <a:prstGeom prst="rect">
            <a:avLst/>
          </a:prstGeom>
          <a:ln w="0">
            <a:noFill/>
          </a:ln>
        </p:spPr>
      </p:pic>
    </p:spTree>
  </p:cSld>
  <p:transition advTm="6000">
    <p:strips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ЛЬБОМ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« ИЗ ИСТОРИИ КИНДЕР СЮРПРИЗ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99680" y="1928520"/>
            <a:ext cx="41864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Фигурки живот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из серии «Tierfiguren» (197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4" marL="1974960" indent="-21924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ерия «Tierfiguren» стала продаваться в шоколадных яйцах «Kinder Surprise» в 1975 году. Набор, так же как и «Hundefiguren» был одним из первых, появившимся внутри нашей любимой сладост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звание серии в России – «Животные» или «Звери».  Вы видите 21 игрушку, но, возможно, некоторые из них относятся к другим сериям – как-то уж слишком нелогично среди зайцев и лисичек смотрится улитка или, например, лягушка.  К тому же, возможно, здесь могут встретится не только оригинальные фигурки, но и их вариант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1" name="Рисунок 11" descr="C:\Documents and Settings\Администратор\Мои документы\киндер1.jpg"/>
          <p:cNvPicPr/>
          <p:nvPr/>
        </p:nvPicPr>
        <p:blipFill>
          <a:blip r:embed="rId1"/>
          <a:stretch/>
        </p:blipFill>
        <p:spPr>
          <a:xfrm>
            <a:off x="428760" y="2643120"/>
            <a:ext cx="4071960" cy="210024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ahoma"/>
              </a:rPr>
              <a:t>Астерикс и римляне из серии «Asterix und die Romer» (2000)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648320" y="1599840"/>
            <a:ext cx="4038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торой сюжет из жизни мультипликационных героев Астерикса и Обеликса был запечатлен в серии фигурок из киндер сюрприза, вышедшей в 2000 году в Германии, - «Астерикс и римляне» («Asterix und die Romer»). Своим внешним видом игрушки полностью и в мельчайших деталях копируют персонажей мультик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Через три года, в 2003, такой же комплект появился во Франции. Назывался он проще – «Asterix». Кроме того, набор выходил в «Kinder Joy» в 2004 (2005?). Набор носил название, как и предыдущий, - «Asterix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любом из вариантов серий по 10 фигурок.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4" name="Содержимое 27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4281480" cy="364320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Tahoma"/>
              </a:rPr>
              <a:t>ВинКС Клуб-2 из серии «WinX Club» (2008)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сли помните, в 2006 году в Италии уже выходила серия фигурок «WinX Club». Она представляла собой комплект симпатичных куколок. А в 2008 году собиратели Киндер Сюрпризов из Италии снова увидели этих замечательных персонажей. Причем теперь и без того красивые фигурки стали еще лучше: ярче, детальней, и теперь они «в движении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российских каталогах серия называется – «ВинКС Клуб-2». Несмотря на внешнее различие, персонажи сохранили первоначально данные им имен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коллекции 2008 года 6 игруше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7" name="Содержимое 4" descr=""/>
          <p:cNvPicPr/>
          <p:nvPr/>
        </p:nvPicPr>
        <p:blipFill>
          <a:blip r:embed="rId1"/>
          <a:stretch/>
        </p:blipFill>
        <p:spPr>
          <a:xfrm>
            <a:off x="357120" y="2143080"/>
            <a:ext cx="4214880" cy="257184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Tahoma"/>
              </a:rPr>
              <a:t>Звон колокольчиков из новогодней серии «Die Kling-Glockchen Bande» (2010)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чередной новогодней серией, выпущенной в 2010 году, стала «Die Kling-Glockchen Bande («Звон колокольчиков»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наборе 7 персонажей. У каждого из них за спиной по мешку (видимо с подарками для мальчиков и девочек, которые хорошо себя вели в прошедшем году ) и тот самый колокольчик. У оленя из упряжки Санта Клауса (здесь он называется Рождественский Дед) колокольчиков целых два, и разместили их с выдумко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х, да! На картинке сверху не видно, но у каждой игрушки есть специальный шнурочек, чтобы ее можно было повесить на елк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0" name="Содержимое 9" descr=""/>
          <p:cNvPicPr/>
          <p:nvPr/>
        </p:nvPicPr>
        <p:blipFill>
          <a:blip r:embed="rId1"/>
          <a:stretch/>
        </p:blipFill>
        <p:spPr>
          <a:xfrm>
            <a:off x="285840" y="2214720"/>
            <a:ext cx="4209840" cy="300960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овместная творческая деятельность. Рисование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«Мой любимый киндер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22" name="Picture 8" descr="C:\Documents and Settings\Администратор\Рабочий стол\PIC_0362.JPG"/>
          <p:cNvPicPr/>
          <p:nvPr/>
        </p:nvPicPr>
        <p:blipFill>
          <a:blip r:embed="rId1"/>
          <a:stretch/>
        </p:blipFill>
        <p:spPr>
          <a:xfrm>
            <a:off x="457200" y="23335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4" descr="C:\Documents and Settings\Администратор\Рабочий стол\SAM_0307.JPG"/>
          <p:cNvPicPr/>
          <p:nvPr/>
        </p:nvPicPr>
        <p:blipFill>
          <a:blip r:embed="rId2"/>
          <a:stretch/>
        </p:blipFill>
        <p:spPr>
          <a:xfrm>
            <a:off x="4648320" y="2333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спользованные ресурс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213840" y="1600200"/>
            <a:ext cx="847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тератур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. Д. Пашкевич «Таинства педагогического проектирования в ДОУ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. К. Силевко «Современные педагогические образовательные технологии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. В. Жукова «Проектировочная деятельность в образовательном процессе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рнет – ресурс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ойчук Т.В., Бабкина Е. 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Авторы проекта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5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WordArt 4"/>
          <p:cNvSpPr txBox="1"/>
          <p:nvPr/>
        </p:nvSpPr>
        <p:spPr>
          <a:xfrm>
            <a:off x="900000" y="260280"/>
            <a:ext cx="7417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 </a:t>
            </a:r>
            <a:endParaRPr b="0" lang="en-US" sz="1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7" name="WordArt 5"/>
          <p:cNvSpPr txBox="1"/>
          <p:nvPr/>
        </p:nvSpPr>
        <p:spPr>
          <a:xfrm>
            <a:off x="755640" y="2492280"/>
            <a:ext cx="7416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 свидания!</a:t>
            </a:r>
            <a:endParaRPr b="0" lang="en-US" sz="1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5000">
    <p:zoom dir="in"/>
    <p:sndAc>
      <p:stSnd>
        <p:snd r:embed="rId5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ahoma"/>
              </a:rPr>
              <a:t>Тип проекта:</a:t>
            </a:r>
            <a:br>
              <a:rPr sz="5400"/>
            </a:b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Творческий, фронтальный,</a:t>
            </a:r>
            <a:br>
              <a:rPr sz="5400"/>
            </a:b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краткосрочный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6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АКТУАЛЬНОСТЬ РАЗРАБОТКИ  И РЕАЛИЗАЦИИ ПЕДАГОГИЧЕСКОГО ПРОЕКТА: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оцессе игровой деятельности ребенок познает мир, учится общаться и договариваться, ценить и любить прекрасное, становится смелее и выносливее. Огромное место в этом виде деятельности занимает игрушка. При помощи нее ребенок самовыражается, получает возможности для реализации своих потребностей, может проявить себя как организатор или подчиненный.                                                                                                                 В современном мире развлечений немаловажное место занимает забавная сладость – киндер сюрприз. Ведь что может быть большей радостью для ребенка, чем, зажав в руке заветное шоколадное яйцо, трясти его, прислушиваясь к звуку: « Что же там внутри?». А потом, поедая молочный шоколад, собирать из нескольких частей, как конструктор, игрушку. Или, если игрушка цельная и коллекционная, воображать, как соберешь всю коллекцию и украсишь ею самую заметную полочку в доме, расставив фигурки так же, как их расположили создатели на вкладыше. А, если такая игрушка уже была, то прикидывать, с кем же можно удачно поменяться. Или оформить театральный уголок  «Киндер сюрприза» в групповой комнате детского сада, а упаковку использовать для разного вида экспериментальной деятельности и для развития мелкой моторики ру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Цель проект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ть условия для эмоционально – познавательного развития воспитанников через совместную творческую  деятельность детей и  взросл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здать единую команду детей и взрослых по реализации проекта, развивать игровые, познавательные, сенсорные, речевые способности, учитывая индивидуальные и возрастные особенности ребенка; овладевать образно – игровыми и имитационными движениями; формировать у ребенка эмоционально – эстетическое и бережное отношение к игрушк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едполагаемые результат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тавка-презентац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ьбом «Из истории киндер сюрприза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тоархи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иртуальный архи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тавка рисун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ПЛАН РАБОТЫ ПО РЕАЛИЗАЦИИ ПРОЕК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1476360" y="1297080"/>
            <a:ext cx="3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428760" y="1214280"/>
          <a:ext cx="8429400" cy="5357880"/>
        </p:xfrm>
        <a:graphic>
          <a:graphicData uri="http://schemas.openxmlformats.org/drawingml/2006/table">
            <a:tbl>
              <a:tblPr/>
              <a:tblGrid>
                <a:gridCol w="474480"/>
                <a:gridCol w="2805120"/>
                <a:gridCol w="3460680"/>
                <a:gridCol w="1689120"/>
              </a:tblGrid>
              <a:tr h="2430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Эта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Ц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частн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анятие познавательного цикла для детей и родителей «Из истории киндер сюрприз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асширять и обогащать представления участников проекта о киндер - игрушке; развивать эмоциональное взаимодействие с воспитанниками и их семья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спитатели, родители, де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одготовка к выставке киндер игрушек (сбор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пособствовать возникновению интереса и желания у детей и взрослых участвовать в оформлении выстав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спитатели, роди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азучивание новой подвижной игры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«Заводные игрушк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ызвать у детей желание изобразить какую-либо игрушку при помощи движений, эмоц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спитатели, де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еседа с детьми «Мой любимый киндер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ызвать  у каждого ребенка желание поделиться своими эмоциями и впечатлениями со взрослыми и сверстника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спитатели, де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ыставка – презентация игруше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ызвать у детей чувство гордости за совместную деятельность с родителями и воспитателя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спитатели, родители, де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ыпуск альбома «Из истории киндер сюрприз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пособствовать возникновению у воспитанников устойчивого интереса к игрушкам, расширение кругозо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спита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овместная творческая деятельность детей и родителей (рисование любимой киндер игрушк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пособствовать развитию умения передавать задуманные образы в рисунке; способствовать освоению детьми различных приемов рисов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спитатели, дети, роди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8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нятие познавательного цикла для детей и родителей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«Из истории киндер сюрприз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388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*   « Киндер Сюрприз» - он же «Шоколадное яйцо», он же «яйцо с сюрпризом» - кондитерское изделие, состоящее из двух слоев шоколада, в форме яйца. Внутри находится пластиковый контейнер, который, в свою очередь, содержит небольшую игрушку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щий вес яйца приблизительно 35 грамм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« Сюрпризы» из шоколадного яйца радуют нас с 1972 (1974?) года. Их изобретателем был швейцарец Генри Ро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амая первая партия была продана за ЧАС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 30 лет существования Киндер Сюрприза было продано 30 млрд. шоколадных яиц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феврале 2007 года на аукционе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Bay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ллекция из 90000 киндер игрушек была продана за 30000 евро. (Так и хочется спросить: «А вам слабо?» Не собрать, так хоть купить…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2" name="Picture 13" descr="C:\Documents and Settings\Администратор\Рабочий стол\Новая папка\PIC_0335.JPG"/>
          <p:cNvPicPr/>
          <p:nvPr/>
        </p:nvPicPr>
        <p:blipFill>
          <a:blip r:embed="rId1"/>
          <a:stretch/>
        </p:blipFill>
        <p:spPr>
          <a:xfrm>
            <a:off x="214200" y="1785960"/>
            <a:ext cx="3500640" cy="26431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4" descr="C:\Documents and Settings\Администратор\Рабочий стол\Новая папка\PIC_0339.JPG"/>
          <p:cNvPicPr/>
          <p:nvPr/>
        </p:nvPicPr>
        <p:blipFill>
          <a:blip r:embed="rId2"/>
          <a:stretch/>
        </p:blipFill>
        <p:spPr>
          <a:xfrm>
            <a:off x="1785960" y="4214880"/>
            <a:ext cx="2857320" cy="2643120"/>
          </a:xfrm>
          <a:prstGeom prst="rect">
            <a:avLst/>
          </a:prstGeom>
          <a:ln w="0">
            <a:noFill/>
          </a:ln>
        </p:spPr>
      </p:pic>
    </p:spTree>
  </p:cSld>
  <p:transition advTm="14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28T12:53:37Z</dcterms:modified>
  <cp:revision>42</cp:revision>
  <dc:subject/>
  <dc:title>PowerPoint Presentation</dc:title>
</cp:coreProperties>
</file>