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6B7-DD35-48DE-A229-818DFCB8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861-24EC-40C8-8586-D3040CE7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AC4-9B7E-4C23-8B63-0FC91749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1B6-FAC7-4B1C-BA3C-BD9A14AE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C5C-9FF9-462C-A989-511B6B4C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292-1D3A-43E1-BA89-3F61EF72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F7D-996F-4D2D-AEFB-FE43955F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611-787B-4031-B5BA-FA3B6C35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A1A-92DC-4FCF-826A-305EB30D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522-E156-4342-88C2-61766BF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628-15F9-45E0-8D0C-CC3968E4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CDE-6C5D-4FFC-8356-7240AB4E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08B2-83A5-4749-BC03-779E2F3D4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2"/>
          <a:stretch/>
        </p:blipFill>
        <p:spPr>
          <a:xfrm>
            <a:off x="0" y="1011240"/>
            <a:ext cx="4425840" cy="22622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3"/>
          <a:stretch/>
        </p:blipFill>
        <p:spPr>
          <a:xfrm>
            <a:off x="165240" y="4797360"/>
            <a:ext cx="67849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я\Pictures\PictureProject\0001\DSCN0750.JPG"/>
          <p:cNvPicPr/>
          <p:nvPr/>
        </p:nvPicPr>
        <p:blipFill>
          <a:blip r:embed="rId2"/>
          <a:stretch/>
        </p:blipFill>
        <p:spPr>
          <a:xfrm>
            <a:off x="3938760" y="2349360"/>
            <a:ext cx="519084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Знак запрета 1"/>
          <p:cNvSpPr/>
          <p:nvPr/>
        </p:nvSpPr>
        <p:spPr>
          <a:xfrm>
            <a:off x="179280" y="1700280"/>
            <a:ext cx="3759480" cy="3241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И примеров разных уйму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я\Pictures\PictureProject\0001\DSCN0752.JPG"/>
          <p:cNvPicPr/>
          <p:nvPr/>
        </p:nvPicPr>
        <p:blipFill>
          <a:blip r:embed="rId2"/>
          <a:stretch/>
        </p:blipFill>
        <p:spPr>
          <a:xfrm>
            <a:off x="4716360" y="1541520"/>
            <a:ext cx="3745080" cy="4195800"/>
          </a:xfrm>
          <a:prstGeom prst="rect">
            <a:avLst/>
          </a:prstGeom>
          <a:ln w="0">
            <a:noFill/>
          </a:ln>
        </p:spPr>
      </p:pic>
      <p:sp>
        <p:nvSpPr>
          <p:cNvPr id="66" name="Блок-схема: перфолента 1"/>
          <p:cNvSpPr/>
          <p:nvPr/>
        </p:nvSpPr>
        <p:spPr>
          <a:xfrm>
            <a:off x="468360" y="2060640"/>
            <a:ext cx="3887640" cy="273672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Ты вокруг себя найдеш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я\Pictures\PictureProject\0001\DSCN0751.JPG"/>
          <p:cNvPicPr/>
          <p:nvPr/>
        </p:nvPicPr>
        <p:blipFill>
          <a:blip r:embed="rId2"/>
          <a:stretch/>
        </p:blipFill>
        <p:spPr>
          <a:xfrm>
            <a:off x="4067280" y="1773360"/>
            <a:ext cx="3673440" cy="4464000"/>
          </a:xfrm>
          <a:prstGeom prst="rect">
            <a:avLst/>
          </a:prstGeom>
          <a:ln w="0">
            <a:noFill/>
          </a:ln>
        </p:spPr>
      </p:pic>
      <p:sp>
        <p:nvSpPr>
          <p:cNvPr id="68" name="Облако 1"/>
          <p:cNvSpPr/>
          <p:nvPr/>
        </p:nvSpPr>
        <p:spPr>
          <a:xfrm>
            <a:off x="179280" y="620640"/>
            <a:ext cx="4284720" cy="3745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Сидел петух на палочке,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Считал свои булавочки: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— Раз, два, три,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В этот счет выходишь т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я\Pictures\PictureProject\0001\DSCN0755.JPG"/>
          <p:cNvPicPr/>
          <p:nvPr/>
        </p:nvPicPr>
        <p:blipFill>
          <a:blip r:embed="rId2"/>
          <a:stretch/>
        </p:blipFill>
        <p:spPr>
          <a:xfrm>
            <a:off x="3132000" y="1916280"/>
            <a:ext cx="5792760" cy="4324320"/>
          </a:xfrm>
          <a:prstGeom prst="rect">
            <a:avLst/>
          </a:prstGeom>
          <a:ln w="0">
            <a:noFill/>
          </a:ln>
        </p:spPr>
      </p:pic>
      <p:sp>
        <p:nvSpPr>
          <p:cNvPr id="70" name="6-конечная звезда 1"/>
          <p:cNvSpPr/>
          <p:nvPr/>
        </p:nvSpPr>
        <p:spPr>
          <a:xfrm>
            <a:off x="250920" y="189000"/>
            <a:ext cx="4321080" cy="352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И всегда любой из нас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Точно знал,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Который ч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Users\я\Pictures\PictureProject\0002\DSCN0757.JPG"/>
          <p:cNvPicPr/>
          <p:nvPr/>
        </p:nvPicPr>
        <p:blipFill>
          <a:blip r:embed="rId2"/>
          <a:stretch/>
        </p:blipFill>
        <p:spPr>
          <a:xfrm>
            <a:off x="3924360" y="620640"/>
            <a:ext cx="4992480" cy="5824440"/>
          </a:xfrm>
          <a:prstGeom prst="rect">
            <a:avLst/>
          </a:prstGeom>
          <a:ln w="0">
            <a:noFill/>
          </a:ln>
        </p:spPr>
      </p:pic>
      <p:sp>
        <p:nvSpPr>
          <p:cNvPr id="72" name="Стрелка вправо с вырезом 1"/>
          <p:cNvSpPr/>
          <p:nvPr/>
        </p:nvSpPr>
        <p:spPr>
          <a:xfrm rot="19087800">
            <a:off x="-104400" y="896760"/>
            <a:ext cx="5418000" cy="3534120"/>
          </a:xfrm>
          <a:custGeom>
            <a:avLst/>
            <a:gdLst>
              <a:gd name="textAreaLeft" fmla="*/ 883440 w 5418000"/>
              <a:gd name="textAreaRight" fmla="*/ 4534560 w 5418000"/>
              <a:gd name="textAreaTop" fmla="*/ 883440 h 3534120"/>
              <a:gd name="textAreaBottom" fmla="*/ 2650680 h 353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56" y="5400"/>
                </a:lnTo>
                <a:lnTo>
                  <a:pt x="14556" y="0"/>
                </a:lnTo>
                <a:lnTo>
                  <a:pt x="21600" y="10800"/>
                </a:lnTo>
                <a:lnTo>
                  <a:pt x="14556" y="21600"/>
                </a:lnTo>
                <a:lnTo>
                  <a:pt x="14556" y="16200"/>
                </a:lnTo>
                <a:lnTo>
                  <a:pt x="0" y="16200"/>
                </a:lnTo>
                <a:lnTo>
                  <a:pt x="352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Вс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е должны до одного 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Числа знать до цифры пять - 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Ну, хотя бы для того, 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Чтоб отметки различать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Продукт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4000" y="1125000"/>
            <a:ext cx="8229600" cy="4967640"/>
          </a:xfrm>
          <a:prstGeom prst="rect">
            <a:avLst/>
          </a:prstGeom>
          <a:ln w="0">
            <a:noFill/>
          </a:ln>
        </p:spPr>
      </p:pic>
      <p:sp>
        <p:nvSpPr>
          <p:cNvPr id="75" name="Волна 4"/>
          <p:cNvSpPr/>
          <p:nvPr/>
        </p:nvSpPr>
        <p:spPr>
          <a:xfrm>
            <a:off x="539640" y="1268280"/>
            <a:ext cx="7632720" cy="4464360"/>
          </a:xfrm>
          <a:custGeom>
            <a:avLst/>
            <a:gdLst>
              <a:gd name="textAreaLeft" fmla="*/ 38160 w 7632720"/>
              <a:gd name="textAreaRight" fmla="*/ 7594560 w 7632720"/>
              <a:gd name="textAreaTop" fmla="*/ 172800 h 4464360"/>
              <a:gd name="textAreaBottom" fmla="*/ 4291560 h 4464360"/>
            </a:gdLst>
            <a:ahLst/>
            <a:rect l="textAreaLeft" t="textAreaTop" r="textAreaRight" b="textAreaBottom"/>
            <a:pathLst>
              <a:path w="21600" h="21600">
                <a:moveTo>
                  <a:pt x="0" y="418"/>
                </a:moveTo>
                <a:cubicBezTo>
                  <a:pt x="7146" y="-1063"/>
                  <a:pt x="14346" y="1899"/>
                  <a:pt x="21492" y="418"/>
                </a:cubicBezTo>
                <a:lnTo>
                  <a:pt x="21600" y="21182"/>
                </a:lnTo>
                <a:cubicBezTo>
                  <a:pt x="14454" y="22663"/>
                  <a:pt x="7254" y="19701"/>
                  <a:pt x="108" y="2118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Журнал «Матема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вокруг на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553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859280" y="1413000"/>
            <a:ext cx="396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сследовательск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проектная деятельность младших школьник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рекомендации, прое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ст. В.Ф. Феоктистова,-Волгоград,Учитель,201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C:\Users\я\Pictures\img028.jpg"/>
          <p:cNvPicPr/>
          <p:nvPr/>
        </p:nvPicPr>
        <p:blipFill>
          <a:blip r:embed="rId2"/>
          <a:stretch/>
        </p:blipFill>
        <p:spPr>
          <a:xfrm>
            <a:off x="324000" y="1773360"/>
            <a:ext cx="4464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Users\я\Pictures\img027.jpg"/>
          <p:cNvPicPr/>
          <p:nvPr/>
        </p:nvPicPr>
        <p:blipFill>
          <a:blip r:embed="rId2"/>
          <a:stretch/>
        </p:blipFill>
        <p:spPr>
          <a:xfrm>
            <a:off x="468360" y="1268280"/>
            <a:ext cx="4495680" cy="4321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борник проектных задач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-х выпусках. Под ред. А.Б. Воронцова.-М.:Просвещение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33 0.027 0.06 0.06 0.06 C 0.099 0.06 0.113 0.03 0.119 0.012 L 0.125 -0.012 C 0.131 -0.03 0.146 -0.06 0.19 -0.06 C 0.218 -0.06 0.25 -0.033 0.25 0 C 0.25 0.033 0.218 0.06 0.19 0.06 C 0.146 0.06 0.131 0.03 0.125 0.012 L 0.119 -0.012 C 0.113 -0.03 0.099 -0.06 0.06 -0.06 C 0.027 -0.06 0 -0.033 0 0 Z"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60501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Паспорт проек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76464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Название проект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Математика вокруг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Руководитель проект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Крахоткина  Е.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Учебный предмет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рамках которого проводится проект: мате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Дисциплины, близкие к теме проект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литературное чтение , окружающий мир, изобразительное искусств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остав проектной групп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участников проекта)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класс, родители учащихся 1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Тип прое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онный, творческий, краткосро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Объек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исла  в окружающе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Цели прое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учить работать над проектом , развивать умение обобщать и срав­нивать собранный материал, развивать речь через использова­ние выразительных средств языка, способствовать активному вовлечению родителей в совместную деятельность с ребенком в условиях семьи и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Задачи прое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. пополнить активный словарный запас учащихся пословицами и поговорками, уточнить значения некоторых из них; развивать творческие способности учащихся, чувство ответственности за порученное дело; учить детей самостоятельно искать необходимую информацию с использованием различных источников, работать в группах, обмениваться информацией, поддерживать разговор, уметь выражать свою точку зрения и обосновывать ее; анализировать и оценивать собственные творческие и деловые возм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Оборудов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ниги, карандаши, фломастеры, фотоаппарат, компьютер, 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Предполагаемые продукты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урнал  «Математика вокруг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2.Этапы работ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Этап 1. Разработка проектного зада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Этап 2. Разработка про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Этап 3. Оценка результат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Этап 4. Защита проек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38400" y="3141720"/>
            <a:ext cx="48495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я\Pictures\PictureProject\0002\DSCN0759.JPG"/>
          <p:cNvPicPr/>
          <p:nvPr/>
        </p:nvPicPr>
        <p:blipFill>
          <a:blip r:embed="rId2"/>
          <a:stretch/>
        </p:blipFill>
        <p:spPr>
          <a:xfrm>
            <a:off x="5148360" y="333360"/>
            <a:ext cx="3639960" cy="324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я\Pictures\PictureProject\0002\DSCN0761.JPG"/>
          <p:cNvPicPr/>
          <p:nvPr/>
        </p:nvPicPr>
        <p:blipFill>
          <a:blip r:embed="rId3"/>
          <a:stretch/>
        </p:blipFill>
        <p:spPr>
          <a:xfrm>
            <a:off x="324000" y="0"/>
            <a:ext cx="3887640" cy="32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я\Pictures\PictureProject\0002\DSCN0766.JPG"/>
          <p:cNvPicPr/>
          <p:nvPr/>
        </p:nvPicPr>
        <p:blipFill>
          <a:blip r:embed="rId4"/>
          <a:stretch/>
        </p:blipFill>
        <p:spPr>
          <a:xfrm>
            <a:off x="3938760" y="3112920"/>
            <a:ext cx="4849560" cy="3340440"/>
          </a:xfrm>
          <a:prstGeom prst="rect">
            <a:avLst/>
          </a:prstGeom>
          <a:ln w="0">
            <a:noFill/>
          </a:ln>
        </p:spPr>
      </p:pic>
      <p:sp>
        <p:nvSpPr>
          <p:cNvPr id="49" name="Пятно 2 1"/>
          <p:cNvSpPr/>
          <p:nvPr/>
        </p:nvSpPr>
        <p:spPr>
          <a:xfrm>
            <a:off x="324000" y="2492280"/>
            <a:ext cx="3743280" cy="30974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матика в пословицах, поговорка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читалках, загад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я\Pictures\PictureProject\0001\DSCN0743.JPG"/>
          <p:cNvPicPr/>
          <p:nvPr/>
        </p:nvPicPr>
        <p:blipFill>
          <a:blip r:embed="rId2"/>
          <a:srcRect l="19924" t="13370" r="-19916" b="-933"/>
          <a:stretch/>
        </p:blipFill>
        <p:spPr>
          <a:xfrm>
            <a:off x="4500720" y="281160"/>
            <a:ext cx="4824360" cy="6049800"/>
          </a:xfrm>
          <a:prstGeom prst="rect">
            <a:avLst/>
          </a:prstGeom>
          <a:ln w="0">
            <a:noFill/>
          </a:ln>
        </p:spPr>
      </p:pic>
      <p:sp>
        <p:nvSpPr>
          <p:cNvPr id="51" name="Правильный пятиугольник 4"/>
          <p:cNvSpPr/>
          <p:nvPr/>
        </p:nvSpPr>
        <p:spPr>
          <a:xfrm>
            <a:off x="0" y="1268280"/>
            <a:ext cx="3780000" cy="381636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Один, два, три, четыре, пя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1530360" y="254808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екст слай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5" descr=""/>
          <p:cNvPicPr/>
          <p:nvPr/>
        </p:nvPicPr>
        <p:blipFill>
          <a:blip r:embed="rId2"/>
          <a:stretch/>
        </p:blipFill>
        <p:spPr>
          <a:xfrm>
            <a:off x="4067280" y="681120"/>
            <a:ext cx="4649760" cy="5815080"/>
          </a:xfrm>
          <a:prstGeom prst="rect">
            <a:avLst/>
          </a:prstGeom>
          <a:ln w="0">
            <a:noFill/>
          </a:ln>
        </p:spPr>
      </p:pic>
      <p:sp>
        <p:nvSpPr>
          <p:cNvPr id="54" name="Шестиугольник 1"/>
          <p:cNvSpPr/>
          <p:nvPr/>
        </p:nvSpPr>
        <p:spPr>
          <a:xfrm>
            <a:off x="179280" y="1628640"/>
            <a:ext cx="3635640" cy="31687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шесть, семь, восемь, девять, десять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я\Pictures\PictureProject\0001\DSCN0746.JPG"/>
          <p:cNvPicPr/>
          <p:nvPr/>
        </p:nvPicPr>
        <p:blipFill>
          <a:blip r:embed="rId2"/>
          <a:stretch/>
        </p:blipFill>
        <p:spPr>
          <a:xfrm>
            <a:off x="2679840" y="1484280"/>
            <a:ext cx="6464160" cy="4896000"/>
          </a:xfrm>
          <a:prstGeom prst="rect">
            <a:avLst/>
          </a:prstGeom>
          <a:ln w="0">
            <a:noFill/>
          </a:ln>
        </p:spPr>
      </p:pic>
      <p:sp>
        <p:nvSpPr>
          <p:cNvPr id="56" name="Блок-схема: объединение 1"/>
          <p:cNvSpPr/>
          <p:nvPr/>
        </p:nvSpPr>
        <p:spPr>
          <a:xfrm>
            <a:off x="17640" y="149400"/>
            <a:ext cx="3402000" cy="3816000"/>
          </a:xfrm>
          <a:prstGeom prst="flowChartMerg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Можно все пересчитать, сосчитать, измерить, взвесить..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я\Pictures\PictureProject\0001\DSCN0747.JPG"/>
          <p:cNvPicPr/>
          <p:nvPr/>
        </p:nvPicPr>
        <p:blipFill>
          <a:blip r:embed="rId2"/>
          <a:stretch/>
        </p:blipFill>
        <p:spPr>
          <a:xfrm>
            <a:off x="3564000" y="1628640"/>
            <a:ext cx="54658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Блок-схема: извлечение 1"/>
          <p:cNvSpPr/>
          <p:nvPr/>
        </p:nvSpPr>
        <p:spPr>
          <a:xfrm>
            <a:off x="250920" y="836640"/>
            <a:ext cx="4249800" cy="374472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Все могу пересчитать!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я\Pictures\PictureProject\0001\DSCN0748.JPG"/>
          <p:cNvPicPr/>
          <p:nvPr/>
        </p:nvPicPr>
        <p:blipFill>
          <a:blip r:embed="rId2"/>
          <a:stretch/>
        </p:blipFill>
        <p:spPr>
          <a:xfrm>
            <a:off x="3300480" y="1125360"/>
            <a:ext cx="5843520" cy="4464360"/>
          </a:xfrm>
          <a:prstGeom prst="rect">
            <a:avLst/>
          </a:prstGeom>
          <a:ln w="0">
            <a:noFill/>
          </a:ln>
        </p:spPr>
      </p:pic>
      <p:sp>
        <p:nvSpPr>
          <p:cNvPr id="60" name="Солнце 1"/>
          <p:cNvSpPr/>
          <p:nvPr/>
        </p:nvSpPr>
        <p:spPr>
          <a:xfrm>
            <a:off x="22320" y="907920"/>
            <a:ext cx="4262400" cy="432144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Математика повсюду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я\Pictures\PictureProject\0001\DSCN0749.JPG"/>
          <p:cNvPicPr/>
          <p:nvPr/>
        </p:nvPicPr>
        <p:blipFill>
          <a:blip r:embed="rId2"/>
          <a:stretch/>
        </p:blipFill>
        <p:spPr>
          <a:xfrm>
            <a:off x="4356000" y="1413000"/>
            <a:ext cx="4788000" cy="4713120"/>
          </a:xfrm>
          <a:prstGeom prst="rect">
            <a:avLst/>
          </a:prstGeom>
          <a:ln w="0">
            <a:noFill/>
          </a:ln>
        </p:spPr>
      </p:pic>
      <p:sp>
        <p:nvSpPr>
          <p:cNvPr id="62" name="Пятиугольник 1"/>
          <p:cNvSpPr/>
          <p:nvPr/>
        </p:nvSpPr>
        <p:spPr>
          <a:xfrm rot="20433600">
            <a:off x="612360" y="2104560"/>
            <a:ext cx="3581280" cy="2789280"/>
          </a:xfrm>
          <a:custGeom>
            <a:avLst/>
            <a:gdLst>
              <a:gd name="textAreaLeft" fmla="*/ 0 w 3581280"/>
              <a:gd name="textAreaRight" fmla="*/ 3581640 w 3581280"/>
              <a:gd name="textAreaTop" fmla="*/ 0 h 2789280"/>
              <a:gd name="textAreaBottom" fmla="*/ 2789640 h 278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189" y="0"/>
                </a:lnTo>
                <a:lnTo>
                  <a:pt x="21600" y="10800"/>
                </a:lnTo>
                <a:lnTo>
                  <a:pt x="131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Глазом только поведешь,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4T09:14:40Z</dcterms:created>
  <dc:creator>Олег</dc:creator>
  <dc:description/>
  <dc:language>en-US</dc:language>
  <cp:lastModifiedBy>nb</cp:lastModifiedBy>
  <dcterms:modified xsi:type="dcterms:W3CDTF">2012-11-20T03:05:01Z</dcterms:modified>
  <cp:revision>25</cp:revision>
  <dc:subject/>
  <dc:title>Презентация PowerPoint</dc:title>
</cp:coreProperties>
</file>