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3FA-E7B1-4558-B4EE-F65EABAE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BC3-6945-425D-8282-AC43115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660-C136-4AA9-92AC-787F4FB0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B5C-2FD5-4FC7-8CD3-AB1A6685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8841-8FC8-4B7B-9C31-6A392F68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683-D609-401F-AEBA-0DB2120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596E-08D7-4AA8-B493-7602DD01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6241-EF6E-456A-A3E5-00891D93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151D-90A7-4BC9-B760-33885423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982-92E5-4417-8F8D-377F373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479-4AA2-4B57-8F38-0440EF4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E41-D683-4089-A7E7-C5EC580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8DB-4DB2-48E8-B9D9-CD20E19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FE7-5F2A-433E-8FC3-8FCE08D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90F-6DAC-484C-B460-6F061CD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A9F-7508-4A35-9664-D9AF4756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59E2-6534-4C70-AD53-20F3A16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AEF94-D438-44F9-8B76-5E12DF87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AE77E-5192-4C6A-8080-927FF22E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30A43-1DD3-4762-9571-AA51C31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6A06B-16E7-4C41-98CC-067186C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C3532-6BB1-41E8-8442-5D5199C4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B68-75BE-4380-B9EE-492956D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185BF-60C9-407D-B59D-0C3A9D8B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56106-4ED3-43DD-AEBD-AC972AE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38FC8-7947-43E7-9A5A-C4706764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C2DFD-4F8F-450F-9903-A504D4F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DE4AB-826A-4C1F-851D-35D4BEB8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B25AA-AD39-4B64-8921-EA144913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9AF4F-E9A1-40EF-B621-F49E3D65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9F9B-4A6A-4BB0-B7C2-098C0890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D7D6-C011-42AC-A4F3-7B4855A6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F6BE-598A-45B9-A0AA-A94B999D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318-D16C-4CAB-B68C-D00F3F1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38F3-59FD-4616-8168-6B52F18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A118-0DBA-4D2E-B137-81294303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DB70-1A17-4270-AC46-51D6086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8CDA-B817-4AB9-8D08-79FA0B2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8C96-9982-4B8B-A4E7-DC955EC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A215-342D-4D43-BE21-B2B6087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6FBB-EB59-45C3-8D43-4B92832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1D8E-20FA-4B22-A6FF-6956227E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D6CC-C85A-49D2-AE89-05EE606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33A61-A16D-4D81-BA28-A1B68C42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972-4602-4153-9006-6AE97FBF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5C2F1-3013-4884-811D-DB94D1E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CF2B2-43EA-49AA-8694-9B062992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7D5C4-31A1-4C32-BB18-CBCFAEF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7B23A-424C-452C-B874-9F4A849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DAA58-CCB0-4A9B-9031-2177253D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71F5C-5694-480E-AF10-1052E57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FFC1E-6E8E-425F-A37C-A4A9E8C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ABF4B-BBCD-4145-B760-E6AE302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BA977-80FC-4534-84AB-C7AEFB73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7D5DB-626D-454B-81ED-4284882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A4E-A347-44E5-B61E-DABBFDA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F158B-35DB-41BD-91B8-D9FFAE3E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B1348-A076-4A09-ADEA-01E3AF4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435BD-ABD7-41D0-8052-04DA132D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744EC-FC74-4DDA-BA0F-2DE93B76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A45F2-57A4-477A-93F0-F8DD628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7CF0F-52AE-488D-873A-004F349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8E678-4F4D-4A8C-AD10-B6E40AD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88005-5DAA-4774-83D3-0101871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AFCF6-1C49-4BA0-8F27-5F7F12C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5195C-75C4-47EE-8285-365B6DB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3BE-7C33-4C63-8027-30CC5EF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A3030-75A8-424D-A5D6-8AC2447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7DD40-B1F3-4167-BD40-CCE9CD1F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74E12-B0C4-4F67-829E-EC41FFF8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7069A-DD4A-4146-8818-5B9357CD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884A7-61D3-4A1C-84D0-535F0F8A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15896-3B2E-410C-BABD-BF693B6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06011-6357-4E47-BC76-92B608F3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0D155-2273-4EE8-8C8B-3C9AD1A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89309-DD9A-4E78-A085-D977C83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9F1BE-FBDF-4ECB-B18B-1FA456D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F9D-F9FD-4976-91BC-BBB41D9C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CE86B-7CEF-4FF8-925F-A0AFFA85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8D4A2-BFC0-4F18-B2AC-3F4ACD4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3BF81-08A6-4F59-92DA-1256E1A1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99163-1C1E-4928-895E-C5AAF81C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ABE6E-8B8A-4E67-BC45-D73DEDD5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A3B-6EC5-4F1B-B129-5AE6CB3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0CC2-3DA2-479D-9AF5-9E224DBBB21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2869-F673-48B4-A536-7E6F00115FE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CBC-06F7-4770-8B59-CF7F4BA16D6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BA61-FFB2-4E69-A7FB-7C26C9F5C52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A5D-6E86-4395-AB0D-08696471C56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666-0C49-4AF3-B941-C3CA6BD529A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247f"/>
            </a:gs>
            <a:gs pos="100000">
              <a:srgbClr val="ddc0d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ambria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FF1-A198-4B1F-93BE-2778424AB94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4e7ed"/>
              </a:solidFill>
              <a:latin typeface="Cambria"/>
            </a:endParaRPr>
          </a:p>
        </p:txBody>
      </p:sp>
      <p:pic>
        <p:nvPicPr>
          <p:cNvPr id="352" name="Picture 2" descr="C:\Users\Таня\Desktop\яываирыпшрнпукшгешугип.bmp"/>
          <p:cNvPicPr/>
          <p:nvPr/>
        </p:nvPicPr>
        <p:blipFill>
          <a:blip r:embed="rId1"/>
          <a:stretch/>
        </p:blipFill>
        <p:spPr>
          <a:xfrm>
            <a:off x="1928880" y="339840"/>
            <a:ext cx="5286240" cy="5938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66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91f4d"/>
                </a:solidFill>
                <a:uFillTx/>
                <a:latin typeface="Cambria"/>
              </a:rPr>
              <a:t>ЭКОНОМИЧЕСКОЕ </a:t>
            </a:r>
            <a:br>
              <a:rPr sz="3200"/>
            </a:br>
            <a:r>
              <a:rPr b="1" lang="ru-RU" sz="3200" spc="-1" strike="noStrike" u="sng">
                <a:solidFill>
                  <a:srgbClr val="591f4d"/>
                </a:solidFill>
                <a:uFillTx/>
                <a:latin typeface="Cambria"/>
              </a:rPr>
              <a:t>ОБОСНОВАНИЕ ПРОЕКТА</a:t>
            </a:r>
            <a:endParaRPr b="0" lang="en-US" sz="3200" spc="-1" strike="noStrike">
              <a:solidFill>
                <a:srgbClr val="f4e7ed"/>
              </a:solidFill>
              <a:latin typeface="Cambria"/>
            </a:endParaRPr>
          </a:p>
        </p:txBody>
      </p:sp>
      <p:pic>
        <p:nvPicPr>
          <p:cNvPr id="394" name="Picture 5" descr="C:\Users\Таня\Desktop\ч13.jpg"/>
          <p:cNvPicPr/>
          <p:nvPr/>
        </p:nvPicPr>
        <p:blipFill>
          <a:blip r:embed="rId1"/>
          <a:stretch/>
        </p:blipFill>
        <p:spPr>
          <a:xfrm>
            <a:off x="6111720" y="571680"/>
            <a:ext cx="2535480" cy="2847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56840" y="1999800"/>
            <a:ext cx="71010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Себестоимость изделия 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           </a:t>
            </a:r>
            <a:r>
              <a:rPr b="1" lang="ru-RU" sz="3600" spc="-1" strike="noStrike" u="sng">
                <a:solidFill>
                  <a:srgbClr val="a50021"/>
                </a:solidFill>
                <a:uFillTx/>
                <a:latin typeface="Calibri"/>
              </a:rPr>
              <a:t>45,20 руб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ffcc"/>
                </a:solidFill>
                <a:latin typeface="Calibri"/>
              </a:rPr>
              <a:t>Результат:</a:t>
            </a:r>
            <a:r>
              <a:rPr b="1" i="1" lang="ru-RU" sz="4400" spc="-1" strike="noStrike">
                <a:solidFill>
                  <a:srgbClr val="fdd1b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e7e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4e7ed"/>
                </a:solidFill>
                <a:latin typeface="Calibri"/>
              </a:rPr>
              <a:t>поделки из солёного тес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e7ed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f4e7ed"/>
                </a:solidFill>
                <a:latin typeface="Calibri"/>
              </a:rPr>
              <a:t>эстетичны, многообразны,  доступн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УКРАШЕНИЕ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1600200"/>
            <a:ext cx="8429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подарок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экспона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наглядное пособи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Выноска с четырьмя стрелками 6"/>
          <p:cNvSpPr/>
          <p:nvPr/>
        </p:nvSpPr>
        <p:spPr>
          <a:xfrm>
            <a:off x="2428920" y="1285920"/>
            <a:ext cx="3857760" cy="3857760"/>
          </a:xfrm>
          <a:prstGeom prst="pi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3786120" y="25002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6" descr="C:\Users\Таня\Desktop\ч13.jpg"/>
          <p:cNvPicPr/>
          <p:nvPr/>
        </p:nvPicPr>
        <p:blipFill>
          <a:blip r:embed="rId1"/>
          <a:stretch/>
        </p:blipFill>
        <p:spPr>
          <a:xfrm>
            <a:off x="3500280" y="2357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01" name="тикание часов.mp3" descr=""/>
          <p:cNvPicPr/>
          <p:nvPr/>
        </p:nvPicPr>
        <p:blipFill>
          <a:blip r:embed="rId2"/>
          <a:stretch/>
        </p:blipFill>
        <p:spPr>
          <a:xfrm>
            <a:off x="83581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7107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14880" y="1643040"/>
            <a:ext cx="52149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1253a"/>
                </a:solidFill>
                <a:latin typeface="Cambria"/>
              </a:rPr>
              <a:t>СПАСИБО ЗА ВНИМАНИЕ!</a:t>
            </a:r>
            <a:endParaRPr b="0" lang="en-US" sz="54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4e7ed"/>
              </a:solidFill>
              <a:latin typeface="Calibri"/>
            </a:endParaRPr>
          </a:p>
        </p:txBody>
      </p:sp>
      <p:pic>
        <p:nvPicPr>
          <p:cNvPr id="404" name="Picture 4" descr="C:\Users\Таня\Desktop\SAM_1329.JPG"/>
          <p:cNvPicPr/>
          <p:nvPr/>
        </p:nvPicPr>
        <p:blipFill>
          <a:blip r:embed="rId1"/>
          <a:stretch/>
        </p:blipFill>
        <p:spPr>
          <a:xfrm>
            <a:off x="571680" y="571680"/>
            <a:ext cx="407160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71440" y="2854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1253a"/>
                </a:solidFill>
                <a:latin typeface="Cambria"/>
              </a:rPr>
              <a:t>ПРОЕКТ ПО МОДЕЛИРОВАНИЮ</a:t>
            </a:r>
            <a:endParaRPr b="0" lang="en-US" sz="44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27860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«Часики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2643120" y="507204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боту выполнила Сухарева Крист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уководитель: Селькова Т. 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тикание часов.mp3" descr=""/>
          <p:cNvPicPr/>
          <p:nvPr/>
        </p:nvPicPr>
        <p:blipFill>
          <a:blip r:embed="rId1"/>
          <a:stretch/>
        </p:blipFill>
        <p:spPr>
          <a:xfrm>
            <a:off x="9644040" y="6491160"/>
            <a:ext cx="366840" cy="3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7107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77151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c1f34"/>
                </a:solidFill>
                <a:uFillTx/>
                <a:latin typeface="Cambria"/>
              </a:rPr>
              <a:t>ЦЕЛЬ РАБОТЫ – </a:t>
            </a:r>
            <a:br>
              <a:rPr sz="4300"/>
            </a:br>
            <a:r>
              <a:rPr b="1" lang="ru-RU" sz="4300" spc="-1" strike="noStrike">
                <a:solidFill>
                  <a:srgbClr val="5c1f34"/>
                </a:solidFill>
                <a:latin typeface="Cambria"/>
              </a:rPr>
              <a:t>ИЗГОТОВЛЕНИЕ ПАННО «ЧАСИКИ» ИЗ СОЛЁНОГО ТЕСТА</a:t>
            </a:r>
            <a:br>
              <a:rPr sz="4300"/>
            </a:br>
            <a:r>
              <a:rPr b="1" lang="ru-RU" sz="4300" spc="-1" strike="noStrike">
                <a:solidFill>
                  <a:srgbClr val="5c1f34"/>
                </a:solidFill>
                <a:latin typeface="Cambria"/>
              </a:rPr>
              <a:t>       </a:t>
            </a:r>
            <a:br>
              <a:rPr sz="4300"/>
            </a:br>
            <a:r>
              <a:rPr b="1" lang="ru-RU" sz="4300" spc="-1" strike="noStrike">
                <a:solidFill>
                  <a:srgbClr val="800000"/>
                </a:solidFill>
                <a:latin typeface="Cambria"/>
              </a:rPr>
              <a:t>ЗАДАЧИ</a:t>
            </a:r>
            <a:r>
              <a:rPr b="1" lang="ru-RU" sz="3600" spc="-1" strike="noStrike">
                <a:solidFill>
                  <a:srgbClr val="800000"/>
                </a:solidFill>
                <a:latin typeface="Cambria"/>
              </a:rPr>
              <a:t>:</a:t>
            </a:r>
            <a:br>
              <a:rPr sz="3600"/>
            </a:br>
            <a:r>
              <a:rPr b="0" lang="ru-RU" sz="2800" spc="-1" strike="noStrike">
                <a:solidFill>
                  <a:srgbClr val="f4e7ed"/>
                </a:solidFill>
                <a:latin typeface="Cambria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ИЗУЧИТЬ ИСТОРИЮ ВОЗНИКНОВЕНИЯ ТЕСТОПЛАСТИКИ</a:t>
            </a:r>
            <a:br>
              <a:rPr sz="3600"/>
            </a:b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СОСТАВИТЬ ТЕХНОЛОГИЧЕСКУЮ КАРТУ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РАССМОТРЕТЬ РЕЦЕПТЫ СОЛЁНОГО ТЕСТА</a:t>
            </a:r>
            <a:br>
              <a:rPr sz="3200"/>
            </a:br>
            <a:br>
              <a:rPr sz="3600"/>
            </a:br>
            <a:br>
              <a:rPr sz="4300"/>
            </a:br>
            <a:r>
              <a:rPr b="1" lang="ru-RU" sz="4300" spc="-1" strike="noStrike">
                <a:solidFill>
                  <a:srgbClr val="5c1f34"/>
                </a:solidFill>
                <a:latin typeface="Cambria"/>
              </a:rPr>
              <a:t> </a:t>
            </a:r>
            <a:endParaRPr b="0" lang="en-US" sz="43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58" name="Овал 3"/>
          <p:cNvSpPr/>
          <p:nvPr/>
        </p:nvSpPr>
        <p:spPr>
          <a:xfrm>
            <a:off x="1285920" y="3857760"/>
            <a:ext cx="214200" cy="214200"/>
          </a:xfrm>
          <a:prstGeom prst="ellipse">
            <a:avLst/>
          </a:prstGeom>
          <a:solidFill>
            <a:srgbClr val="fcbb8b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Овал 4"/>
          <p:cNvSpPr/>
          <p:nvPr/>
        </p:nvSpPr>
        <p:spPr>
          <a:xfrm>
            <a:off x="928800" y="4857840"/>
            <a:ext cx="214200" cy="214200"/>
          </a:xfrm>
          <a:prstGeom prst="ellipse">
            <a:avLst/>
          </a:prstGeom>
          <a:solidFill>
            <a:srgbClr val="fcbb8b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Овал 5"/>
          <p:cNvSpPr/>
          <p:nvPr/>
        </p:nvSpPr>
        <p:spPr>
          <a:xfrm>
            <a:off x="714240" y="5357880"/>
            <a:ext cx="214560" cy="214200"/>
          </a:xfrm>
          <a:prstGeom prst="ellipse">
            <a:avLst/>
          </a:prstGeom>
          <a:solidFill>
            <a:srgbClr val="fcbb8b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C:\Users\Таня\Desktop\яываирыпшрнпукшгешугип.bmp"/>
          <p:cNvPicPr/>
          <p:nvPr/>
        </p:nvPicPr>
        <p:blipFill>
          <a:blip r:embed="rId1"/>
          <a:stretch/>
        </p:blipFill>
        <p:spPr>
          <a:xfrm>
            <a:off x="928800" y="142920"/>
            <a:ext cx="928440" cy="10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mbria"/>
              </a:rPr>
              <a:t>ТЕСТОПЛАСТИКА</a:t>
            </a:r>
            <a:br>
              <a:rPr sz="7200"/>
            </a:br>
            <a:r>
              <a:rPr b="1" lang="ru-RU" sz="8000" spc="-1" strike="noStrike">
                <a:solidFill>
                  <a:srgbClr val="800000"/>
                </a:solidFill>
                <a:latin typeface="Cambria"/>
              </a:rPr>
              <a:t> </a:t>
            </a:r>
            <a:br>
              <a:rPr sz="8000"/>
            </a:br>
            <a:r>
              <a:rPr b="1" lang="ru-RU" sz="3600" spc="-1" strike="noStrike">
                <a:solidFill>
                  <a:srgbClr val="ffccff"/>
                </a:solidFill>
                <a:latin typeface="Cambria"/>
              </a:rPr>
              <a:t>ЛЕПКА ДЕКОРАТИВНЫХ ИЗДЕЛИЙ ИЗ СОЛЁНОГО ТЕСТА</a:t>
            </a:r>
            <a:endParaRPr b="0" lang="en-US" sz="36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63" name="Стрелка вниз 10"/>
          <p:cNvSpPr/>
          <p:nvPr/>
        </p:nvSpPr>
        <p:spPr>
          <a:xfrm>
            <a:off x="4500720" y="4071960"/>
            <a:ext cx="571320" cy="1000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9" descr="F:\IMG_3050.JPG"/>
          <p:cNvPicPr/>
          <p:nvPr/>
        </p:nvPicPr>
        <p:blipFill>
          <a:blip r:embed="rId1"/>
          <a:stretch/>
        </p:blipFill>
        <p:spPr>
          <a:xfrm>
            <a:off x="2773440" y="28584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0" descr="C:\Users\Таня\Desktop\пасх.сувенир - копия.jpg"/>
          <p:cNvPicPr/>
          <p:nvPr/>
        </p:nvPicPr>
        <p:blipFill>
          <a:blip r:embed="rId1"/>
          <a:stretch/>
        </p:blipFill>
        <p:spPr>
          <a:xfrm>
            <a:off x="285840" y="3643200"/>
            <a:ext cx="2560680" cy="1787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mbria"/>
              </a:rPr>
              <a:t>ИСТОРИЯ ТЕСТОПЛАСТИКИ </a:t>
            </a:r>
            <a:endParaRPr b="0" lang="en-US" sz="44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Гималаи         Греция          Герм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8" name="Picture 9" descr="C:\Users\Таня\Desktop\медальон.jpg"/>
          <p:cNvPicPr/>
          <p:nvPr/>
        </p:nvPicPr>
        <p:blipFill>
          <a:blip r:embed="rId2"/>
          <a:stretch/>
        </p:blipFill>
        <p:spPr>
          <a:xfrm>
            <a:off x="3143160" y="314316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C:\Users\Таня\Desktop\т2 - копия.jpg"/>
          <p:cNvPicPr/>
          <p:nvPr/>
        </p:nvPicPr>
        <p:blipFill>
          <a:blip r:embed="rId3"/>
          <a:stretch/>
        </p:blipFill>
        <p:spPr>
          <a:xfrm>
            <a:off x="5715000" y="3571920"/>
            <a:ext cx="2928960" cy="1949400"/>
          </a:xfrm>
          <a:prstGeom prst="rect">
            <a:avLst/>
          </a:prstGeom>
          <a:ln w="0">
            <a:noFill/>
          </a:ln>
        </p:spPr>
      </p:pic>
      <p:sp>
        <p:nvSpPr>
          <p:cNvPr id="370" name="Стрелка вправо 11"/>
          <p:cNvSpPr/>
          <p:nvPr/>
        </p:nvSpPr>
        <p:spPr>
          <a:xfrm>
            <a:off x="214200" y="228600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13"/>
          <p:cNvSpPr/>
          <p:nvPr/>
        </p:nvSpPr>
        <p:spPr>
          <a:xfrm>
            <a:off x="3143160" y="228600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трелка вправо 14"/>
          <p:cNvSpPr/>
          <p:nvPr/>
        </p:nvSpPr>
        <p:spPr>
          <a:xfrm>
            <a:off x="5786280" y="2357280"/>
            <a:ext cx="214560" cy="142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4" descr="дети.jpg"/>
          <p:cNvPicPr/>
          <p:nvPr/>
        </p:nvPicPr>
        <p:blipFill>
          <a:blip r:embed="rId1"/>
          <a:stretch/>
        </p:blipFill>
        <p:spPr>
          <a:xfrm>
            <a:off x="4000680" y="214200"/>
            <a:ext cx="4643280" cy="37641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20" y="1928880"/>
            <a:ext cx="9786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0f17"/>
                </a:solidFill>
                <a:latin typeface="Cambria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Cambria"/>
              </a:rPr>
              <a:t>РАЗВИТИЕ</a:t>
            </a:r>
            <a:r>
              <a:rPr b="1" lang="ru-RU" sz="5400" spc="-1" strike="noStrike">
                <a:solidFill>
                  <a:srgbClr val="ffff00"/>
                </a:solidFill>
                <a:latin typeface="Cambria"/>
              </a:rPr>
              <a:t> </a:t>
            </a:r>
            <a:br>
              <a:rPr sz="5400"/>
            </a:br>
            <a:br>
              <a:rPr sz="5400"/>
            </a:b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- МЕЛКОЙ МОТОРИКИ РУК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- ГЛАЗОМЕР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- ХУДОЖЕСТВЕННОГО ВКУС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mbria"/>
              </a:rPr>
              <a:t>- ИНТЕРЕСА К ТВОРЧЕСТВУ</a:t>
            </a:r>
            <a:br>
              <a:rPr sz="4000"/>
            </a:br>
            <a:endParaRPr b="0" lang="en-US" sz="4000" spc="-1" strike="noStrike">
              <a:solidFill>
                <a:srgbClr val="f4e7ed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6"/>
          <p:cNvSpPr/>
          <p:nvPr/>
        </p:nvSpPr>
        <p:spPr>
          <a:xfrm>
            <a:off x="2857680" y="357120"/>
            <a:ext cx="5857560" cy="714600"/>
          </a:xfrm>
          <a:prstGeom prst="rect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42760" y="-286200"/>
            <a:ext cx="6172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e7ed"/>
                </a:solidFill>
                <a:latin typeface="Cambria"/>
              </a:rPr>
              <a:t> </a:t>
            </a: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f4e7ed"/>
                </a:solidFill>
                <a:latin typeface="Cambria"/>
              </a:rPr>
              <a:t>ПРАВИЛА БЕЗОПАСНОСТИ:</a:t>
            </a:r>
            <a:br>
              <a:rPr sz="3600"/>
            </a:br>
            <a:endParaRPr b="0" lang="en-US" sz="36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14320" y="1142640"/>
            <a:ext cx="7143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e7e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работать в дневное врем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продолжительность работы не больш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трех часов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                                        </a:t>
            </a:r>
            <a:r>
              <a:rPr b="1" lang="ru-RU" sz="2800" spc="-1" strike="noStrike">
                <a:solidFill>
                  <a:srgbClr val="210f17"/>
                </a:solidFill>
                <a:latin typeface="Calibri"/>
              </a:rPr>
              <a:t>свет слева или спереди</a:t>
            </a:r>
            <a:r>
              <a:rPr b="1" lang="ru-RU" sz="2800" spc="-1" strike="noStrike">
                <a:solidFill>
                  <a:srgbClr val="f4e7e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Скругленный прямоугольник 7"/>
          <p:cNvSpPr/>
          <p:nvPr/>
        </p:nvSpPr>
        <p:spPr>
          <a:xfrm>
            <a:off x="4786200" y="428616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8"/>
          <p:cNvSpPr/>
          <p:nvPr/>
        </p:nvSpPr>
        <p:spPr>
          <a:xfrm>
            <a:off x="1785960" y="228600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кругленный прямоугольник 9"/>
          <p:cNvSpPr/>
          <p:nvPr/>
        </p:nvSpPr>
        <p:spPr>
          <a:xfrm>
            <a:off x="1785960" y="178596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9" descr="I:\DCIM\100PHOTO\SAM_1320.JPG"/>
          <p:cNvPicPr/>
          <p:nvPr/>
        </p:nvPicPr>
        <p:blipFill>
          <a:blip r:embed="rId1"/>
          <a:stretch/>
        </p:blipFill>
        <p:spPr>
          <a:xfrm>
            <a:off x="571680" y="3214800"/>
            <a:ext cx="39290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99760" y="-360"/>
            <a:ext cx="7101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1f4d"/>
                </a:solidFill>
                <a:latin typeface="Cambria"/>
              </a:rPr>
              <a:t>ДЛЯ РАБОТЫ НЕОБХОДИМО:</a:t>
            </a:r>
            <a:endParaRPr b="0" lang="en-US" sz="40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5640" y="2571480"/>
            <a:ext cx="61722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мука</a:t>
            </a:r>
            <a:r>
              <a:rPr b="1" lang="ru-RU" sz="3200" spc="-1" strike="noStrike">
                <a:solidFill>
                  <a:srgbClr val="f4e7ed"/>
                </a:solidFill>
                <a:latin typeface="Calibri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со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b83d6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4e7ed"/>
                </a:solidFill>
                <a:latin typeface="Calibri"/>
              </a:rPr>
              <a:t>вод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Picture 2" descr="C:\Users\Таня\Desktop\приложение.jpg"/>
          <p:cNvPicPr/>
          <p:nvPr/>
        </p:nvPicPr>
        <p:blipFill>
          <a:blip r:embed="rId1"/>
          <a:stretch/>
        </p:blipFill>
        <p:spPr>
          <a:xfrm>
            <a:off x="4929120" y="1285920"/>
            <a:ext cx="36435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ЭКОЛОГИЧЕСКАЯ ОЦЕНКА ПРОЕКТА</a:t>
            </a:r>
            <a:endParaRPr b="0" lang="en-US" sz="3600" spc="-1" strike="noStrike">
              <a:solidFill>
                <a:srgbClr val="f4e7ed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285920"/>
            <a:ext cx="74674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 тесте никаких добаво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экологичность соленого теста позволяет использовать его маленьким детя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7" name="Group 8"/>
          <p:cNvGrpSpPr/>
          <p:nvPr/>
        </p:nvGrpSpPr>
        <p:grpSpPr>
          <a:xfrm>
            <a:off x="4714920" y="2286000"/>
            <a:ext cx="3816000" cy="3571560"/>
            <a:chOff x="4714920" y="2286000"/>
            <a:chExt cx="3816000" cy="3571560"/>
          </a:xfrm>
        </p:grpSpPr>
        <p:sp>
          <p:nvSpPr>
            <p:cNvPr id="388" name="Freeform 10"/>
            <p:cNvSpPr/>
            <p:nvPr/>
          </p:nvSpPr>
          <p:spPr>
            <a:xfrm>
              <a:off x="6557400" y="2286000"/>
              <a:ext cx="1973520" cy="35269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703840" y="4347720"/>
              <a:ext cx="5760" cy="86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5703840" y="4347720"/>
              <a:ext cx="5760" cy="86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4714920" y="3764880"/>
              <a:ext cx="1080" cy="2160"/>
            </a:xfrm>
            <a:prstGeom prst="rect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29"/>
            <p:cNvSpPr/>
            <p:nvPr/>
          </p:nvSpPr>
          <p:spPr>
            <a:xfrm>
              <a:off x="6622200" y="5769360"/>
              <a:ext cx="1764720" cy="88200"/>
            </a:xfrm>
            <a:prstGeom prst="pie">
              <a:avLst/>
            </a:prstGeom>
            <a:solidFill>
              <a:srgbClr val="3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3:39:07Z</dcterms:created>
  <dc:creator>Таня</dc:creator>
  <dc:description/>
  <dc:language>en-US</dc:language>
  <cp:lastModifiedBy>Таня</cp:lastModifiedBy>
  <dcterms:modified xsi:type="dcterms:W3CDTF">2011-12-14T16:43:11Z</dcterms:modified>
  <cp:revision>145</cp:revision>
  <dc:subject/>
  <dc:title>Проект по моделированию</dc:title>
</cp:coreProperties>
</file>