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07C-F5A0-46BC-842B-AAE59651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56D-11F5-41DB-B83E-4DC0F52B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89A-9034-4302-B351-52F53A00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040-BF7D-4CF3-B40B-89EDF117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736-C417-4579-ADD4-7698A5D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165-8A95-4ED8-B25F-72544AD6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F86-8B2B-41D2-8980-8D804070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4F6-14E3-4EE5-9FE3-AE02887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ACB-C62F-4EB8-AFA3-4B435EFF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E47-D00B-43C2-992D-61C8BAF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4F9-336F-4D26-9421-83C22E7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EA3-3B92-4777-AB79-FAE0C37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D1D-4563-44CD-8BD5-590D9BBA0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071800"/>
            <a:ext cx="8501040" cy="15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офессиональное мастерство учителя как условие развити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творческого потенциала учени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Автор докла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преподаватель высшей квалификационной категории МОУ ДОД ДМШ п. Куе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Назарова Ирина Александр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фессиональные кач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едагога?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стерство - способность   качественно выполнять те или иные виды работ –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. Платон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стер -  особенно сведущий или искусный в деле своем –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. И. Да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рофессионализм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91440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Предметные, дидактические, методические, психолого-педагогические знания и ум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255320" y="4071960"/>
            <a:ext cx="75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личностный потенциа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00040" y="40006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Самым важным явлением в школе, самым поучительным предметом, самым живым примером для ученика является сам учител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" dur="1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" dur="1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" dur="1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1500" autoRev="1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овременный педаго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ободно мысл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меть научное представление о ми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адать широким кругозо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пособности педаго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то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дак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ель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че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ос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управлять вниманием учащих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Calibri"/>
              </a:rPr>
              <a:t>Личностные качества педагог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олюб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рпелив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бователь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стойчив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ворческий подход к раб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ствен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Хваля меня, он сделал меня достойным похвал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ученик  Сокра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" dur="1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" dur="1500" autoRev="1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Если учитель имеет только любовь к делу, он будет хороший учител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Если он имеет только любовь к ученику, как отец, мать, он будет лучше того учителя, который прочел все книги, но не имеет любви ни к делу, ни к ученик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Если же учитель соединяет в себе любовь и к делу, и к ученикам, он — совершенный учитель» </a:t>
            </a:r>
            <a:r>
              <a:rPr b="1" lang="ru-RU" sz="3700" spc="-1" strike="noStrike">
                <a:solidFill>
                  <a:srgbClr val="000000"/>
                </a:solidFill>
                <a:latin typeface="Monotype Corsiva"/>
              </a:rPr>
              <a:t>- Л. Н. Толстой.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" dur="10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" dur="100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1000" autoRev="1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1000" autoRev="1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autoRev="1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2" dur="1000" autoRev="1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3" dur="1000" autoRev="1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3:42:02Z</dcterms:created>
  <dc:creator>Пользователь</dc:creator>
  <dc:description/>
  <dc:language>en-US</dc:language>
  <cp:lastModifiedBy>Admin</cp:lastModifiedBy>
  <dcterms:modified xsi:type="dcterms:W3CDTF">2012-11-28T18:23:17Z</dcterms:modified>
  <cp:revision>74</cp:revision>
  <dc:subject/>
  <dc:title>Слайд 1</dc:title>
</cp:coreProperties>
</file>