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176-0FBC-4E71-AB7B-24B3D523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A80-3710-44B7-A6D3-77AFC959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5B0-253A-4059-A9E9-3D9B1397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FA2-233A-44B1-97A1-DDFF8F69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41A9-196C-4EF7-BDBC-C5DAE0D0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A9AE-AC99-429D-88DC-D4DBBCA1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5424-5FD5-4947-8C8A-8549950F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8410-0625-4310-BF24-6052D712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AB1A-85CE-492B-A635-22C546CF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6CBA-D1B2-4086-96D8-5785E4B2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D87F-8C3C-4E8E-BD5D-B385019C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CC7-BA6F-453E-9D2C-D461D646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5AE6-1197-4C94-9F30-12E6E09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61EF-ED42-4C77-B164-8BF89DA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F8CA-926D-4BF3-BA06-778F1C68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055A-082C-4F98-8531-77919B7E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E75B-74B1-4ACD-977F-8E5FB593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138-33FA-4852-8332-46FEDE0F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AA7-ACD0-4E81-8C9B-E638D55C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D61-4598-48BE-A75C-78B215FC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1CE-E427-46E2-A94A-01D3E5F7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CAF-2AC4-4F7D-AEE6-9206CCF0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C5E-8EDF-459F-8870-7ACA0D31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1DA-54B1-4FF6-BEAF-CB2EF2C8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D902-3023-4301-BBD8-1CE0341706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E3DC-0993-4146-8CF6-635F9BFE5D34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Профилактическая работа по оптимизации психологического здоровья педагогов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427640" y="3886200"/>
            <a:ext cx="4248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едагог-психолог МБДОУ д/с №51 «Кэскил» Смирникова Л.Ф., 1 квалиф.категория, педстаж 20 лет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Психопрофилактическая работа состоит из: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Арт-терапевтические техни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Деловые игры, упражнения, психотехни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Телесно-ориентированные техни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Picture 4" descr="C:\Documents and Settings\user\Рабочий стол\сотрудники (2).JPG"/>
          <p:cNvPicPr/>
          <p:nvPr/>
        </p:nvPicPr>
        <p:blipFill>
          <a:blip r:embed="rId1"/>
          <a:srcRect l="0" t="16795" r="0" b="0"/>
          <a:stretch/>
        </p:blipFill>
        <p:spPr>
          <a:xfrm>
            <a:off x="2484360" y="4089240"/>
            <a:ext cx="54705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Игры, упражнения для тренинговой работы с педагогам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Арт-терапевтические техники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Упражнение «Рисунок настроения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Проективный рисунок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Поочередное рисовани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Рисунок музы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Метафорические портреты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8" name="Picture 1" descr="C:\Documents and Settings\user\Мои документы\Мои документы\Презентации\картинки для презентаций\MOI12.gif"/>
          <p:cNvPicPr/>
          <p:nvPr/>
        </p:nvPicPr>
        <p:blipFill>
          <a:blip r:embed="rId1"/>
          <a:stretch/>
        </p:blipFill>
        <p:spPr>
          <a:xfrm>
            <a:off x="6804000" y="4913280"/>
            <a:ext cx="1854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Составление волшебных красок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амотерапия(методикаТ.Д.Зинкевич-Евстигнеевой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Цель: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- изучение и изменение психоэмоционального состояния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- развитие креативных, созидающих возможностей личности с использованием творческих видов деятельности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- выявление актуальной проблематики личности путем анализа эмоционального состояния в процессе создания «волшебных красок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1" name="Picture 1" descr="C:\Documents and Settings\user\Мои документы\Мои документы\Презентации\картинки для презентаций\MOI8.gif"/>
          <p:cNvPicPr/>
          <p:nvPr/>
        </p:nvPicPr>
        <p:blipFill>
          <a:blip r:embed="rId1"/>
          <a:stretch/>
        </p:blipFill>
        <p:spPr>
          <a:xfrm>
            <a:off x="4572000" y="5373720"/>
            <a:ext cx="1565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Times New Roman"/>
              </a:rPr>
              <a:t>Деловые игры и упражнения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Игра «Атомы»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Игра-разминка «Баржа»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Игра «Машины»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Упражнение «Доброе животное»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Рефлексия «Ваши ассоциации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4" name="Picture 1" descr="C:\Documents and Settings\user\Мои документы\Мои документы\Презентации\картинки для презентаций\MOI14.gif"/>
          <p:cNvPicPr/>
          <p:nvPr/>
        </p:nvPicPr>
        <p:blipFill>
          <a:blip r:embed="rId1"/>
          <a:stretch/>
        </p:blipFill>
        <p:spPr>
          <a:xfrm>
            <a:off x="3708360" y="4530600"/>
            <a:ext cx="22320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Телесно-ориентированные техни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гра «Сорви яблоки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Аутотренинг «Мобилизации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изуализация «Целительные воспоминания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изуализация «Избавление от тревог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изуализация «Хрустальное путешествие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Упражнение «Гора с плеч»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Упражнение «Руки»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7" name="Picture 1" descr="C:\Documents and Settings\user\Мои документы\Мои документы\Презентации\картинки для презентаций\MOI10.gif"/>
          <p:cNvPicPr/>
          <p:nvPr/>
        </p:nvPicPr>
        <p:blipFill>
          <a:blip r:embed="rId1"/>
          <a:stretch/>
        </p:blipFill>
        <p:spPr>
          <a:xfrm>
            <a:off x="6516720" y="539640"/>
            <a:ext cx="19429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47280" y="549360"/>
            <a:ext cx="759636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Times New Roman"/>
              </a:rPr>
              <a:t>По итогам проведенной работы пришли к следующим результатам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оциально-психологический климат оптимальный, коллектив сформирован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татусно- ролевая ориентация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Выраженное стремление к доминированию, лидерству в общении у 44,4%, тенденция к подчинению, отказу от лидерства  у 55,6 %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тиль общения: наблюдается стремление к сотрудничеству с окружающими, установлению дружелюбных отношений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Творческий потенциал:   на 100% обладают теми качествами, которые позволяют творить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амооценка эмоционального состояния: выявлен средний уровень самооценки эмоционального состояния. 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Самооценка педагогов – у 57% педагогов идет саморазвитие личности, уровень развития в норме.. У 43% педагогов высшая потребность достижения результатов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Педагогическая культура сформирована, наблюдается ярко выраженная потребность в дальнейшем его совершенствовани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Organization Chart 5"/>
          <p:cNvGrpSpPr/>
          <p:nvPr/>
        </p:nvGrpSpPr>
        <p:grpSpPr>
          <a:xfrm>
            <a:off x="971640" y="476280"/>
            <a:ext cx="7920000" cy="6192360"/>
            <a:chOff x="971640" y="476280"/>
            <a:chExt cx="7920000" cy="6192360"/>
          </a:xfrm>
        </p:grpSpPr>
        <p:cxnSp>
          <p:nvCxnSpPr>
            <p:cNvPr id="140" name="_s2052"/>
            <p:cNvCxnSpPr>
              <a:stCxn id="141" idx="1"/>
              <a:endCxn id="142" idx="2"/>
            </p:cNvCxnSpPr>
            <p:nvPr/>
          </p:nvCxnSpPr>
          <p:spPr>
            <a:xfrm rot="10800000">
              <a:off x="3346920" y="902880"/>
              <a:ext cx="792720" cy="555336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43" name="_s2053"/>
            <p:cNvCxnSpPr>
              <a:stCxn id="144" idx="1"/>
              <a:endCxn id="142" idx="2"/>
            </p:cNvCxnSpPr>
            <p:nvPr/>
          </p:nvCxnSpPr>
          <p:spPr>
            <a:xfrm rot="10800000">
              <a:off x="3346920" y="902880"/>
              <a:ext cx="792720" cy="491112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45" name="_s2054"/>
            <p:cNvCxnSpPr>
              <a:stCxn id="146" idx="1"/>
              <a:endCxn id="142" idx="2"/>
            </p:cNvCxnSpPr>
            <p:nvPr/>
          </p:nvCxnSpPr>
          <p:spPr>
            <a:xfrm rot="10800000">
              <a:off x="3346920" y="902880"/>
              <a:ext cx="792720" cy="427140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47" name="_s2055"/>
            <p:cNvCxnSpPr>
              <a:stCxn id="148" idx="1"/>
              <a:endCxn id="142" idx="2"/>
            </p:cNvCxnSpPr>
            <p:nvPr/>
          </p:nvCxnSpPr>
          <p:spPr>
            <a:xfrm rot="10800000">
              <a:off x="3346920" y="902880"/>
              <a:ext cx="792720" cy="363204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49" name="_s2056"/>
            <p:cNvCxnSpPr>
              <a:stCxn id="150" idx="0"/>
              <a:endCxn id="151" idx="2"/>
            </p:cNvCxnSpPr>
            <p:nvPr/>
          </p:nvCxnSpPr>
          <p:spPr>
            <a:xfrm flipV="1">
              <a:off x="6515640" y="2826000"/>
              <a:ext cx="5400" cy="21420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52" name="_s2057"/>
            <p:cNvCxnSpPr>
              <a:stCxn id="153" idx="1"/>
              <a:endCxn id="142" idx="2"/>
            </p:cNvCxnSpPr>
            <p:nvPr/>
          </p:nvCxnSpPr>
          <p:spPr>
            <a:xfrm rot="10800000">
              <a:off x="3346920" y="902880"/>
              <a:ext cx="792720" cy="299232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54" name="_s2058"/>
            <p:cNvCxnSpPr>
              <a:stCxn id="151" idx="1"/>
              <a:endCxn id="142" idx="2"/>
            </p:cNvCxnSpPr>
            <p:nvPr/>
          </p:nvCxnSpPr>
          <p:spPr>
            <a:xfrm rot="10800000">
              <a:off x="3346920" y="902880"/>
              <a:ext cx="792720" cy="171180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55" name="_s2059"/>
            <p:cNvCxnSpPr>
              <a:stCxn id="156" idx="1"/>
              <a:endCxn id="142" idx="2"/>
            </p:cNvCxnSpPr>
            <p:nvPr/>
          </p:nvCxnSpPr>
          <p:spPr>
            <a:xfrm rot="10800000">
              <a:off x="3346920" y="902880"/>
              <a:ext cx="792720" cy="107064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57" name="_s2060"/>
            <p:cNvCxnSpPr>
              <a:stCxn id="158" idx="1"/>
              <a:endCxn id="142" idx="2"/>
            </p:cNvCxnSpPr>
            <p:nvPr/>
          </p:nvCxnSpPr>
          <p:spPr>
            <a:xfrm rot="10800000">
              <a:off x="3346920" y="902880"/>
              <a:ext cx="792720" cy="429480"/>
            </a:xfrm>
            <a:prstGeom prst="bentConnector2">
              <a:avLst/>
            </a:prstGeom>
            <a:ln w="28440">
              <a:solidFill>
                <a:srgbClr val="336699"/>
              </a:solidFill>
              <a:miter/>
            </a:ln>
          </p:spPr>
        </p:cxnSp>
        <p:sp>
          <p:nvSpPr>
            <p:cNvPr id="142" name="_s2061"/>
            <p:cNvSpPr/>
            <p:nvPr/>
          </p:nvSpPr>
          <p:spPr>
            <a:xfrm>
              <a:off x="971640" y="47628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6699"/>
                  </a:solidFill>
                  <a:latin typeface="Times New Roman"/>
                </a:rPr>
                <a:t>Психопрофилактическая работа способствует: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8" name="_s2062"/>
            <p:cNvSpPr/>
            <p:nvPr/>
          </p:nvSpPr>
          <p:spPr>
            <a:xfrm>
              <a:off x="4139640" y="111708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36699"/>
                  </a:solidFill>
                  <a:latin typeface="Times New Roman"/>
                </a:rPr>
                <a:t>Позитивному самовосприятию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6" name="_s2063"/>
            <p:cNvSpPr/>
            <p:nvPr/>
          </p:nvSpPr>
          <p:spPr>
            <a:xfrm>
              <a:off x="4139640" y="175824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Самораскрытию 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1" name="_s2064"/>
            <p:cNvSpPr/>
            <p:nvPr/>
          </p:nvSpPr>
          <p:spPr>
            <a:xfrm>
              <a:off x="4139640" y="239940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Снижению эмоционального истощения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3" name="_s2065"/>
            <p:cNvSpPr/>
            <p:nvPr/>
          </p:nvSpPr>
          <p:spPr>
            <a:xfrm>
              <a:off x="4139640" y="368136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Инициативности 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0" name="_s2066"/>
            <p:cNvSpPr/>
            <p:nvPr/>
          </p:nvSpPr>
          <p:spPr>
            <a:xfrm>
              <a:off x="4139640" y="304056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Эмоциональной устойчивости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8" name="_s2067"/>
            <p:cNvSpPr/>
            <p:nvPr/>
          </p:nvSpPr>
          <p:spPr>
            <a:xfrm>
              <a:off x="4139640" y="4322520"/>
              <a:ext cx="4752000" cy="4258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Чувство собственного достоинства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6" name="_s2068"/>
            <p:cNvSpPr/>
            <p:nvPr/>
          </p:nvSpPr>
          <p:spPr>
            <a:xfrm>
              <a:off x="4139640" y="4962240"/>
              <a:ext cx="4752000" cy="4255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Независимости 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4" name="_s2069"/>
            <p:cNvSpPr/>
            <p:nvPr/>
          </p:nvSpPr>
          <p:spPr>
            <a:xfrm>
              <a:off x="4139640" y="5601600"/>
              <a:ext cx="4752000" cy="4258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Социальной смелости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1" name="_s2070"/>
            <p:cNvSpPr/>
            <p:nvPr/>
          </p:nvSpPr>
          <p:spPr>
            <a:xfrm>
              <a:off x="4139640" y="6241320"/>
              <a:ext cx="4752000" cy="4273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6699"/>
                  </a:solidFill>
                  <a:latin typeface="Times New Roman"/>
                </a:rPr>
                <a:t>Легкости в общении</a:t>
              </a:r>
              <a:endParaRPr b="0" lang="en-US" sz="2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43280" y="247320"/>
            <a:ext cx="6299280" cy="41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60" name="Picture 2" descr="C:\Documents and Settings\user\Мои документы\Мои документы\Презентации\картинки для презентаций\2787.gif"/>
          <p:cNvPicPr/>
          <p:nvPr/>
        </p:nvPicPr>
        <p:blipFill>
          <a:blip r:embed="rId1"/>
          <a:stretch/>
        </p:blipFill>
        <p:spPr>
          <a:xfrm>
            <a:off x="3276720" y="692280"/>
            <a:ext cx="360684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Times New Roman"/>
              </a:rPr>
              <a:t>Актуальность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Деятельность педагогов связана с напряженными ситуациями и факторами, влияющими на психофизическое здоровье педагогов. Неблагоприятное воздействие может вызвать сильные стрессы, что приводит к неврозам. Происходит эмоциональное истощение известное как «синдром эмоционального выгорания»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Цель: профилактика «профессионального выгорания педагогов»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229068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Задачи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редупреждение и снятие психологической перегрузки педагогического коллектив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овышение самооценки, уверенности в своих сила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нятие мышечного напряжения и развитие умения расслаблятьс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Выражение отрицательных эмоций ( гнев, обида, страх) через игр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Развитие у педагогов способности мыслить о себе в позитивном ключ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-3844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280" y="1123560"/>
            <a:ext cx="7139160" cy="50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Наше учреждение с 2003 года работает в режиме эксперимента по теме «Культуротворчество как основа образовательного процесса в ДОУ»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 2009 года по теме «Разработка внутреннего стандарта ДОУ как условие обеспечения качества образовательных услуг»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Где одним из основных направлений работы является организация творческой лаборатории педагогов, так как именно педагог является движущей силой всего образовательного процесс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01" name="Organization Chart 7"/>
          <p:cNvGrpSpPr/>
          <p:nvPr/>
        </p:nvGrpSpPr>
        <p:grpSpPr>
          <a:xfrm>
            <a:off x="1440000" y="692280"/>
            <a:ext cx="7703640" cy="5472000"/>
            <a:chOff x="1440000" y="692280"/>
            <a:chExt cx="7703640" cy="547200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6242040" y="1928520"/>
              <a:ext cx="1095120" cy="299916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2"/>
            </p:cNvCxnSpPr>
            <p:nvPr/>
          </p:nvCxnSpPr>
          <p:spPr>
            <a:xfrm flipV="1" rot="16200000">
              <a:off x="5243400" y="2927160"/>
              <a:ext cx="1095120" cy="100152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07" name="_s1030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4244400" y="2929320"/>
              <a:ext cx="1095120" cy="99756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336699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4" idx="2"/>
            </p:cNvCxnSpPr>
            <p:nvPr/>
          </p:nvCxnSpPr>
          <p:spPr>
            <a:xfrm flipH="1" flipV="1" rot="5400000">
              <a:off x="3246840" y="1931760"/>
              <a:ext cx="1095120" cy="2993040"/>
            </a:xfrm>
            <a:prstGeom prst="bentConnector3">
              <a:avLst>
                <a:gd name="adj1" fmla="val 10424"/>
              </a:avLst>
            </a:prstGeom>
            <a:ln w="28440">
              <a:solidFill>
                <a:srgbClr val="336699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4434480" y="692280"/>
              <a:ext cx="1712160" cy="2188800"/>
            </a:xfrm>
            <a:custGeom>
              <a:avLst/>
              <a:gdLst>
                <a:gd name="textAreaLeft" fmla="*/ 83520 w 1712160"/>
                <a:gd name="textAreaRight" fmla="*/ 1628640 w 1712160"/>
                <a:gd name="textAreaTop" fmla="*/ 83520 h 2188800"/>
                <a:gd name="textAreaBottom" fmla="*/ 2105280 h 2188800"/>
              </a:gdLst>
              <a:ahLst/>
              <a:rect l="textAreaLeft" t="textAreaTop" r="textAreaRight" b="textAreaBottom"/>
              <a:pathLst>
                <a:path w="21600" h="27612">
                  <a:moveTo>
                    <a:pt x="3600" y="0"/>
                  </a:moveTo>
                  <a:arcTo wR="3600" hR="3600" stAng="16200000" swAng="-5400000"/>
                  <a:lnTo>
                    <a:pt x="0" y="24012"/>
                  </a:lnTo>
                  <a:arcTo wR="3600" hR="3600" stAng="10800000" swAng="-5400000"/>
                  <a:lnTo>
                    <a:pt x="18000" y="27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Педагогическая 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деятельность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в режиме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эксперимента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1440000" y="3975480"/>
              <a:ext cx="1712160" cy="2188800"/>
            </a:xfrm>
            <a:custGeom>
              <a:avLst/>
              <a:gdLst>
                <a:gd name="textAreaLeft" fmla="*/ 83520 w 1712160"/>
                <a:gd name="textAreaRight" fmla="*/ 1628640 w 1712160"/>
                <a:gd name="textAreaTop" fmla="*/ 83520 h 2188800"/>
                <a:gd name="textAreaBottom" fmla="*/ 2105280 h 2188800"/>
              </a:gdLst>
              <a:ahLst/>
              <a:rect l="textAreaLeft" t="textAreaTop" r="textAreaRight" b="textAreaBottom"/>
              <a:pathLst>
                <a:path w="21600" h="27612">
                  <a:moveTo>
                    <a:pt x="3600" y="0"/>
                  </a:moveTo>
                  <a:arcTo wR="3600" hR="3600" stAng="16200000" swAng="-5400000"/>
                  <a:lnTo>
                    <a:pt x="0" y="24012"/>
                  </a:lnTo>
                  <a:arcTo wR="3600" hR="3600" stAng="10800000" swAng="-5400000"/>
                  <a:lnTo>
                    <a:pt x="18000" y="27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Times New Roman"/>
                </a:rPr>
                <a:t>самоотдача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>
              <a:off x="3437640" y="3975480"/>
              <a:ext cx="1712160" cy="2188800"/>
            </a:xfrm>
            <a:custGeom>
              <a:avLst/>
              <a:gdLst>
                <a:gd name="textAreaLeft" fmla="*/ 83520 w 1712160"/>
                <a:gd name="textAreaRight" fmla="*/ 1628640 w 1712160"/>
                <a:gd name="textAreaTop" fmla="*/ 83520 h 2188800"/>
                <a:gd name="textAreaBottom" fmla="*/ 2105280 h 2188800"/>
              </a:gdLst>
              <a:ahLst/>
              <a:rect l="textAreaLeft" t="textAreaTop" r="textAreaRight" b="textAreaBottom"/>
              <a:pathLst>
                <a:path w="21600" h="27612">
                  <a:moveTo>
                    <a:pt x="3600" y="0"/>
                  </a:moveTo>
                  <a:arcTo wR="3600" hR="3600" stAng="16200000" swAng="-5400000"/>
                  <a:lnTo>
                    <a:pt x="0" y="24012"/>
                  </a:lnTo>
                  <a:arcTo wR="3600" hR="3600" stAng="10800000" swAng="-5400000"/>
                  <a:lnTo>
                    <a:pt x="18000" y="27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6699"/>
                  </a:solidFill>
                  <a:latin typeface="Times New Roman"/>
                </a:rPr>
                <a:t>профессио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6699"/>
                  </a:solidFill>
                  <a:latin typeface="Times New Roman"/>
                </a:rPr>
                <a:t>нализм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6" name="_s1035"/>
            <p:cNvSpPr/>
            <p:nvPr/>
          </p:nvSpPr>
          <p:spPr>
            <a:xfrm>
              <a:off x="5435280" y="3975480"/>
              <a:ext cx="1712160" cy="2188800"/>
            </a:xfrm>
            <a:custGeom>
              <a:avLst/>
              <a:gdLst>
                <a:gd name="textAreaLeft" fmla="*/ 83520 w 1712160"/>
                <a:gd name="textAreaRight" fmla="*/ 1628640 w 1712160"/>
                <a:gd name="textAreaTop" fmla="*/ 83520 h 2188800"/>
                <a:gd name="textAreaBottom" fmla="*/ 2105280 h 2188800"/>
              </a:gdLst>
              <a:ahLst/>
              <a:rect l="textAreaLeft" t="textAreaTop" r="textAreaRight" b="textAreaBottom"/>
              <a:pathLst>
                <a:path w="21600" h="27612">
                  <a:moveTo>
                    <a:pt x="3600" y="0"/>
                  </a:moveTo>
                  <a:arcTo wR="3600" hR="3600" stAng="16200000" swAng="-5400000"/>
                  <a:lnTo>
                    <a:pt x="0" y="24012"/>
                  </a:lnTo>
                  <a:arcTo wR="3600" hR="3600" stAng="10800000" swAng="-5400000"/>
                  <a:lnTo>
                    <a:pt x="18000" y="27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Times New Roman"/>
                </a:rPr>
                <a:t>интерес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03" name="_s1036"/>
            <p:cNvSpPr/>
            <p:nvPr/>
          </p:nvSpPr>
          <p:spPr>
            <a:xfrm>
              <a:off x="7433280" y="3975480"/>
              <a:ext cx="1710360" cy="2188800"/>
            </a:xfrm>
            <a:custGeom>
              <a:avLst/>
              <a:gdLst>
                <a:gd name="textAreaLeft" fmla="*/ 83160 w 1710360"/>
                <a:gd name="textAreaRight" fmla="*/ 1627200 w 1710360"/>
                <a:gd name="textAreaTop" fmla="*/ 83160 h 2188800"/>
                <a:gd name="textAreaBottom" fmla="*/ 2105640 h 2188800"/>
              </a:gdLst>
              <a:ahLst/>
              <a:rect l="textAreaLeft" t="textAreaTop" r="textAreaRight" b="textAreaBottom"/>
              <a:pathLst>
                <a:path w="21600" h="27641">
                  <a:moveTo>
                    <a:pt x="3600" y="0"/>
                  </a:moveTo>
                  <a:arcTo wR="3600" hR="3600" stAng="16200000" swAng="-5400000"/>
                  <a:lnTo>
                    <a:pt x="0" y="24041"/>
                  </a:lnTo>
                  <a:arcTo wR="3600" hR="3600" stAng="10800000" swAng="-5400000"/>
                  <a:lnTo>
                    <a:pt x="18000" y="27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Times New Roman"/>
                </a:rPr>
                <a:t>мотивация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pic>
        <p:nvPicPr>
          <p:cNvPr id="111" name="Picture 14" descr="C:\Documents and Settings\user\Мои документы\Мои документы\Презентации\картинки для презентаций\MOI20.gif"/>
          <p:cNvPicPr/>
          <p:nvPr/>
        </p:nvPicPr>
        <p:blipFill>
          <a:blip r:embed="rId1"/>
          <a:stretch/>
        </p:blipFill>
        <p:spPr>
          <a:xfrm>
            <a:off x="6659640" y="981000"/>
            <a:ext cx="1979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68360" y="476280"/>
            <a:ext cx="6336000" cy="56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Задачи при организации творческой лаборатории  педагогов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1. Удовлетворение коммуникативных потребносте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2. Создание условий для преобладания положительных эмоци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3. Формирование педагога, владеющего культурой труда, познания, общения и самосовершенствован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Picture 4" descr="C:\Documents and Settings\user\Рабочий стол\сотрудники (3).JPG"/>
          <p:cNvPicPr/>
          <p:nvPr/>
        </p:nvPicPr>
        <p:blipFill>
          <a:blip r:embed="rId1"/>
          <a:stretch/>
        </p:blipFill>
        <p:spPr>
          <a:xfrm>
            <a:off x="2843280" y="3860640"/>
            <a:ext cx="471960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Угрозы психологическому здоровью педагогов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Внешние источни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Внутренние источни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Picture 4" descr="C:\Documents and Settings\user\Рабочий стол\сотрудники.JPG"/>
          <p:cNvPicPr/>
          <p:nvPr/>
        </p:nvPicPr>
        <p:blipFill>
          <a:blip r:embed="rId1"/>
          <a:stretch/>
        </p:blipFill>
        <p:spPr>
          <a:xfrm>
            <a:off x="4140360" y="3357720"/>
            <a:ext cx="447192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C:\Documents and Settings\user\Мои документы\Мои документы\Презентации\картинки для презентаций\MOI18.gif"/>
          <p:cNvPicPr/>
          <p:nvPr/>
        </p:nvPicPr>
        <p:blipFill>
          <a:blip r:embed="rId2"/>
          <a:stretch/>
        </p:blipFill>
        <p:spPr>
          <a:xfrm>
            <a:off x="1619280" y="3789360"/>
            <a:ext cx="22334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8720" y="260280"/>
            <a:ext cx="50752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Внешние  источники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1125360"/>
          <a:ext cx="7343640" cy="5732640"/>
        </p:xfrm>
        <a:graphic>
          <a:graphicData uri="http://schemas.openxmlformats.org/drawingml/2006/table">
            <a:tbl>
              <a:tblPr/>
              <a:tblGrid>
                <a:gridCol w="3527280"/>
                <a:gridCol w="3816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физически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социальны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еблагоприятные погодные условия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едооценка значения закаливаний, сокращение пребывания на воздух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есоблюдение правил психогигиены ( незнание способов саморегуляции)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Снижение физической активности, сидячий образ жизни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ерациональный режим труда и отдыха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Плохие условия труда (отсутствие благоустройства на рабочем месте)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Межличностные отношения в коллектив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Интеллектуально-физические психоэмоциональные перегрузки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еправильная организация общения, преобладание авторитарного стиля руководства ДОУ, отсутствие поддержки коллег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Психотравмирующие моменты в личной, семейной и общественной жизни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Высокая ответственность за жизнь и здоровье воспитанников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6699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Низкая оплата труда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80000" y="247320"/>
            <a:ext cx="53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Внутренние  источники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Индивидуально-личностные особенности воспитателей: эмоциональная возбудимость, неустойчивость эмоций, тревожность, агрессивность, заниженная самооценка, комплекс неполноценност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Отсутствие положительного отношения к себе, неумение любить и принимать себ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Факторы, ослабляющие нервную систему: курение и алкоголь, перенесенные инфекции, длительно текущие соматические заболевания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Физическое и умственное переутомление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Picture 2" descr="C:\Documents and Settings\user\Мои документы\Мои документы\Презентации\картинки для презентаций\MOI17.gif"/>
          <p:cNvPicPr/>
          <p:nvPr/>
        </p:nvPicPr>
        <p:blipFill>
          <a:blip r:embed="rId1"/>
          <a:stretch/>
        </p:blipFill>
        <p:spPr>
          <a:xfrm>
            <a:off x="3995640" y="4930920"/>
            <a:ext cx="194472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04:46:02Z</dcterms:created>
  <dc:creator>1111</dc:creator>
  <dc:description/>
  <dc:language>en-US</dc:language>
  <cp:lastModifiedBy>user</cp:lastModifiedBy>
  <dcterms:modified xsi:type="dcterms:W3CDTF">2012-02-16T08:20:06Z</dcterms:modified>
  <cp:revision>13</cp:revision>
  <dc:subject/>
  <dc:title>Профилактическая работа по оптимизации психологического здоровья педагогов</dc:title>
</cp:coreProperties>
</file>