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wmf" ContentType="image/x-wmf"/>
  <Override PartName="/ppt/media/image12.wmf" ContentType="image/x-wmf"/>
  <Override PartName="/ppt/media/image17.gif" ContentType="image/gif"/>
  <Override PartName="/ppt/media/image16.gif" ContentType="image/gi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8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C03-2E09-4B52-9AB4-B85A5013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584-C047-4B2E-87BA-C40E2FE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399C5-1374-46C9-8325-4776FAA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5AE73-AFDD-4C2A-9A7B-18C5AF6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80D13-15CF-42FF-95F3-75FB141C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695F3-7B07-480C-A691-26FB444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0AA3-408F-45B0-ACD0-B1CD84C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E562-6B31-4552-9A88-1EF3680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F9DCB-9F9C-4B48-ADAB-486998A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26D93-EEFF-4F66-A306-E3BE300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764A-DFEB-49B0-9901-91AF7BE9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18F64-FD76-4073-A20C-DD853D42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0C6-8617-4B3D-8C9F-769BE5A8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FBF02-D5EC-4010-86CD-A1D154ED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520C3-20D2-4A33-B510-114A179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FB61-C55E-483C-8554-4D17705E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198CD-CBCF-4DFC-A123-98EE86C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7CE1F-7458-4467-855F-9B2B3D3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C0C6A-20C5-41B4-9E60-5B021AF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067BF-31E7-4EC5-BE10-7B4CF96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3BCB-6297-4F58-B28C-7D4CB14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AF2DC-7BEE-4879-8D1B-73F470C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170FF-BE08-42E4-B45E-308103F2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116-D8F3-4B04-BC50-243F17B8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2B21A-862D-4350-BE1B-4684BD48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E1F4C-B09A-49C7-B11A-5F731948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8B967-9728-49C6-BDB4-37F77A3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371EA-E462-4517-8940-73ECBFF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07FCE-72CC-44B3-903C-D18081B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D2190-1CEA-423F-A195-AE860F2A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9D1FA-80A0-463E-81EF-F936187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F0075-B3F1-4D84-B59B-828A445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A3484-D632-42F9-99D0-53BA731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06936-793A-4607-A5B1-0937E8A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0A72-43DA-43DA-9DC5-2C076E2C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42BC8-D421-4D9E-9EB6-E05BF7C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3FD3D-75FD-4B76-A296-8C06F1BC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4D9A0-78B2-49C3-96C2-07B637C4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91027-98EC-4809-BA18-7C7AD66A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E274-5CA2-4276-9333-A58520D7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06E0C-F51C-41C7-A80C-05AD428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7601C-1395-426D-853D-0DD4EA5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1AA3F-F129-4C05-97F6-7C7BAD1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D39A-DC10-4CEE-A425-7810349F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35A19-F320-4BE5-9CDE-16215E9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446-2D8A-4FB8-8CBD-EE3E931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E10BC-AE41-4169-9101-4F16E7A6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0CD9D-3186-4084-AA0F-954D990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CA87-C807-471A-B11D-DC156636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DEFA8-5C0C-40CE-92AB-F6B656B3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D1BB5-F3F5-4228-AC92-D43CE79E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6DD-8371-4B7A-AD0B-2F742144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86C4-F10A-4272-ACAD-B1344DB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08D3-0CB7-4CEC-BC4B-BAE75599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646-FA0A-46B0-B753-2A6E67D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7F8-5D3C-4A6E-B0FE-F151429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66A-E827-473F-8E6C-F863A3B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6C62-9354-42FE-AB40-50C294D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D06B-7EEE-44FD-ACC0-E0BFEB9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4236-7043-4A81-8EC0-BFD18BB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DC3F-EBCB-40F4-AF71-EE6AE0B5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129-B32A-4497-B8BA-C97EB28B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C65A-5C5F-44B5-AF70-F84BDE91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B514-9564-483C-9F34-8DA00A8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BC6F-401F-4924-8F20-F050506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8A45-180A-4C4C-A71C-6F0BE93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E55E-9FC3-4663-94E7-6CFFF3E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DA3-08CF-4A3B-BD11-052EEDF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D0CD-F8B6-48ED-9BA4-AA3277F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A7A4-F7AB-43AD-98CE-6BFC189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0EFE-C3ED-4E7D-A3C3-50D8A1D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0D05-C6B8-4A95-A5C8-D6787DD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5E19-0908-4872-9946-EDDE9DE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4153-F443-4288-91F0-CB318ED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04CC-3377-42FF-8714-D13D8A0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4DA1-E9BA-4CD0-95F2-92F8B475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11EE-B641-4DC1-BE2C-1D44A4E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6A27-CE5A-4FF1-9A58-4F26D40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202-D02E-403F-8E67-CCA90C2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D92A-35D7-4FC8-90E0-006D325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3234-1C24-41D5-B266-244DB4B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E3A9-B9AB-4542-AA17-CB8EB93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D244-6DD8-4280-BFE2-8BFDC31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10A5-2817-41C0-89E5-BD87934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EB4A-093A-4D3D-98E2-FCFC559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6910-EF3B-4392-9BCE-58FC9D7C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5DC9-A7F7-4803-8332-ED9ECF7F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48D1-196B-4116-A9A9-B22D10A3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945C-FC77-48A6-A8FB-BB3E27E9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87B-0939-4D3A-A889-A214205B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10CF-BE87-412B-BB94-E44840A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6257-420A-4C80-831C-32290F1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F171-E5CD-4869-A4CC-98DF6B4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5D23F-0334-4E91-9580-C021D0E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84C3-EBDF-4D34-9CEF-D0397F1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6FF3-90BC-4D3D-9073-0E364AC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9242-17E8-4185-848C-2AAB2B7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2521-5215-4F78-9239-2096DCB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3A88-3E9B-48E6-9910-7654AC3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D665-8CA8-4C9D-B14A-341328B4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8BB-A5D0-4720-969F-B36AB47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B263-98BA-4863-AB5B-D6A6F567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17E9-0BEB-4443-9B38-AFB069E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E891-B3A0-49F5-BE45-C236752A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193E-41CA-4412-9F57-7D8B162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D803E-C1BD-4652-840E-41EC9155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75FD7-645F-452C-9FA3-DCE5C61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FD75-A202-4792-94C3-E384859D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8865-A51A-4392-92B7-C9DB16D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55B8-084B-404C-933D-4F2F31A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77A5-8DE8-4007-88C4-5A20D51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39E-C133-456E-B239-845B9DC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6EC5-3CD9-449D-93DA-FCE4B0B7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7FEC4-57EF-484E-A652-A2D74E38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44E9A-2B09-4C99-9F51-DA5CF531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F9AF-C3FF-41E1-B31E-5B58126D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B4B3-0901-4899-A44E-D8E631D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B4795-8E90-4F40-9B17-B349B1C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6781-8A4F-448B-93AC-FD95988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8022-200E-4E3A-B924-973B7A2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3823-1EBE-4053-A531-1C7D6033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BFD0-369A-4C6D-BED1-4C704B1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0E9-7859-4B77-A801-44E15BD0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72C83-A053-4C26-A702-5C540E7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D3D3-F610-48E0-8054-679337F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F7CD-708C-4993-A78D-2782E3D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C227E-23AA-4895-839F-EA573764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512A-1442-4AEC-AA0E-73E2E0F8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4266E-123C-4AEE-81A8-09D20C53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CBC2-55FA-47EF-9D9F-F481829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4DF4F-5FEC-424D-9677-EADB78A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876D8-B487-487A-A548-A94AC4A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CC59-DC5A-4EF1-8D38-70605EA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50A-3431-4C5C-834B-AF5AF0E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0B57-0288-483B-A61C-B05D75B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D474-8650-4F21-91FD-4A8080D6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8E8D4-AF13-4E3A-8C5B-0CB8E9C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A3837-6BFD-4FA8-8E4C-0AE36C3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7B19-C147-465E-94F3-452D4B6A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15920-DF57-4192-AC5D-102F28F5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B79C-E122-4E49-B61A-B52CF588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06DE-8F14-4E6E-8498-DD91010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EF999-82FD-4FE7-8EC7-52BF1A8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44985-1E8D-4586-8281-977F863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DD5-7259-4F3C-A36C-1B13BE9D2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94FC-AC2D-4594-91C0-A0C5B28D2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F949-06AD-4B50-85B9-9DC4C90268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4A9-9DFA-48CB-8748-853F311D23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D23-F46D-40AF-93E8-7219798449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35C5-A1B7-4D23-A69A-A4541A9E2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7F5B-F4D0-468F-9F74-C39D4DD41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9D07-BB47-4E3B-B6F3-2048A44E0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B332-8728-4817-B620-2912B15D1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C5FA-F08B-4EE7-A241-081932BB14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95D2-4180-4A6A-83B1-17DF95778E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418-0D4C-429A-9517-A1C0A6F7A7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6229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f01055"/>
              </a:solidFill>
              <a:uFillTx/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2050560" y="2143080"/>
            <a:ext cx="57214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«Распредел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закон умножен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5 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 flipH="1">
            <a:off x="8748720" y="6524640"/>
            <a:ext cx="395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c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7"/>
          <p:cNvGrpSpPr/>
          <p:nvPr/>
        </p:nvGrpSpPr>
        <p:grpSpPr>
          <a:xfrm>
            <a:off x="324000" y="260280"/>
            <a:ext cx="2407680" cy="1587240"/>
            <a:chOff x="324000" y="260280"/>
            <a:chExt cx="2407680" cy="1587240"/>
          </a:xfrm>
        </p:grpSpPr>
        <p:sp>
          <p:nvSpPr>
            <p:cNvPr id="496" name="Freeform 68"/>
            <p:cNvSpPr/>
            <p:nvPr/>
          </p:nvSpPr>
          <p:spPr>
            <a:xfrm>
              <a:off x="475200" y="366480"/>
              <a:ext cx="1539000" cy="1360080"/>
            </a:xfrm>
            <a:prstGeom prst="pie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9"/>
            <p:cNvSpPr/>
            <p:nvPr/>
          </p:nvSpPr>
          <p:spPr>
            <a:xfrm>
              <a:off x="324000" y="369360"/>
              <a:ext cx="717120" cy="47376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0"/>
            <p:cNvSpPr/>
            <p:nvPr/>
          </p:nvSpPr>
          <p:spPr>
            <a:xfrm>
              <a:off x="475200" y="1796400"/>
              <a:ext cx="1539000" cy="51120"/>
            </a:xfrm>
            <a:prstGeom prst="rect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1"/>
            <p:cNvSpPr/>
            <p:nvPr/>
          </p:nvSpPr>
          <p:spPr>
            <a:xfrm>
              <a:off x="1455120" y="376200"/>
              <a:ext cx="708120" cy="47160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2"/>
            <p:cNvSpPr/>
            <p:nvPr/>
          </p:nvSpPr>
          <p:spPr>
            <a:xfrm>
              <a:off x="1076400" y="1090080"/>
              <a:ext cx="347400" cy="63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3"/>
            <p:cNvSpPr/>
            <p:nvPr/>
          </p:nvSpPr>
          <p:spPr>
            <a:xfrm>
              <a:off x="960840" y="969120"/>
              <a:ext cx="1764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74"/>
            <p:cNvSpPr/>
            <p:nvPr/>
          </p:nvSpPr>
          <p:spPr>
            <a:xfrm>
              <a:off x="655560" y="969120"/>
              <a:ext cx="313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75"/>
            <p:cNvSpPr/>
            <p:nvPr/>
          </p:nvSpPr>
          <p:spPr>
            <a:xfrm>
              <a:off x="655560" y="975960"/>
              <a:ext cx="1548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6"/>
            <p:cNvSpPr/>
            <p:nvPr/>
          </p:nvSpPr>
          <p:spPr>
            <a:xfrm>
              <a:off x="662400" y="1476000"/>
              <a:ext cx="3160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7"/>
            <p:cNvSpPr/>
            <p:nvPr/>
          </p:nvSpPr>
          <p:spPr>
            <a:xfrm>
              <a:off x="664200" y="1117800"/>
              <a:ext cx="3027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8"/>
            <p:cNvSpPr/>
            <p:nvPr/>
          </p:nvSpPr>
          <p:spPr>
            <a:xfrm>
              <a:off x="664200" y="1301400"/>
              <a:ext cx="3027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9"/>
            <p:cNvSpPr/>
            <p:nvPr/>
          </p:nvSpPr>
          <p:spPr>
            <a:xfrm>
              <a:off x="802800" y="984960"/>
              <a:ext cx="1764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80"/>
            <p:cNvSpPr/>
            <p:nvPr/>
          </p:nvSpPr>
          <p:spPr>
            <a:xfrm>
              <a:off x="1820520" y="969120"/>
              <a:ext cx="1548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1"/>
            <p:cNvSpPr/>
            <p:nvPr/>
          </p:nvSpPr>
          <p:spPr>
            <a:xfrm>
              <a:off x="1515240" y="969120"/>
              <a:ext cx="313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2"/>
            <p:cNvSpPr/>
            <p:nvPr/>
          </p:nvSpPr>
          <p:spPr>
            <a:xfrm>
              <a:off x="1515240" y="975960"/>
              <a:ext cx="1548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3"/>
            <p:cNvSpPr/>
            <p:nvPr/>
          </p:nvSpPr>
          <p:spPr>
            <a:xfrm>
              <a:off x="1524600" y="1476000"/>
              <a:ext cx="3114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4"/>
            <p:cNvSpPr/>
            <p:nvPr/>
          </p:nvSpPr>
          <p:spPr>
            <a:xfrm>
              <a:off x="1528560" y="1117800"/>
              <a:ext cx="2962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85"/>
            <p:cNvSpPr/>
            <p:nvPr/>
          </p:nvSpPr>
          <p:spPr>
            <a:xfrm>
              <a:off x="1528560" y="1301400"/>
              <a:ext cx="2962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6"/>
            <p:cNvSpPr/>
            <p:nvPr/>
          </p:nvSpPr>
          <p:spPr>
            <a:xfrm>
              <a:off x="1662480" y="984960"/>
              <a:ext cx="1764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7"/>
            <p:cNvSpPr/>
            <p:nvPr/>
          </p:nvSpPr>
          <p:spPr>
            <a:xfrm>
              <a:off x="1410840" y="952920"/>
              <a:ext cx="1548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8"/>
            <p:cNvSpPr/>
            <p:nvPr/>
          </p:nvSpPr>
          <p:spPr>
            <a:xfrm>
              <a:off x="1076400" y="806400"/>
              <a:ext cx="34992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9"/>
            <p:cNvSpPr/>
            <p:nvPr/>
          </p:nvSpPr>
          <p:spPr>
            <a:xfrm>
              <a:off x="1076400" y="952920"/>
              <a:ext cx="15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90"/>
            <p:cNvSpPr/>
            <p:nvPr/>
          </p:nvSpPr>
          <p:spPr>
            <a:xfrm>
              <a:off x="1085400" y="973440"/>
              <a:ext cx="34092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91"/>
            <p:cNvSpPr/>
            <p:nvPr/>
          </p:nvSpPr>
          <p:spPr>
            <a:xfrm>
              <a:off x="1245600" y="815400"/>
              <a:ext cx="1548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92"/>
            <p:cNvSpPr/>
            <p:nvPr/>
          </p:nvSpPr>
          <p:spPr>
            <a:xfrm>
              <a:off x="1248120" y="854640"/>
              <a:ext cx="1378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93"/>
            <p:cNvSpPr/>
            <p:nvPr/>
          </p:nvSpPr>
          <p:spPr>
            <a:xfrm>
              <a:off x="1125360" y="852840"/>
              <a:ext cx="133560" cy="13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94"/>
            <p:cNvSpPr/>
            <p:nvPr/>
          </p:nvSpPr>
          <p:spPr>
            <a:xfrm>
              <a:off x="1118880" y="260280"/>
              <a:ext cx="146880" cy="1112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95"/>
            <p:cNvSpPr/>
            <p:nvPr/>
          </p:nvSpPr>
          <p:spPr>
            <a:xfrm>
              <a:off x="1755720" y="838800"/>
              <a:ext cx="207000" cy="232200"/>
            </a:xfrm>
            <a:prstGeom prst="pie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6"/>
            <p:cNvSpPr/>
            <p:nvPr/>
          </p:nvSpPr>
          <p:spPr>
            <a:xfrm>
              <a:off x="2081160" y="961920"/>
              <a:ext cx="93240" cy="1605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7"/>
            <p:cNvSpPr/>
            <p:nvPr/>
          </p:nvSpPr>
          <p:spPr>
            <a:xfrm>
              <a:off x="738000" y="1038960"/>
              <a:ext cx="189360" cy="1159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8"/>
            <p:cNvSpPr/>
            <p:nvPr/>
          </p:nvSpPr>
          <p:spPr>
            <a:xfrm>
              <a:off x="887040" y="1550160"/>
              <a:ext cx="167040" cy="1695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9"/>
            <p:cNvSpPr/>
            <p:nvPr/>
          </p:nvSpPr>
          <p:spPr>
            <a:xfrm>
              <a:off x="960840" y="543600"/>
              <a:ext cx="178200" cy="259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00"/>
            <p:cNvSpPr/>
            <p:nvPr/>
          </p:nvSpPr>
          <p:spPr>
            <a:xfrm>
              <a:off x="1384200" y="522720"/>
              <a:ext cx="175680" cy="925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1"/>
            <p:cNvSpPr/>
            <p:nvPr/>
          </p:nvSpPr>
          <p:spPr>
            <a:xfrm>
              <a:off x="2555280" y="1459440"/>
              <a:ext cx="82080" cy="81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2"/>
            <p:cNvSpPr/>
            <p:nvPr/>
          </p:nvSpPr>
          <p:spPr>
            <a:xfrm>
              <a:off x="2384280" y="1487520"/>
              <a:ext cx="34740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03"/>
            <p:cNvSpPr/>
            <p:nvPr/>
          </p:nvSpPr>
          <p:spPr>
            <a:xfrm>
              <a:off x="1863000" y="1370880"/>
              <a:ext cx="267120" cy="37872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4"/>
            <p:cNvSpPr/>
            <p:nvPr/>
          </p:nvSpPr>
          <p:spPr>
            <a:xfrm>
              <a:off x="1880640" y="1469160"/>
              <a:ext cx="146880" cy="90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05"/>
            <p:cNvSpPr/>
            <p:nvPr/>
          </p:nvSpPr>
          <p:spPr>
            <a:xfrm>
              <a:off x="2170080" y="1370880"/>
              <a:ext cx="267480" cy="3816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6"/>
            <p:cNvSpPr/>
            <p:nvPr/>
          </p:nvSpPr>
          <p:spPr>
            <a:xfrm>
              <a:off x="2301840" y="1499040"/>
              <a:ext cx="46440" cy="558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7"/>
            <p:cNvSpPr/>
            <p:nvPr/>
          </p:nvSpPr>
          <p:spPr>
            <a:xfrm>
              <a:off x="2166120" y="1454760"/>
              <a:ext cx="113400" cy="144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8"/>
            <p:cNvSpPr/>
            <p:nvPr/>
          </p:nvSpPr>
          <p:spPr>
            <a:xfrm>
              <a:off x="1551240" y="1422000"/>
              <a:ext cx="24480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9"/>
            <p:cNvSpPr/>
            <p:nvPr/>
          </p:nvSpPr>
          <p:spPr>
            <a:xfrm>
              <a:off x="1497600" y="1515240"/>
              <a:ext cx="131040" cy="788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10"/>
            <p:cNvSpPr/>
            <p:nvPr/>
          </p:nvSpPr>
          <p:spPr>
            <a:xfrm>
              <a:off x="1060920" y="1171080"/>
              <a:ext cx="421200" cy="567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11"/>
            <p:cNvSpPr/>
            <p:nvPr/>
          </p:nvSpPr>
          <p:spPr>
            <a:xfrm flipV="1">
              <a:off x="923040" y="303840"/>
              <a:ext cx="32040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12"/>
            <p:cNvSpPr/>
            <p:nvPr/>
          </p:nvSpPr>
          <p:spPr>
            <a:xfrm flipH="1" flipV="1">
              <a:off x="1243440" y="303840"/>
              <a:ext cx="21348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WordArt 167"/>
          <p:cNvSpPr txBox="1"/>
          <p:nvPr/>
        </p:nvSpPr>
        <p:spPr>
          <a:xfrm>
            <a:off x="2786040" y="5357880"/>
            <a:ext cx="4786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73"/>
                </a:solidFill>
                <a:latin typeface="Times New Roman"/>
              </a:rPr>
              <a:t> 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73"/>
                </a:solidFill>
                <a:latin typeface="Times New Roman"/>
              </a:rPr>
              <a:t>МБОУ СОШ №47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26267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73"/>
                </a:solidFill>
                <a:latin typeface="Times New Roman"/>
              </a:rPr>
              <a:t>Учитель: Котикова Ольга Александров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262673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01a4e"/>
                </a:solidFill>
                <a:uFillTx/>
                <a:latin typeface="Arial"/>
              </a:rPr>
              <a:t>Этап  №3.  «Математическая  эстафе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99ff"/>
                </a:solidFill>
                <a:uFillTx/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601a4e"/>
                </a:solidFill>
                <a:uFillTx/>
                <a:latin typeface="Times New Roman"/>
              </a:rPr>
              <a:t>        </a:t>
            </a:r>
            <a:r>
              <a:rPr b="1" lang="ru-RU" sz="2000" spc="-1" strike="noStrike" u="sng">
                <a:solidFill>
                  <a:srgbClr val="601a4e"/>
                </a:solidFill>
                <a:uFillTx/>
                <a:latin typeface="Times New Roman"/>
              </a:rPr>
              <a:t>1 ряд                                     2 ряд                                   3 ряд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1) 25х + 87х = 336;             1) 66у – 29у = 74;              1) 54х + 41х = 19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2) 41у – 21у + у;                 2) 92х + х - 33х;                 2) 63а + а - 51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3) 16а – 9а + 5 = 75;           3) 25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k – 16k + 5 = 86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 3) 39х – 27х + 15 = 6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4) 45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b +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24b – 69b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     4) 74с + 47с – 121с;            4) 45у + 31у - 76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5) 18х + 62х – 15=145;      5) 16а + 73а – 26 =152;      5) 58х + 96х – 54 =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6)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99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k – 19 k + k – 81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6) 46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d -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24d + d -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23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   6) 61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k – 57k + k – 5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7) 44х – 22х = 880;            7) 77у – 55у = 660;             7) 99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d – 11d = 176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8) 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n + 2n – 3n + 2008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 8) 9</a:t>
            </a:r>
            <a:r>
              <a:rPr b="1" lang="en-US" sz="2000" spc="-1" strike="noStrike">
                <a:solidFill>
                  <a:srgbClr val="601a4e"/>
                </a:solidFill>
                <a:latin typeface="Times New Roman"/>
              </a:rPr>
              <a:t>t – 5t – 4t + 2009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;         8) х + 5х - 6х + 20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9) 55х – 13х – 17х = 625.  9) 47у + 53у – 80у = 180.  9) 42у + 98у – 40у = 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acd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5"/>
          <p:cNvSpPr/>
          <p:nvPr/>
        </p:nvSpPr>
        <p:spPr>
          <a:xfrm>
            <a:off x="3132000" y="1197000"/>
            <a:ext cx="0" cy="367200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6"/>
          <p:cNvSpPr/>
          <p:nvPr/>
        </p:nvSpPr>
        <p:spPr>
          <a:xfrm>
            <a:off x="572436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"/>
          <p:cNvSpPr/>
          <p:nvPr/>
        </p:nvSpPr>
        <p:spPr>
          <a:xfrm>
            <a:off x="5867280" y="1197000"/>
            <a:ext cx="0" cy="374472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8"/>
          <p:cNvSpPr/>
          <p:nvPr/>
        </p:nvSpPr>
        <p:spPr>
          <a:xfrm flipH="1">
            <a:off x="395280" y="1197000"/>
            <a:ext cx="8353440" cy="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0"/>
          <p:cNvSpPr/>
          <p:nvPr/>
        </p:nvSpPr>
        <p:spPr>
          <a:xfrm>
            <a:off x="8748720" y="1197000"/>
            <a:ext cx="0" cy="367200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324000" y="1197000"/>
            <a:ext cx="0" cy="374472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3"/>
          <p:cNvSpPr/>
          <p:nvPr/>
        </p:nvSpPr>
        <p:spPr>
          <a:xfrm>
            <a:off x="324000" y="4941720"/>
            <a:ext cx="8424720" cy="0"/>
          </a:xfrm>
          <a:prstGeom prst="line">
            <a:avLst/>
          </a:prstGeom>
          <a:ln w="9360">
            <a:solidFill>
              <a:srgbClr val="dae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14" descr="BD06662_"/>
          <p:cNvPicPr/>
          <p:nvPr/>
        </p:nvPicPr>
        <p:blipFill>
          <a:blip r:embed="rId1"/>
          <a:stretch/>
        </p:blipFill>
        <p:spPr>
          <a:xfrm>
            <a:off x="3348000" y="4941720"/>
            <a:ext cx="2519280" cy="1916280"/>
          </a:xfrm>
          <a:prstGeom prst="rect">
            <a:avLst/>
          </a:prstGeom>
          <a:ln w="0">
            <a:noFill/>
          </a:ln>
        </p:spPr>
      </p:pic>
      <p:sp>
        <p:nvSpPr>
          <p:cNvPr id="716" name="WordArt 15"/>
          <p:cNvSpPr txBox="1"/>
          <p:nvPr/>
        </p:nvSpPr>
        <p:spPr>
          <a:xfrm>
            <a:off x="2195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.ru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63 -0.15079 C -0.13767 -0.11748 -0.07656 -0.08811 0.00035 -0.08696 C 0.06128 -0.08418 0.11128 -0.10014 0.11233 -0.12026 C 0.11233 -0.14015 0.06337 -0.15888 0.00139 -0.16004 C -0.02969 -0.16004 -0.05764 -0.15749 -0.0776 -0.15079 C -0.1066 -0.14154 -0.12361 -0.12674 -0.12361 -0.10939 C -0.12361 -0.10014 -0.11858 -0.09089 -0.10955 -0.08279 C -0.08872 -0.06545 -0.04757 -0.05365 -0.00069 -0.05227 C 0.05434 -0.04949 0.09931 -0.06429 0.09931 -0.08141 C 0.10035 -0.10014 0.05538 -0.1161 0.00035 -0.11887 C -0.0276 -0.11887 -0.0526 -0.1161 -0.0717 -0.11078 C -0.0967 -0.10153 -0.11267 -0.08696 -0.11267 -0.07216 C -0.11267 -0.06429 -0.10764 -0.0562 -0.09965 -0.0481 C -0.08056 -0.03353 -0.04462 -0.02151 -0.00156 -0.02035 C 0.04844 -0.01896 0.08837 -0.03215 0.08837 -0.0481 C 0.08941 -0.06429 0.04931 -0.07886 -0.00069 -0.08025 C -0.02569 -0.08141 -0.04861 -0.07886 -0.06563 -0.07354 C -0.08872 -0.06545 -0.10156 -0.05365 -0.10156 -0.03885 C -0.10156 -0.03215 -0.09757 -0.02428 -0.09063 -0.01758 C -0.07361 -0.00416 -0.04063 0.00647 -0.0026 0.00763 C 0.04236 0.00763 0.0783 -0.00301 0.0783 -0.01758 C 0.0783 -0.03215 0.0434 -0.04556 -0.00156 -0.04695 C -0.02361 -0.04695 -0.04462 -0.04417 -0.05955 -0.04024 C -0.08056 -0.03353 -0.09271 -0.02151 -0.09358 -0.00948 C -0.09358 -0.00301 -0.08872 0.0037 -0.08264 0.00902 C -0.06771 0.02243 -0.03767 0.03168 -0.00365 0.03168 C 0.03628 0.03307 0.06944 0.02382 0.06944 0.01041 C 0.07031 -0.00301 0.03733 -0.0148 -0.0026 -0.01619 C -0.02257 -0.01619 -0.04167 -0.0148 -0.05469 -0.00948 C -0.07361 -0.00416 -0.08455 0.00647 -0.08455 0.01711 C -0.08455 0.02382 -0.0816 0.02914 -0.07569 0.03446 C -0.06163 0.04625 -0.03559 0.05435 -0.00469 0.05573 C 0.03229 0.05573 0.06128 0.04764 0.06128 0.03561 C 0.06233 0.02382 0.03333 0.01295 -0.00365 0.01179 C -0.0217 0.01179 -0.03767 0.01295 -0.04965 0.01711 C -0.06667 0.02243 -0.07656 0.03168 -0.07656 0.04232 C -0.07656 0.04764 -0.07361 0.0518 -0.06858 0.05712 C -0.0566 0.06776 -0.03264 0.07424 -0.00469 0.07562 C 0.0283 0.07701 0.05434 0.06892 0.05434 0.05712 C 0.05434 0.04764 0.02934 0.037 -0.00365 0.037 C -0.02066 0.03561 -0.03559 0.03839 -0.0467 0.04093 C -0.06163 0.04625 -0.07066 0.05435 -0.07066 0.0636 C -0.07066 0.06892 -0.06771 0.07308 -0.06267 0.07701 C -0.05156 0.08626 -0.02969 0.09297 -0.00556 0.09436 C 0.02431 0.09574 0.04844 0.08765 0.04844 0.0784 C 0.04844 0.06776 0.02431 0.05967 -0.00469 0.05828 C -0.01858 0.05828 -0.03264 0.05967 -0.04271 0.0636 C -0.0566 0.06776 -0.06458 0.07424 -0.06458 0.08372 C -0.06458 0.08765 -0.06163 0.09158 -0.05764 0.09574 C -0.04757 0.10361 -0.02865 0.11031 -0.00556 0.11031 C 0.02031 0.1117 0.04236 0.10499 0.04236 0.09574 C 0.04236 0.08765 0.02135 0.07956 -0.00556 0.07956 C -0.01771 0.0784 -0.03056 0.07956 -0.03958 0.08233 C -0.05156 0.08765 -0.05868 0.09436 -0.05868 0.10106 C -0.05868 0.10499 -0.0566 0.10893 -0.0526 0.1117 C -0.04358 0.11956 -0.02656 0.12488 -0.00556 0.12627 C 0.0184 0.12627 0.03733 0.11956 0.03733 0.11286 C 0.03733 0.10499 0.0184 0.0969 -0.00556 0.0969 C -0.01771 0.0969 -0.02865 0.09829 -0.03559 0.10106 C -0.04757 0.10361 -0.05365 0.11031 -0.05365 0.11702 C -0.05365 0.11956 -0.05156 0.12373 -0.04861 0.12627 C -0.04063 0.13437 -0.02465 0.1383 -0.0066 0.13968 C 0.01545 0.13968 0.03229 0.13437 0.03229 0.12766 C 0.03229 0.11956 0.01545 0.11425 -0.00556 0.11286 C -0.01667 0.11286 -0.02656 0.11425 -0.03368 0.11702 C -0.04358 0.11956 -0.04965 0.12488 -0.04965 0.13159 C -0.04965 0.13437 -0.04757 0.13691 -0.04462 0.13968 E">
                                      <p:cBhvr>
                                        <p:cTn id="459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c09f7"/>
                </a:solidFill>
                <a:uFillTx/>
                <a:latin typeface="Arial"/>
              </a:rPr>
              <a:t>Этап 3. «Математическая эстафета»</a:t>
            </a:r>
            <a:br>
              <a:rPr sz="3200"/>
            </a:br>
            <a:r>
              <a:rPr b="1" lang="ru-RU" sz="2800" spc="-1" strike="noStrike" u="sng">
                <a:solidFill>
                  <a:srgbClr val="3c09f7"/>
                </a:solidFill>
                <a:uFillTx/>
                <a:latin typeface="Arial"/>
              </a:rPr>
              <a:t>Ответы:</a:t>
            </a:r>
            <a:r>
              <a:rPr b="1" lang="en-US" sz="2800" spc="-1" strike="noStrike" u="sng">
                <a:solidFill>
                  <a:srgbClr val="3c09f7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1 ряд              2ряд             3 ря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3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1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y = 2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1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=2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21y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2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60x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  2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1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a = 10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3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k = 9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3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    4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      4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2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5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a = 2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5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1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81k – 81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6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23d – 23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6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5k –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7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40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7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y = 30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7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d =2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8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2008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8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2009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8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9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x = 25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9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y = 9</a:t>
            </a:r>
            <a:r>
              <a:rPr b="1" lang="ru-RU" sz="2400" spc="-1" strike="noStrike">
                <a:solidFill>
                  <a:srgbClr val="8dc6ff"/>
                </a:solidFill>
                <a:latin typeface="Arial"/>
              </a:rPr>
              <a:t>            9. </a:t>
            </a:r>
            <a:r>
              <a:rPr b="1" lang="en-US" sz="2400" spc="-1" strike="noStrike">
                <a:solidFill>
                  <a:srgbClr val="8dc6ff"/>
                </a:solidFill>
                <a:latin typeface="Arial"/>
              </a:rPr>
              <a:t>y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2627280" y="2349360"/>
            <a:ext cx="5257800" cy="1800"/>
          </a:xfrm>
          <a:prstGeom prst="line">
            <a:avLst/>
          </a:prstGeom>
          <a:ln w="9360">
            <a:solidFill>
              <a:srgbClr val="3c0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4572000" y="1989000"/>
            <a:ext cx="1440" cy="3527640"/>
          </a:xfrm>
          <a:prstGeom prst="line">
            <a:avLst/>
          </a:prstGeom>
          <a:ln w="9360">
            <a:solidFill>
              <a:srgbClr val="3c0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5651640" y="220500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6516720" y="1989000"/>
            <a:ext cx="1440" cy="3527640"/>
          </a:xfrm>
          <a:prstGeom prst="line">
            <a:avLst/>
          </a:prstGeom>
          <a:ln w="9360">
            <a:solidFill>
              <a:srgbClr val="3c0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13"/>
          <p:cNvGrpSpPr/>
          <p:nvPr/>
        </p:nvGrpSpPr>
        <p:grpSpPr>
          <a:xfrm>
            <a:off x="0" y="1125360"/>
            <a:ext cx="8819640" cy="5545080"/>
            <a:chOff x="0" y="1125360"/>
            <a:chExt cx="8819640" cy="5545080"/>
          </a:xfrm>
        </p:grpSpPr>
        <p:sp>
          <p:nvSpPr>
            <p:cNvPr id="725" name="AutoShape 12"/>
            <p:cNvSpPr/>
            <p:nvPr/>
          </p:nvSpPr>
          <p:spPr>
            <a:xfrm>
              <a:off x="4320" y="1132200"/>
              <a:ext cx="8815320" cy="55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92"/>
            <p:cNvGrpSpPr/>
            <p:nvPr/>
          </p:nvGrpSpPr>
          <p:grpSpPr>
            <a:xfrm>
              <a:off x="182160" y="1301760"/>
              <a:ext cx="8632440" cy="5367960"/>
              <a:chOff x="182160" y="1301760"/>
              <a:chExt cx="8632440" cy="5367960"/>
            </a:xfrm>
          </p:grpSpPr>
          <p:grpSp>
            <p:nvGrpSpPr>
              <p:cNvPr id="727" name="Group 76"/>
              <p:cNvGrpSpPr/>
              <p:nvPr/>
            </p:nvGrpSpPr>
            <p:grpSpPr>
              <a:xfrm>
                <a:off x="182160" y="1301760"/>
                <a:ext cx="8632440" cy="5367960"/>
                <a:chOff x="182160" y="1301760"/>
                <a:chExt cx="8632440" cy="5367960"/>
              </a:xfrm>
            </p:grpSpPr>
            <p:grpSp>
              <p:nvGrpSpPr>
                <p:cNvPr id="728" name="Group 74"/>
                <p:cNvGrpSpPr/>
                <p:nvPr/>
              </p:nvGrpSpPr>
              <p:grpSpPr>
                <a:xfrm>
                  <a:off x="182160" y="1301760"/>
                  <a:ext cx="8632440" cy="5367960"/>
                  <a:chOff x="182160" y="1301760"/>
                  <a:chExt cx="8632440" cy="5367960"/>
                </a:xfrm>
              </p:grpSpPr>
              <p:grpSp>
                <p:nvGrpSpPr>
                  <p:cNvPr id="729" name="Group 50"/>
                  <p:cNvGrpSpPr/>
                  <p:nvPr/>
                </p:nvGrpSpPr>
                <p:grpSpPr>
                  <a:xfrm>
                    <a:off x="182160" y="1301760"/>
                    <a:ext cx="8632440" cy="5367960"/>
                    <a:chOff x="182160" y="1301760"/>
                    <a:chExt cx="8632440" cy="5367960"/>
                  </a:xfrm>
                </p:grpSpPr>
                <p:grpSp>
                  <p:nvGrpSpPr>
                    <p:cNvPr id="730" name="Group 46"/>
                    <p:cNvGrpSpPr/>
                    <p:nvPr/>
                  </p:nvGrpSpPr>
                  <p:grpSpPr>
                    <a:xfrm>
                      <a:off x="182160" y="1301760"/>
                      <a:ext cx="8632440" cy="5367960"/>
                      <a:chOff x="182160" y="1301760"/>
                      <a:chExt cx="8632440" cy="5367960"/>
                    </a:xfrm>
                  </p:grpSpPr>
                  <p:grpSp>
                    <p:nvGrpSpPr>
                      <p:cNvPr id="731" name="Group 30"/>
                      <p:cNvGrpSpPr/>
                      <p:nvPr/>
                    </p:nvGrpSpPr>
                    <p:grpSpPr>
                      <a:xfrm>
                        <a:off x="182160" y="5519520"/>
                        <a:ext cx="8249760" cy="1150200"/>
                        <a:chOff x="182160" y="5519520"/>
                        <a:chExt cx="8249760" cy="1150200"/>
                      </a:xfrm>
                    </p:grpSpPr>
                    <p:grpSp>
                      <p:nvGrpSpPr>
                        <p:cNvPr id="732" name="Group 28"/>
                        <p:cNvGrpSpPr/>
                        <p:nvPr/>
                      </p:nvGrpSpPr>
                      <p:grpSpPr>
                        <a:xfrm>
                          <a:off x="182160" y="5592240"/>
                          <a:ext cx="8249760" cy="1077480"/>
                          <a:chOff x="182160" y="5592240"/>
                          <a:chExt cx="8249760" cy="1077480"/>
                        </a:xfrm>
                      </p:grpSpPr>
                      <p:sp>
                        <p:nvSpPr>
                          <p:cNvPr id="733" name="Oval 14"/>
                          <p:cNvSpPr/>
                          <p:nvPr/>
                        </p:nvSpPr>
                        <p:spPr>
                          <a:xfrm>
                            <a:off x="182160" y="5969880"/>
                            <a:ext cx="881280" cy="43164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4" name="Oval 15"/>
                          <p:cNvSpPr/>
                          <p:nvPr/>
                        </p:nvSpPr>
                        <p:spPr>
                          <a:xfrm>
                            <a:off x="503280" y="5671800"/>
                            <a:ext cx="881280" cy="43452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5" name="Oval 16"/>
                          <p:cNvSpPr/>
                          <p:nvPr/>
                        </p:nvSpPr>
                        <p:spPr>
                          <a:xfrm>
                            <a:off x="1050840" y="5712120"/>
                            <a:ext cx="884520" cy="43452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6" name="Oval 17"/>
                          <p:cNvSpPr/>
                          <p:nvPr/>
                        </p:nvSpPr>
                        <p:spPr>
                          <a:xfrm>
                            <a:off x="2013840" y="5950080"/>
                            <a:ext cx="927000" cy="55008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7" name="Oval 18"/>
                          <p:cNvSpPr/>
                          <p:nvPr/>
                        </p:nvSpPr>
                        <p:spPr>
                          <a:xfrm>
                            <a:off x="790920" y="6022800"/>
                            <a:ext cx="1311480" cy="64692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8" name="Oval 19"/>
                          <p:cNvSpPr/>
                          <p:nvPr/>
                        </p:nvSpPr>
                        <p:spPr>
                          <a:xfrm>
                            <a:off x="2806560" y="6049800"/>
                            <a:ext cx="881280" cy="43056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9" name="Oval 20"/>
                          <p:cNvSpPr/>
                          <p:nvPr/>
                        </p:nvSpPr>
                        <p:spPr>
                          <a:xfrm>
                            <a:off x="3493440" y="6009840"/>
                            <a:ext cx="728280" cy="53028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0" name="Oval 21"/>
                          <p:cNvSpPr/>
                          <p:nvPr/>
                        </p:nvSpPr>
                        <p:spPr>
                          <a:xfrm>
                            <a:off x="4118040" y="6009840"/>
                            <a:ext cx="730080" cy="57024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1" name="Oval 22"/>
                          <p:cNvSpPr/>
                          <p:nvPr/>
                        </p:nvSpPr>
                        <p:spPr>
                          <a:xfrm>
                            <a:off x="4636800" y="6149520"/>
                            <a:ext cx="758880" cy="45036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2" name="Oval 23"/>
                          <p:cNvSpPr/>
                          <p:nvPr/>
                        </p:nvSpPr>
                        <p:spPr>
                          <a:xfrm>
                            <a:off x="5337720" y="5890320"/>
                            <a:ext cx="501480" cy="63000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3" name="Oval 24"/>
                          <p:cNvSpPr/>
                          <p:nvPr/>
                        </p:nvSpPr>
                        <p:spPr>
                          <a:xfrm>
                            <a:off x="5720400" y="5592240"/>
                            <a:ext cx="730080" cy="72972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Oval 25"/>
                          <p:cNvSpPr/>
                          <p:nvPr/>
                        </p:nvSpPr>
                        <p:spPr>
                          <a:xfrm>
                            <a:off x="6239160" y="5691960"/>
                            <a:ext cx="820080" cy="70992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5" name="Oval 26"/>
                          <p:cNvSpPr/>
                          <p:nvPr/>
                        </p:nvSpPr>
                        <p:spPr>
                          <a:xfrm>
                            <a:off x="6863400" y="5811480"/>
                            <a:ext cx="898200" cy="59004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6" name="Oval 27"/>
                          <p:cNvSpPr/>
                          <p:nvPr/>
                        </p:nvSpPr>
                        <p:spPr>
                          <a:xfrm>
                            <a:off x="7581600" y="5691960"/>
                            <a:ext cx="850320" cy="649800"/>
                          </a:xfrm>
                          <a:prstGeom prst="ellipse">
                            <a:avLst/>
                          </a:prstGeom>
                          <a:solidFill>
                            <a:srgbClr val="ff5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47" name="Oval 29"/>
                        <p:cNvSpPr/>
                        <p:nvPr/>
                      </p:nvSpPr>
                      <p:spPr>
                        <a:xfrm>
                          <a:off x="7673040" y="5519520"/>
                          <a:ext cx="636840" cy="573120"/>
                        </a:xfrm>
                        <a:prstGeom prst="ellipse">
                          <a:avLst/>
                        </a:prstGeom>
                        <a:solidFill>
                          <a:srgbClr val="ffb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48" name="Group 45"/>
                      <p:cNvGrpSpPr/>
                      <p:nvPr/>
                    </p:nvGrpSpPr>
                    <p:grpSpPr>
                      <a:xfrm>
                        <a:off x="2439360" y="1301760"/>
                        <a:ext cx="6375240" cy="5142960"/>
                        <a:chOff x="2439360" y="1301760"/>
                        <a:chExt cx="6375240" cy="5142960"/>
                      </a:xfrm>
                    </p:grpSpPr>
                    <p:sp>
                      <p:nvSpPr>
                        <p:cNvPr id="749" name="Oval 31"/>
                        <p:cNvSpPr/>
                        <p:nvPr/>
                      </p:nvSpPr>
                      <p:spPr>
                        <a:xfrm>
                          <a:off x="3585600" y="1450080"/>
                          <a:ext cx="896760" cy="119448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Oval 32"/>
                        <p:cNvSpPr/>
                        <p:nvPr/>
                      </p:nvSpPr>
                      <p:spPr>
                        <a:xfrm>
                          <a:off x="4575600" y="1301760"/>
                          <a:ext cx="896760" cy="119628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Oval 33"/>
                        <p:cNvSpPr/>
                        <p:nvPr/>
                      </p:nvSpPr>
                      <p:spPr>
                        <a:xfrm>
                          <a:off x="2867760" y="2064600"/>
                          <a:ext cx="894960" cy="119592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2" name="Oval 34"/>
                        <p:cNvSpPr/>
                        <p:nvPr/>
                      </p:nvSpPr>
                      <p:spPr>
                        <a:xfrm>
                          <a:off x="2439360" y="3115800"/>
                          <a:ext cx="899640" cy="119592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Oval 35"/>
                        <p:cNvSpPr/>
                        <p:nvPr/>
                      </p:nvSpPr>
                      <p:spPr>
                        <a:xfrm>
                          <a:off x="2746800" y="5339880"/>
                          <a:ext cx="696240" cy="92520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4" name="Oval 36"/>
                        <p:cNvSpPr/>
                        <p:nvPr/>
                      </p:nvSpPr>
                      <p:spPr>
                        <a:xfrm>
                          <a:off x="2670480" y="4186440"/>
                          <a:ext cx="527760" cy="69984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5" name="Oval 37"/>
                        <p:cNvSpPr/>
                        <p:nvPr/>
                      </p:nvSpPr>
                      <p:spPr>
                        <a:xfrm>
                          <a:off x="2603160" y="4631040"/>
                          <a:ext cx="587520" cy="77832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6" name="Oval 38"/>
                        <p:cNvSpPr/>
                        <p:nvPr/>
                      </p:nvSpPr>
                      <p:spPr>
                        <a:xfrm>
                          <a:off x="3914640" y="5529600"/>
                          <a:ext cx="1517760" cy="91512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7" name="Oval 39"/>
                        <p:cNvSpPr/>
                        <p:nvPr/>
                      </p:nvSpPr>
                      <p:spPr>
                        <a:xfrm>
                          <a:off x="6154920" y="1536840"/>
                          <a:ext cx="896760" cy="120060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Oval 40"/>
                        <p:cNvSpPr/>
                        <p:nvPr/>
                      </p:nvSpPr>
                      <p:spPr>
                        <a:xfrm>
                          <a:off x="7601040" y="1407240"/>
                          <a:ext cx="612000" cy="82548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Oval 41"/>
                        <p:cNvSpPr/>
                        <p:nvPr/>
                      </p:nvSpPr>
                      <p:spPr>
                        <a:xfrm>
                          <a:off x="7324200" y="1719360"/>
                          <a:ext cx="451440" cy="59616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Oval 42"/>
                        <p:cNvSpPr/>
                        <p:nvPr/>
                      </p:nvSpPr>
                      <p:spPr>
                        <a:xfrm>
                          <a:off x="7492680" y="1749600"/>
                          <a:ext cx="1321920" cy="176364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Oval 43"/>
                        <p:cNvSpPr/>
                        <p:nvPr/>
                      </p:nvSpPr>
                      <p:spPr>
                        <a:xfrm>
                          <a:off x="7879320" y="4358880"/>
                          <a:ext cx="759240" cy="102492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Oval 44"/>
                        <p:cNvSpPr/>
                        <p:nvPr/>
                      </p:nvSpPr>
                      <p:spPr>
                        <a:xfrm>
                          <a:off x="7285680" y="4686840"/>
                          <a:ext cx="1013040" cy="1362960"/>
                        </a:xfrm>
                        <a:prstGeom prst="ellipse">
                          <a:avLst/>
                        </a:pr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63" name="Group 49"/>
                    <p:cNvGrpSpPr/>
                    <p:nvPr/>
                  </p:nvGrpSpPr>
                  <p:grpSpPr>
                    <a:xfrm>
                      <a:off x="7332120" y="1477080"/>
                      <a:ext cx="808920" cy="905040"/>
                      <a:chOff x="7332120" y="1477080"/>
                      <a:chExt cx="808920" cy="905040"/>
                    </a:xfrm>
                  </p:grpSpPr>
                  <p:sp>
                    <p:nvSpPr>
                      <p:cNvPr id="764" name="Oval 47"/>
                      <p:cNvSpPr/>
                      <p:nvPr/>
                    </p:nvSpPr>
                    <p:spPr>
                      <a:xfrm>
                        <a:off x="7611840" y="1477080"/>
                        <a:ext cx="529200" cy="68976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Oval 48"/>
                      <p:cNvSpPr/>
                      <p:nvPr/>
                    </p:nvSpPr>
                    <p:spPr>
                      <a:xfrm>
                        <a:off x="7332120" y="1807560"/>
                        <a:ext cx="410040" cy="574560"/>
                      </a:xfrm>
                      <a:prstGeom prst="ellipse">
                        <a:avLst/>
                      </a:pr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66" name="Group 73"/>
                  <p:cNvGrpSpPr/>
                  <p:nvPr/>
                </p:nvGrpSpPr>
                <p:grpSpPr>
                  <a:xfrm>
                    <a:off x="2515680" y="1317600"/>
                    <a:ext cx="6207120" cy="5130000"/>
                    <a:chOff x="2515680" y="1317600"/>
                    <a:chExt cx="6207120" cy="5130000"/>
                  </a:xfrm>
                </p:grpSpPr>
                <p:sp>
                  <p:nvSpPr>
                    <p:cNvPr id="767" name="Oval 51"/>
                    <p:cNvSpPr/>
                    <p:nvPr/>
                  </p:nvSpPr>
                  <p:spPr>
                    <a:xfrm>
                      <a:off x="3677040" y="1542960"/>
                      <a:ext cx="774360" cy="1004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52"/>
                    <p:cNvSpPr/>
                    <p:nvPr/>
                  </p:nvSpPr>
                  <p:spPr>
                    <a:xfrm>
                      <a:off x="2668680" y="4766760"/>
                      <a:ext cx="532440" cy="689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Oval 53"/>
                    <p:cNvSpPr/>
                    <p:nvPr/>
                  </p:nvSpPr>
                  <p:spPr>
                    <a:xfrm>
                      <a:off x="7841520" y="3834000"/>
                      <a:ext cx="529560" cy="689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Oval 54"/>
                    <p:cNvSpPr/>
                    <p:nvPr/>
                  </p:nvSpPr>
                  <p:spPr>
                    <a:xfrm>
                      <a:off x="6863400" y="1832040"/>
                      <a:ext cx="578520" cy="76860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Oval 55"/>
                    <p:cNvSpPr/>
                    <p:nvPr/>
                  </p:nvSpPr>
                  <p:spPr>
                    <a:xfrm>
                      <a:off x="4651920" y="1536840"/>
                      <a:ext cx="529560" cy="68868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Oval 56"/>
                    <p:cNvSpPr/>
                    <p:nvPr/>
                  </p:nvSpPr>
                  <p:spPr>
                    <a:xfrm>
                      <a:off x="4332240" y="1852200"/>
                      <a:ext cx="530640" cy="6883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Oval 57"/>
                    <p:cNvSpPr/>
                    <p:nvPr/>
                  </p:nvSpPr>
                  <p:spPr>
                    <a:xfrm>
                      <a:off x="5261040" y="5539680"/>
                      <a:ext cx="532440" cy="689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Oval 58"/>
                    <p:cNvSpPr/>
                    <p:nvPr/>
                  </p:nvSpPr>
                  <p:spPr>
                    <a:xfrm>
                      <a:off x="5598000" y="1692360"/>
                      <a:ext cx="714240" cy="8481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9"/>
                    <p:cNvSpPr/>
                    <p:nvPr/>
                  </p:nvSpPr>
                  <p:spPr>
                    <a:xfrm>
                      <a:off x="4866480" y="1317600"/>
                      <a:ext cx="835200" cy="10879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Oval 60"/>
                    <p:cNvSpPr/>
                    <p:nvPr/>
                  </p:nvSpPr>
                  <p:spPr>
                    <a:xfrm>
                      <a:off x="6147360" y="1632240"/>
                      <a:ext cx="835200" cy="10879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Oval 61"/>
                    <p:cNvSpPr/>
                    <p:nvPr/>
                  </p:nvSpPr>
                  <p:spPr>
                    <a:xfrm>
                      <a:off x="2944080" y="2190240"/>
                      <a:ext cx="910440" cy="1067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Oval 62"/>
                    <p:cNvSpPr/>
                    <p:nvPr/>
                  </p:nvSpPr>
                  <p:spPr>
                    <a:xfrm>
                      <a:off x="2515680" y="3201120"/>
                      <a:ext cx="838800" cy="10879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Oval 63"/>
                    <p:cNvSpPr/>
                    <p:nvPr/>
                  </p:nvSpPr>
                  <p:spPr>
                    <a:xfrm>
                      <a:off x="7734600" y="4331880"/>
                      <a:ext cx="835200" cy="108504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Oval 64"/>
                    <p:cNvSpPr/>
                    <p:nvPr/>
                  </p:nvSpPr>
                  <p:spPr>
                    <a:xfrm>
                      <a:off x="6725880" y="4866480"/>
                      <a:ext cx="838440" cy="10875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Oval 65"/>
                    <p:cNvSpPr/>
                    <p:nvPr/>
                  </p:nvSpPr>
                  <p:spPr>
                    <a:xfrm>
                      <a:off x="3402000" y="5339880"/>
                      <a:ext cx="896760" cy="11077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Oval 66"/>
                    <p:cNvSpPr/>
                    <p:nvPr/>
                  </p:nvSpPr>
                  <p:spPr>
                    <a:xfrm>
                      <a:off x="2821680" y="5379840"/>
                      <a:ext cx="714600" cy="92808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Oval 67"/>
                    <p:cNvSpPr/>
                    <p:nvPr/>
                  </p:nvSpPr>
                  <p:spPr>
                    <a:xfrm>
                      <a:off x="7321320" y="4726800"/>
                      <a:ext cx="866160" cy="11275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Oval 68"/>
                    <p:cNvSpPr/>
                    <p:nvPr/>
                  </p:nvSpPr>
                  <p:spPr>
                    <a:xfrm>
                      <a:off x="5689800" y="4606920"/>
                      <a:ext cx="1201320" cy="156564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Oval 69"/>
                    <p:cNvSpPr/>
                    <p:nvPr/>
                  </p:nvSpPr>
                  <p:spPr>
                    <a:xfrm>
                      <a:off x="3949560" y="4388760"/>
                      <a:ext cx="1537920" cy="19191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Oval 70"/>
                    <p:cNvSpPr/>
                    <p:nvPr/>
                  </p:nvSpPr>
                  <p:spPr>
                    <a:xfrm>
                      <a:off x="2745360" y="4233600"/>
                      <a:ext cx="440640" cy="57024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Oval 71"/>
                    <p:cNvSpPr/>
                    <p:nvPr/>
                  </p:nvSpPr>
                  <p:spPr>
                    <a:xfrm>
                      <a:off x="7948800" y="3360600"/>
                      <a:ext cx="437400" cy="57024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Oval 72"/>
                    <p:cNvSpPr/>
                    <p:nvPr/>
                  </p:nvSpPr>
                  <p:spPr>
                    <a:xfrm>
                      <a:off x="7367040" y="1792080"/>
                      <a:ext cx="1355760" cy="176076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9" name="Freeform 75"/>
                <p:cNvSpPr/>
                <p:nvPr/>
              </p:nvSpPr>
              <p:spPr>
                <a:xfrm>
                  <a:off x="2959560" y="2037600"/>
                  <a:ext cx="5287680" cy="3759840"/>
                </a:xfrm>
                <a:prstGeom prst="pi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91"/>
              <p:cNvGrpSpPr/>
              <p:nvPr/>
            </p:nvGrpSpPr>
            <p:grpSpPr>
              <a:xfrm>
                <a:off x="2780280" y="2197440"/>
                <a:ext cx="5723640" cy="3802320"/>
                <a:chOff x="2780280" y="2197440"/>
                <a:chExt cx="5723640" cy="3802320"/>
              </a:xfrm>
            </p:grpSpPr>
            <p:sp>
              <p:nvSpPr>
                <p:cNvPr id="791" name="Oval 77"/>
                <p:cNvSpPr/>
                <p:nvPr/>
              </p:nvSpPr>
              <p:spPr>
                <a:xfrm>
                  <a:off x="2994480" y="4793760"/>
                  <a:ext cx="839880" cy="1086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78"/>
                <p:cNvSpPr/>
                <p:nvPr/>
              </p:nvSpPr>
              <p:spPr>
                <a:xfrm>
                  <a:off x="2780280" y="2950200"/>
                  <a:ext cx="843120" cy="1086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79"/>
                <p:cNvSpPr/>
                <p:nvPr/>
              </p:nvSpPr>
              <p:spPr>
                <a:xfrm>
                  <a:off x="7662240" y="2197440"/>
                  <a:ext cx="841680" cy="1086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80"/>
                <p:cNvSpPr/>
                <p:nvPr/>
              </p:nvSpPr>
              <p:spPr>
                <a:xfrm>
                  <a:off x="7631640" y="3741480"/>
                  <a:ext cx="688320" cy="889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81"/>
                <p:cNvSpPr/>
                <p:nvPr/>
              </p:nvSpPr>
              <p:spPr>
                <a:xfrm>
                  <a:off x="2851920" y="3088440"/>
                  <a:ext cx="879840" cy="11476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Oval 82"/>
                <p:cNvSpPr/>
                <p:nvPr/>
              </p:nvSpPr>
              <p:spPr>
                <a:xfrm>
                  <a:off x="3049560" y="4852440"/>
                  <a:ext cx="881280" cy="1147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Oval 83"/>
                <p:cNvSpPr/>
                <p:nvPr/>
              </p:nvSpPr>
              <p:spPr>
                <a:xfrm>
                  <a:off x="7565760" y="2295720"/>
                  <a:ext cx="881280" cy="11448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Oval 84"/>
                <p:cNvSpPr/>
                <p:nvPr/>
              </p:nvSpPr>
              <p:spPr>
                <a:xfrm>
                  <a:off x="7458840" y="3683160"/>
                  <a:ext cx="758880" cy="987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85"/>
                <p:cNvSpPr/>
                <p:nvPr/>
              </p:nvSpPr>
              <p:spPr>
                <a:xfrm>
                  <a:off x="2810520" y="3523320"/>
                  <a:ext cx="812520" cy="987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86"/>
                <p:cNvSpPr/>
                <p:nvPr/>
              </p:nvSpPr>
              <p:spPr>
                <a:xfrm>
                  <a:off x="2913480" y="3543120"/>
                  <a:ext cx="760680" cy="987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Oval 87"/>
                <p:cNvSpPr/>
                <p:nvPr/>
              </p:nvSpPr>
              <p:spPr>
                <a:xfrm>
                  <a:off x="7189560" y="2315520"/>
                  <a:ext cx="842760" cy="108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Oval 88"/>
                <p:cNvSpPr/>
                <p:nvPr/>
              </p:nvSpPr>
              <p:spPr>
                <a:xfrm>
                  <a:off x="7200360" y="2415240"/>
                  <a:ext cx="760320" cy="987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89"/>
                <p:cNvSpPr/>
                <p:nvPr/>
              </p:nvSpPr>
              <p:spPr>
                <a:xfrm>
                  <a:off x="7775640" y="4414680"/>
                  <a:ext cx="553680" cy="732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90"/>
                <p:cNvSpPr/>
                <p:nvPr/>
              </p:nvSpPr>
              <p:spPr>
                <a:xfrm>
                  <a:off x="7734240" y="4454280"/>
                  <a:ext cx="513720" cy="6742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5" name="Group 210"/>
            <p:cNvGrpSpPr/>
            <p:nvPr/>
          </p:nvGrpSpPr>
          <p:grpSpPr>
            <a:xfrm>
              <a:off x="0" y="1125360"/>
              <a:ext cx="3727440" cy="5272200"/>
              <a:chOff x="0" y="1125360"/>
              <a:chExt cx="3727440" cy="5272200"/>
            </a:xfrm>
          </p:grpSpPr>
          <p:grpSp>
            <p:nvGrpSpPr>
              <p:cNvPr id="806" name="Group 202"/>
              <p:cNvGrpSpPr/>
              <p:nvPr/>
            </p:nvGrpSpPr>
            <p:grpSpPr>
              <a:xfrm>
                <a:off x="0" y="1125360"/>
                <a:ext cx="3040560" cy="5272200"/>
                <a:chOff x="0" y="1125360"/>
                <a:chExt cx="3040560" cy="5272200"/>
              </a:xfrm>
            </p:grpSpPr>
            <p:grpSp>
              <p:nvGrpSpPr>
                <p:cNvPr id="807" name="Group 142"/>
                <p:cNvGrpSpPr/>
                <p:nvPr/>
              </p:nvGrpSpPr>
              <p:grpSpPr>
                <a:xfrm>
                  <a:off x="556920" y="1125360"/>
                  <a:ext cx="967680" cy="1872720"/>
                  <a:chOff x="556920" y="1125360"/>
                  <a:chExt cx="967680" cy="1872720"/>
                </a:xfrm>
              </p:grpSpPr>
              <p:grpSp>
                <p:nvGrpSpPr>
                  <p:cNvPr id="808" name="Group 132"/>
                  <p:cNvGrpSpPr/>
                  <p:nvPr/>
                </p:nvGrpSpPr>
                <p:grpSpPr>
                  <a:xfrm>
                    <a:off x="671760" y="1960560"/>
                    <a:ext cx="852840" cy="1037520"/>
                    <a:chOff x="671760" y="1960560"/>
                    <a:chExt cx="852840" cy="1037520"/>
                  </a:xfrm>
                </p:grpSpPr>
                <p:grpSp>
                  <p:nvGrpSpPr>
                    <p:cNvPr id="809" name="Group 130"/>
                    <p:cNvGrpSpPr/>
                    <p:nvPr/>
                  </p:nvGrpSpPr>
                  <p:grpSpPr>
                    <a:xfrm>
                      <a:off x="732600" y="1994760"/>
                      <a:ext cx="792000" cy="1003320"/>
                      <a:chOff x="732600" y="1994760"/>
                      <a:chExt cx="792000" cy="1003320"/>
                    </a:xfrm>
                  </p:grpSpPr>
                  <p:grpSp>
                    <p:nvGrpSpPr>
                      <p:cNvPr id="810" name="Group 107"/>
                      <p:cNvGrpSpPr/>
                      <p:nvPr/>
                    </p:nvGrpSpPr>
                    <p:grpSpPr>
                      <a:xfrm>
                        <a:off x="732600" y="1994760"/>
                        <a:ext cx="792000" cy="1003320"/>
                        <a:chOff x="732600" y="1994760"/>
                        <a:chExt cx="792000" cy="1003320"/>
                      </a:xfrm>
                    </p:grpSpPr>
                    <p:grpSp>
                      <p:nvGrpSpPr>
                        <p:cNvPr id="811" name="Group 98"/>
                        <p:cNvGrpSpPr/>
                        <p:nvPr/>
                      </p:nvGrpSpPr>
                      <p:grpSpPr>
                        <a:xfrm>
                          <a:off x="732600" y="1994760"/>
                          <a:ext cx="792000" cy="1003320"/>
                          <a:chOff x="732600" y="1994760"/>
                          <a:chExt cx="792000" cy="1003320"/>
                        </a:xfrm>
                      </p:grpSpPr>
                      <p:sp>
                        <p:nvSpPr>
                          <p:cNvPr id="812" name="Freeform 93"/>
                          <p:cNvSpPr/>
                          <p:nvPr/>
                        </p:nvSpPr>
                        <p:spPr>
                          <a:xfrm>
                            <a:off x="806040" y="1994760"/>
                            <a:ext cx="705240" cy="1003320"/>
                          </a:xfrm>
                          <a:prstGeom prst="pi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3" name="Oval 94"/>
                          <p:cNvSpPr/>
                          <p:nvPr/>
                        </p:nvSpPr>
                        <p:spPr>
                          <a:xfrm>
                            <a:off x="732600" y="2447640"/>
                            <a:ext cx="154080" cy="19944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Oval 95"/>
                          <p:cNvSpPr/>
                          <p:nvPr/>
                        </p:nvSpPr>
                        <p:spPr>
                          <a:xfrm>
                            <a:off x="847080" y="2557440"/>
                            <a:ext cx="177120" cy="23508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5" name="Oval 96"/>
                          <p:cNvSpPr/>
                          <p:nvPr/>
                        </p:nvSpPr>
                        <p:spPr>
                          <a:xfrm>
                            <a:off x="1292400" y="2564640"/>
                            <a:ext cx="232200" cy="31068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Oval 97"/>
                          <p:cNvSpPr/>
                          <p:nvPr/>
                        </p:nvSpPr>
                        <p:spPr>
                          <a:xfrm>
                            <a:off x="1237320" y="2729880"/>
                            <a:ext cx="197280" cy="25488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7" name="Group 106"/>
                        <p:cNvGrpSpPr/>
                        <p:nvPr/>
                      </p:nvGrpSpPr>
                      <p:grpSpPr>
                        <a:xfrm>
                          <a:off x="767520" y="2447640"/>
                          <a:ext cx="727560" cy="348840"/>
                          <a:chOff x="767520" y="2447640"/>
                          <a:chExt cx="727560" cy="348840"/>
                        </a:xfrm>
                      </p:grpSpPr>
                      <p:sp>
                        <p:nvSpPr>
                          <p:cNvPr id="818" name="Oval 99"/>
                          <p:cNvSpPr/>
                          <p:nvPr/>
                        </p:nvSpPr>
                        <p:spPr>
                          <a:xfrm>
                            <a:off x="1070280" y="2447640"/>
                            <a:ext cx="244440" cy="3088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Oval 100"/>
                          <p:cNvSpPr/>
                          <p:nvPr/>
                        </p:nvSpPr>
                        <p:spPr>
                          <a:xfrm>
                            <a:off x="767520" y="2494440"/>
                            <a:ext cx="102600" cy="12240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0320" bIns="403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Oval 101"/>
                          <p:cNvSpPr/>
                          <p:nvPr/>
                        </p:nvSpPr>
                        <p:spPr>
                          <a:xfrm>
                            <a:off x="1230840" y="2614320"/>
                            <a:ext cx="264240" cy="1821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1" name="Oval 102"/>
                          <p:cNvSpPr/>
                          <p:nvPr/>
                        </p:nvSpPr>
                        <p:spPr>
                          <a:xfrm>
                            <a:off x="1246320" y="2607120"/>
                            <a:ext cx="248760" cy="16200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2" name="Oval 103"/>
                          <p:cNvSpPr/>
                          <p:nvPr/>
                        </p:nvSpPr>
                        <p:spPr>
                          <a:xfrm>
                            <a:off x="770400" y="2511360"/>
                            <a:ext cx="102600" cy="112680"/>
                          </a:xfrm>
                          <a:prstGeom prst="ellipse">
                            <a:avLst/>
                          </a:prstGeom>
                          <a:solidFill>
                            <a:srgbClr val="ff7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480" bIns="33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3" name="Oval 104"/>
                          <p:cNvSpPr/>
                          <p:nvPr/>
                        </p:nvSpPr>
                        <p:spPr>
                          <a:xfrm>
                            <a:off x="1050480" y="2471760"/>
                            <a:ext cx="249120" cy="274680"/>
                          </a:xfrm>
                          <a:prstGeom prst="ellipse">
                            <a:avLst/>
                          </a:prstGeom>
                          <a:solidFill>
                            <a:srgbClr val="ff7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4" name="Oval 105"/>
                          <p:cNvSpPr/>
                          <p:nvPr/>
                        </p:nvSpPr>
                        <p:spPr>
                          <a:xfrm>
                            <a:off x="1073160" y="2471760"/>
                            <a:ext cx="249120" cy="260640"/>
                          </a:xfrm>
                          <a:prstGeom prst="ellipse">
                            <a:avLst/>
                          </a:prstGeom>
                          <a:solidFill>
                            <a:srgbClr val="ff7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5" name="Group 129"/>
                      <p:cNvGrpSpPr/>
                      <p:nvPr/>
                    </p:nvGrpSpPr>
                    <p:grpSpPr>
                      <a:xfrm>
                        <a:off x="1185120" y="2050200"/>
                        <a:ext cx="327960" cy="588960"/>
                        <a:chOff x="1185120" y="2050200"/>
                        <a:chExt cx="327960" cy="588960"/>
                      </a:xfrm>
                    </p:grpSpPr>
                    <p:grpSp>
                      <p:nvGrpSpPr>
                        <p:cNvPr id="826" name="Group 125"/>
                        <p:cNvGrpSpPr/>
                        <p:nvPr/>
                      </p:nvGrpSpPr>
                      <p:grpSpPr>
                        <a:xfrm>
                          <a:off x="1185120" y="2050200"/>
                          <a:ext cx="285480" cy="431640"/>
                          <a:chOff x="1185120" y="2050200"/>
                          <a:chExt cx="285480" cy="431640"/>
                        </a:xfrm>
                      </p:grpSpPr>
                      <p:grpSp>
                        <p:nvGrpSpPr>
                          <p:cNvPr id="827" name="Group 117"/>
                          <p:cNvGrpSpPr/>
                          <p:nvPr/>
                        </p:nvGrpSpPr>
                        <p:grpSpPr>
                          <a:xfrm>
                            <a:off x="1185120" y="2050200"/>
                            <a:ext cx="285480" cy="431640"/>
                            <a:chOff x="1185120" y="2050200"/>
                            <a:chExt cx="285480" cy="431640"/>
                          </a:xfrm>
                        </p:grpSpPr>
                        <p:grpSp>
                          <p:nvGrpSpPr>
                            <p:cNvPr id="828" name="Group 110"/>
                            <p:cNvGrpSpPr/>
                            <p:nvPr/>
                          </p:nvGrpSpPr>
                          <p:grpSpPr>
                            <a:xfrm>
                              <a:off x="1185120" y="2097000"/>
                              <a:ext cx="285480" cy="384480"/>
                              <a:chOff x="1185120" y="2097000"/>
                              <a:chExt cx="285480" cy="384480"/>
                            </a:xfrm>
                          </p:grpSpPr>
                          <p:sp>
                            <p:nvSpPr>
                              <p:cNvPr id="829" name="Oval 108"/>
                              <p:cNvSpPr/>
                              <p:nvPr/>
                            </p:nvSpPr>
                            <p:spPr>
                              <a:xfrm>
                                <a:off x="1185120" y="2097000"/>
                                <a:ext cx="193680" cy="384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0" name="Oval 109"/>
                              <p:cNvSpPr/>
                              <p:nvPr/>
                            </p:nvSpPr>
                            <p:spPr>
                              <a:xfrm>
                                <a:off x="1334520" y="2097000"/>
                                <a:ext cx="136080" cy="340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1" name="Group 113"/>
                            <p:cNvGrpSpPr/>
                            <p:nvPr/>
                          </p:nvGrpSpPr>
                          <p:grpSpPr>
                            <a:xfrm>
                              <a:off x="1200240" y="2109960"/>
                              <a:ext cx="267120" cy="371880"/>
                              <a:chOff x="1200240" y="2109960"/>
                              <a:chExt cx="267120" cy="371880"/>
                            </a:xfrm>
                          </p:grpSpPr>
                          <p:sp>
                            <p:nvSpPr>
                              <p:cNvPr id="832" name="Oval 111"/>
                              <p:cNvSpPr/>
                              <p:nvPr/>
                            </p:nvSpPr>
                            <p:spPr>
                              <a:xfrm>
                                <a:off x="1200240" y="2112840"/>
                                <a:ext cx="175680" cy="369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3" name="Oval 112"/>
                              <p:cNvSpPr/>
                              <p:nvPr/>
                            </p:nvSpPr>
                            <p:spPr>
                              <a:xfrm>
                                <a:off x="1333080" y="2109960"/>
                                <a:ext cx="134280" cy="357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4" name="Group 116"/>
                            <p:cNvGrpSpPr/>
                            <p:nvPr/>
                          </p:nvGrpSpPr>
                          <p:grpSpPr>
                            <a:xfrm>
                              <a:off x="1243080" y="2050200"/>
                              <a:ext cx="185760" cy="131760"/>
                              <a:chOff x="1243080" y="2050200"/>
                              <a:chExt cx="185760" cy="131760"/>
                            </a:xfrm>
                          </p:grpSpPr>
                          <p:sp>
                            <p:nvSpPr>
                              <p:cNvPr id="835" name="Freeform 114"/>
                              <p:cNvSpPr/>
                              <p:nvPr/>
                            </p:nvSpPr>
                            <p:spPr>
                              <a:xfrm>
                                <a:off x="1367640" y="2050200"/>
                                <a:ext cx="61200" cy="129240"/>
                              </a:xfrm>
                              <a:prstGeom prst="pi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6" name="Freeform 115"/>
                              <p:cNvSpPr/>
                              <p:nvPr/>
                            </p:nvSpPr>
                            <p:spPr>
                              <a:xfrm>
                                <a:off x="1243080" y="2059560"/>
                                <a:ext cx="124560" cy="122400"/>
                              </a:xfrm>
                              <a:prstGeom prst="pi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7" name="Group 124"/>
                          <p:cNvGrpSpPr/>
                          <p:nvPr/>
                        </p:nvGrpSpPr>
                        <p:grpSpPr>
                          <a:xfrm>
                            <a:off x="1319400" y="2309040"/>
                            <a:ext cx="147600" cy="158040"/>
                            <a:chOff x="1319400" y="2309040"/>
                            <a:chExt cx="147600" cy="158040"/>
                          </a:xfrm>
                        </p:grpSpPr>
                        <p:grpSp>
                          <p:nvGrpSpPr>
                            <p:cNvPr id="838" name="Group 120"/>
                            <p:cNvGrpSpPr/>
                            <p:nvPr/>
                          </p:nvGrpSpPr>
                          <p:grpSpPr>
                            <a:xfrm>
                              <a:off x="1319400" y="2309040"/>
                              <a:ext cx="60840" cy="158040"/>
                              <a:chOff x="1319400" y="2309040"/>
                              <a:chExt cx="60840" cy="158040"/>
                            </a:xfrm>
                          </p:grpSpPr>
                          <p:sp>
                            <p:nvSpPr>
                              <p:cNvPr id="839" name="Oval 118"/>
                              <p:cNvSpPr/>
                              <p:nvPr/>
                            </p:nvSpPr>
                            <p:spPr>
                              <a:xfrm>
                                <a:off x="1326960" y="2309040"/>
                                <a:ext cx="53280" cy="158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0" name="Freeform 119"/>
                              <p:cNvSpPr/>
                              <p:nvPr/>
                            </p:nvSpPr>
                            <p:spPr>
                              <a:xfrm>
                                <a:off x="1319400" y="2358720"/>
                                <a:ext cx="28800" cy="18360"/>
                              </a:xfrm>
                              <a:prstGeom prst="pie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080" bIns="-2808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1" name="Group 123"/>
                            <p:cNvGrpSpPr/>
                            <p:nvPr/>
                          </p:nvGrpSpPr>
                          <p:grpSpPr>
                            <a:xfrm>
                              <a:off x="1406520" y="2309040"/>
                              <a:ext cx="60480" cy="158040"/>
                              <a:chOff x="1406520" y="2309040"/>
                              <a:chExt cx="60480" cy="158040"/>
                            </a:xfrm>
                          </p:grpSpPr>
                          <p:sp>
                            <p:nvSpPr>
                              <p:cNvPr id="842" name="Oval 121"/>
                              <p:cNvSpPr/>
                              <p:nvPr/>
                            </p:nvSpPr>
                            <p:spPr>
                              <a:xfrm>
                                <a:off x="1414080" y="2309040"/>
                                <a:ext cx="52920" cy="158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3" name="Freeform 122"/>
                              <p:cNvSpPr/>
                              <p:nvPr/>
                            </p:nvSpPr>
                            <p:spPr>
                              <a:xfrm>
                                <a:off x="1406520" y="2358720"/>
                                <a:ext cx="27000" cy="18360"/>
                              </a:xfrm>
                              <a:prstGeom prst="pie">
                                <a:avLst/>
                              </a:pr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080" bIns="-2808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44" name="Group 128"/>
                        <p:cNvGrpSpPr/>
                        <p:nvPr/>
                      </p:nvGrpSpPr>
                      <p:grpSpPr>
                        <a:xfrm>
                          <a:off x="1319400" y="2424600"/>
                          <a:ext cx="193680" cy="214560"/>
                          <a:chOff x="1319400" y="2424600"/>
                          <a:chExt cx="193680" cy="214560"/>
                        </a:xfrm>
                      </p:grpSpPr>
                      <p:sp>
                        <p:nvSpPr>
                          <p:cNvPr id="845" name="Oval 126"/>
                          <p:cNvSpPr/>
                          <p:nvPr/>
                        </p:nvSpPr>
                        <p:spPr>
                          <a:xfrm>
                            <a:off x="1319400" y="2444400"/>
                            <a:ext cx="183600" cy="1947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6" name="Oval 127"/>
                          <p:cNvSpPr/>
                          <p:nvPr/>
                        </p:nvSpPr>
                        <p:spPr>
                          <a:xfrm>
                            <a:off x="1329840" y="2424600"/>
                            <a:ext cx="183240" cy="199440"/>
                          </a:xfrm>
                          <a:prstGeom prst="ellipse">
                            <a:avLst/>
                          </a:prstGeom>
                          <a:solidFill>
                            <a:srgbClr val="f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847" name="Freeform 131"/>
                    <p:cNvSpPr/>
                    <p:nvPr/>
                  </p:nvSpPr>
                  <p:spPr>
                    <a:xfrm>
                      <a:off x="671760" y="1960560"/>
                      <a:ext cx="536760" cy="551520"/>
                    </a:xfrm>
                    <a:prstGeom prst="pi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Group 141"/>
                  <p:cNvGrpSpPr/>
                  <p:nvPr/>
                </p:nvGrpSpPr>
                <p:grpSpPr>
                  <a:xfrm>
                    <a:off x="556920" y="1125360"/>
                    <a:ext cx="949680" cy="1194120"/>
                    <a:chOff x="556920" y="1125360"/>
                    <a:chExt cx="949680" cy="1194120"/>
                  </a:xfrm>
                </p:grpSpPr>
                <p:grpSp>
                  <p:nvGrpSpPr>
                    <p:cNvPr id="849" name="Group 135"/>
                    <p:cNvGrpSpPr/>
                    <p:nvPr/>
                  </p:nvGrpSpPr>
                  <p:grpSpPr>
                    <a:xfrm>
                      <a:off x="740160" y="1125360"/>
                      <a:ext cx="682200" cy="547200"/>
                      <a:chOff x="740160" y="1125360"/>
                      <a:chExt cx="682200" cy="547200"/>
                    </a:xfrm>
                  </p:grpSpPr>
                  <p:sp>
                    <p:nvSpPr>
                      <p:cNvPr id="850" name="Freeform 133"/>
                      <p:cNvSpPr/>
                      <p:nvPr/>
                    </p:nvSpPr>
                    <p:spPr>
                      <a:xfrm>
                        <a:off x="740160" y="1182240"/>
                        <a:ext cx="677520" cy="490320"/>
                      </a:xfrm>
                      <a:prstGeom prst="pie">
                        <a:avLst/>
                      </a:pr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1" name="Oval 134"/>
                      <p:cNvSpPr/>
                      <p:nvPr/>
                    </p:nvSpPr>
                    <p:spPr>
                      <a:xfrm>
                        <a:off x="740160" y="1125360"/>
                        <a:ext cx="682200" cy="119520"/>
                      </a:xfrm>
                      <a:prstGeom prst="ellipse">
                        <a:avLst/>
                      </a:pr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2" name="Group 140"/>
                    <p:cNvGrpSpPr/>
                    <p:nvPr/>
                  </p:nvGrpSpPr>
                  <p:grpSpPr>
                    <a:xfrm>
                      <a:off x="556920" y="1467360"/>
                      <a:ext cx="949680" cy="852120"/>
                      <a:chOff x="556920" y="1467360"/>
                      <a:chExt cx="949680" cy="852120"/>
                    </a:xfrm>
                  </p:grpSpPr>
                  <p:grpSp>
                    <p:nvGrpSpPr>
                      <p:cNvPr id="853" name="Group 138"/>
                      <p:cNvGrpSpPr/>
                      <p:nvPr/>
                    </p:nvGrpSpPr>
                    <p:grpSpPr>
                      <a:xfrm>
                        <a:off x="752400" y="1467360"/>
                        <a:ext cx="654480" cy="549720"/>
                        <a:chOff x="752400" y="1467360"/>
                        <a:chExt cx="654480" cy="549720"/>
                      </a:xfrm>
                    </p:grpSpPr>
                    <p:sp>
                      <p:nvSpPr>
                        <p:cNvPr id="854" name="Freeform 136"/>
                        <p:cNvSpPr/>
                        <p:nvPr/>
                      </p:nvSpPr>
                      <p:spPr>
                        <a:xfrm>
                          <a:off x="752400" y="1569600"/>
                          <a:ext cx="649800" cy="447480"/>
                        </a:xfrm>
                        <a:prstGeom prst="pie">
                          <a:avLst/>
                        </a:pr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Oval 137"/>
                        <p:cNvSpPr/>
                        <p:nvPr/>
                      </p:nvSpPr>
                      <p:spPr>
                        <a:xfrm>
                          <a:off x="758520" y="1467360"/>
                          <a:ext cx="648360" cy="22500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56" name="Freeform 139"/>
                      <p:cNvSpPr/>
                      <p:nvPr/>
                    </p:nvSpPr>
                    <p:spPr>
                      <a:xfrm>
                        <a:off x="556920" y="1931760"/>
                        <a:ext cx="949680" cy="387720"/>
                      </a:xfrm>
                      <a:prstGeom prst="pie">
                        <a:avLst/>
                      </a:pr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57" name="Group 201"/>
                <p:cNvGrpSpPr/>
                <p:nvPr/>
              </p:nvGrpSpPr>
              <p:grpSpPr>
                <a:xfrm>
                  <a:off x="0" y="1779480"/>
                  <a:ext cx="3040560" cy="4618080"/>
                  <a:chOff x="0" y="1779480"/>
                  <a:chExt cx="3040560" cy="4618080"/>
                </a:xfrm>
              </p:grpSpPr>
              <p:grpSp>
                <p:nvGrpSpPr>
                  <p:cNvPr id="858" name="Group 145"/>
                  <p:cNvGrpSpPr/>
                  <p:nvPr/>
                </p:nvGrpSpPr>
                <p:grpSpPr>
                  <a:xfrm>
                    <a:off x="516960" y="5509080"/>
                    <a:ext cx="1947960" cy="888480"/>
                    <a:chOff x="516960" y="5509080"/>
                    <a:chExt cx="1947960" cy="888480"/>
                  </a:xfrm>
                </p:grpSpPr>
                <p:sp>
                  <p:nvSpPr>
                    <p:cNvPr id="859" name="Freeform 143"/>
                    <p:cNvSpPr/>
                    <p:nvPr/>
                  </p:nvSpPr>
                  <p:spPr>
                    <a:xfrm>
                      <a:off x="1572840" y="5594760"/>
                      <a:ext cx="892080" cy="6246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144"/>
                    <p:cNvSpPr/>
                    <p:nvPr/>
                  </p:nvSpPr>
                  <p:spPr>
                    <a:xfrm>
                      <a:off x="516960" y="5509080"/>
                      <a:ext cx="921240" cy="8884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Group 200"/>
                  <p:cNvGrpSpPr/>
                  <p:nvPr/>
                </p:nvGrpSpPr>
                <p:grpSpPr>
                  <a:xfrm>
                    <a:off x="0" y="1779480"/>
                    <a:ext cx="3040560" cy="3914640"/>
                    <a:chOff x="0" y="1779480"/>
                    <a:chExt cx="3040560" cy="3914640"/>
                  </a:xfrm>
                </p:grpSpPr>
                <p:grpSp>
                  <p:nvGrpSpPr>
                    <p:cNvPr id="862" name="Group 173"/>
                    <p:cNvGrpSpPr/>
                    <p:nvPr/>
                  </p:nvGrpSpPr>
                  <p:grpSpPr>
                    <a:xfrm>
                      <a:off x="0" y="1779480"/>
                      <a:ext cx="3040560" cy="3914640"/>
                      <a:chOff x="0" y="1779480"/>
                      <a:chExt cx="3040560" cy="3914640"/>
                    </a:xfrm>
                  </p:grpSpPr>
                  <p:grpSp>
                    <p:nvGrpSpPr>
                      <p:cNvPr id="863" name="Group 149"/>
                      <p:cNvGrpSpPr/>
                      <p:nvPr/>
                    </p:nvGrpSpPr>
                    <p:grpSpPr>
                      <a:xfrm>
                        <a:off x="2301480" y="1779480"/>
                        <a:ext cx="739080" cy="818280"/>
                        <a:chOff x="2301480" y="1779480"/>
                        <a:chExt cx="739080" cy="818280"/>
                      </a:xfrm>
                    </p:grpSpPr>
                    <p:sp>
                      <p:nvSpPr>
                        <p:cNvPr id="864" name="Freeform 146"/>
                        <p:cNvSpPr/>
                        <p:nvPr/>
                      </p:nvSpPr>
                      <p:spPr>
                        <a:xfrm>
                          <a:off x="2301480" y="1779480"/>
                          <a:ext cx="739080" cy="81828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205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5" name="Freeform 147"/>
                        <p:cNvSpPr/>
                        <p:nvPr/>
                      </p:nvSpPr>
                      <p:spPr>
                        <a:xfrm>
                          <a:off x="2527920" y="2067120"/>
                          <a:ext cx="117360" cy="202680"/>
                        </a:xfrm>
                        <a:prstGeom prst="pie">
                          <a:avLst/>
                        </a:prstGeom>
                        <a:noFill/>
                        <a:ln w="205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6" name="Freeform 148"/>
                        <p:cNvSpPr/>
                        <p:nvPr/>
                      </p:nvSpPr>
                      <p:spPr>
                        <a:xfrm>
                          <a:off x="2576880" y="2139840"/>
                          <a:ext cx="154080" cy="172440"/>
                        </a:xfrm>
                        <a:prstGeom prst="pie">
                          <a:avLst/>
                        </a:prstGeom>
                        <a:noFill/>
                        <a:ln w="205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67" name="Group 172"/>
                      <p:cNvGrpSpPr/>
                      <p:nvPr/>
                    </p:nvGrpSpPr>
                    <p:grpSpPr>
                      <a:xfrm>
                        <a:off x="0" y="2279520"/>
                        <a:ext cx="2442240" cy="3414600"/>
                        <a:chOff x="0" y="2279520"/>
                        <a:chExt cx="2442240" cy="3414600"/>
                      </a:xfrm>
                    </p:grpSpPr>
                    <p:grpSp>
                      <p:nvGrpSpPr>
                        <p:cNvPr id="868" name="Group 166"/>
                        <p:cNvGrpSpPr/>
                        <p:nvPr/>
                      </p:nvGrpSpPr>
                      <p:grpSpPr>
                        <a:xfrm>
                          <a:off x="0" y="2279520"/>
                          <a:ext cx="2442240" cy="3414600"/>
                          <a:chOff x="0" y="2279520"/>
                          <a:chExt cx="2442240" cy="3414600"/>
                        </a:xfrm>
                      </p:grpSpPr>
                      <p:grpSp>
                        <p:nvGrpSpPr>
                          <p:cNvPr id="869" name="Group 153"/>
                          <p:cNvGrpSpPr/>
                          <p:nvPr/>
                        </p:nvGrpSpPr>
                        <p:grpSpPr>
                          <a:xfrm>
                            <a:off x="0" y="2895120"/>
                            <a:ext cx="1379520" cy="1380240"/>
                            <a:chOff x="0" y="2895120"/>
                            <a:chExt cx="1379520" cy="1380240"/>
                          </a:xfrm>
                        </p:grpSpPr>
                        <p:sp>
                          <p:nvSpPr>
                            <p:cNvPr id="870" name="Freeform 150"/>
                            <p:cNvSpPr/>
                            <p:nvPr/>
                          </p:nvSpPr>
                          <p:spPr>
                            <a:xfrm>
                              <a:off x="463320" y="3263040"/>
                              <a:ext cx="916200" cy="1012320"/>
                            </a:xfrm>
                            <a:prstGeom prst="pie">
                              <a:avLst/>
                            </a:pr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1" name="Freeform 151"/>
                            <p:cNvSpPr/>
                            <p:nvPr/>
                          </p:nvSpPr>
                          <p:spPr>
                            <a:xfrm>
                              <a:off x="126720" y="2895120"/>
                              <a:ext cx="1110600" cy="527400"/>
                            </a:xfrm>
                            <a:prstGeom prst="pie">
                              <a:avLst/>
                            </a:prstGeom>
                            <a:solidFill>
                              <a:srgbClr val="ff1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2" name="Freeform 152"/>
                            <p:cNvSpPr/>
                            <p:nvPr/>
                          </p:nvSpPr>
                          <p:spPr>
                            <a:xfrm>
                              <a:off x="0" y="3025080"/>
                              <a:ext cx="1239120" cy="815400"/>
                            </a:xfrm>
                            <a:prstGeom prst="pi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73" name="Group 165"/>
                          <p:cNvGrpSpPr/>
                          <p:nvPr/>
                        </p:nvGrpSpPr>
                        <p:grpSpPr>
                          <a:xfrm>
                            <a:off x="812160" y="2279520"/>
                            <a:ext cx="1630080" cy="3414600"/>
                            <a:chOff x="812160" y="2279520"/>
                            <a:chExt cx="1630080" cy="3414600"/>
                          </a:xfrm>
                        </p:grpSpPr>
                        <p:grpSp>
                          <p:nvGrpSpPr>
                            <p:cNvPr id="874" name="Group 161"/>
                            <p:cNvGrpSpPr/>
                            <p:nvPr/>
                          </p:nvGrpSpPr>
                          <p:grpSpPr>
                            <a:xfrm>
                              <a:off x="812160" y="2279520"/>
                              <a:ext cx="1630080" cy="3414600"/>
                              <a:chOff x="812160" y="2279520"/>
                              <a:chExt cx="1630080" cy="3414600"/>
                            </a:xfrm>
                          </p:grpSpPr>
                          <p:grpSp>
                            <p:nvGrpSpPr>
                              <p:cNvPr id="875" name="Group 159"/>
                              <p:cNvGrpSpPr/>
                              <p:nvPr/>
                            </p:nvGrpSpPr>
                            <p:grpSpPr>
                              <a:xfrm>
                                <a:off x="1040040" y="2279520"/>
                                <a:ext cx="1402200" cy="3414600"/>
                                <a:chOff x="1040040" y="2279520"/>
                                <a:chExt cx="1402200" cy="3414600"/>
                              </a:xfrm>
                            </p:grpSpPr>
                            <p:grpSp>
                              <p:nvGrpSpPr>
                                <p:cNvPr id="876" name="Group 157"/>
                                <p:cNvGrpSpPr/>
                                <p:nvPr/>
                              </p:nvGrpSpPr>
                              <p:grpSpPr>
                                <a:xfrm>
                                  <a:off x="1407240" y="2279520"/>
                                  <a:ext cx="1035000" cy="2724120"/>
                                  <a:chOff x="1407240" y="2279520"/>
                                  <a:chExt cx="1035000" cy="2724120"/>
                                </a:xfrm>
                              </p:grpSpPr>
                              <p:sp>
                                <p:nvSpPr>
                                  <p:cNvPr id="877" name="Freeform 154"/>
                                  <p:cNvSpPr/>
                                  <p:nvPr/>
                                </p:nvSpPr>
                                <p:spPr>
                                  <a:xfrm>
                                    <a:off x="1544760" y="2279520"/>
                                    <a:ext cx="897480" cy="861120"/>
                                  </a:xfrm>
                                  <a:prstGeom prst="pie">
                                    <a:avLst/>
                                  </a:prstGeom>
                                  <a:solidFill>
                                    <a:srgbClr val="9f3fd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78" name="Freeform 155"/>
                                  <p:cNvSpPr/>
                                  <p:nvPr/>
                                </p:nvSpPr>
                                <p:spPr>
                                  <a:xfrm>
                                    <a:off x="1495440" y="2889720"/>
                                    <a:ext cx="397800" cy="688320"/>
                                  </a:xfrm>
                                  <a:prstGeom prst="pie">
                                    <a:avLst/>
                                  </a:prstGeom>
                                  <a:solidFill>
                                    <a:srgbClr val="5f00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79" name="Freeform 156"/>
                                  <p:cNvSpPr/>
                                  <p:nvPr/>
                                </p:nvSpPr>
                                <p:spPr>
                                  <a:xfrm>
                                    <a:off x="1407240" y="4095720"/>
                                    <a:ext cx="359280" cy="907920"/>
                                  </a:xfrm>
                                  <a:prstGeom prst="pie">
                                    <a:avLst/>
                                  </a:prstGeom>
                                  <a:solidFill>
                                    <a:srgbClr val="5f00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80" name="Freeform 158"/>
                                <p:cNvSpPr/>
                                <p:nvPr/>
                              </p:nvSpPr>
                              <p:spPr>
                                <a:xfrm>
                                  <a:off x="1040040" y="3075120"/>
                                  <a:ext cx="960840" cy="2619000"/>
                                </a:xfrm>
                                <a:prstGeom prst="pie">
                                  <a:avLst/>
                                </a:prstGeom>
                                <a:solidFill>
                                  <a:srgbClr val="9f3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81" name="Freeform 160"/>
                              <p:cNvSpPr/>
                              <p:nvPr/>
                            </p:nvSpPr>
                            <p:spPr>
                              <a:xfrm>
                                <a:off x="812160" y="3075120"/>
                                <a:ext cx="725400" cy="1780560"/>
                              </a:xfrm>
                              <a:prstGeom prst="pie">
                                <a:avLst/>
                              </a:prstGeom>
                              <a:solidFill>
                                <a:srgbClr val="5f00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2" name="Group 164"/>
                            <p:cNvGrpSpPr/>
                            <p:nvPr/>
                          </p:nvGrpSpPr>
                          <p:grpSpPr>
                            <a:xfrm>
                              <a:off x="946440" y="3107880"/>
                              <a:ext cx="850320" cy="842040"/>
                              <a:chOff x="946440" y="3107880"/>
                              <a:chExt cx="850320" cy="842040"/>
                            </a:xfrm>
                          </p:grpSpPr>
                          <p:sp>
                            <p:nvSpPr>
                              <p:cNvPr id="883" name="Freeform 162"/>
                              <p:cNvSpPr/>
                              <p:nvPr/>
                            </p:nvSpPr>
                            <p:spPr>
                              <a:xfrm>
                                <a:off x="946440" y="3107880"/>
                                <a:ext cx="727920" cy="829440"/>
                              </a:xfrm>
                              <a:prstGeom prst="pie">
                                <a:avLst/>
                              </a:prstGeom>
                              <a:solidFill>
                                <a:srgbClr val="bf5f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4" name="Oval 163"/>
                              <p:cNvSpPr/>
                              <p:nvPr/>
                            </p:nvSpPr>
                            <p:spPr>
                              <a:xfrm>
                                <a:off x="1552320" y="3557880"/>
                                <a:ext cx="244440" cy="392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5f00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85" name="Group 171"/>
                        <p:cNvGrpSpPr/>
                        <p:nvPr/>
                      </p:nvGrpSpPr>
                      <p:grpSpPr>
                        <a:xfrm>
                          <a:off x="1165680" y="2842560"/>
                          <a:ext cx="425160" cy="394920"/>
                          <a:chOff x="1165680" y="2842560"/>
                          <a:chExt cx="425160" cy="394920"/>
                        </a:xfrm>
                      </p:grpSpPr>
                      <p:sp>
                        <p:nvSpPr>
                          <p:cNvPr id="886" name="Freeform 167"/>
                          <p:cNvSpPr/>
                          <p:nvPr/>
                        </p:nvSpPr>
                        <p:spPr>
                          <a:xfrm>
                            <a:off x="1165680" y="2842560"/>
                            <a:ext cx="425160" cy="394920"/>
                          </a:xfrm>
                          <a:prstGeom prst="pie">
                            <a:avLst/>
                          </a:pr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7" name="Oval 168"/>
                          <p:cNvSpPr/>
                          <p:nvPr/>
                        </p:nvSpPr>
                        <p:spPr>
                          <a:xfrm>
                            <a:off x="1303200" y="2932200"/>
                            <a:ext cx="169560" cy="192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Oval 169"/>
                          <p:cNvSpPr/>
                          <p:nvPr/>
                        </p:nvSpPr>
                        <p:spPr>
                          <a:xfrm>
                            <a:off x="1277280" y="2935080"/>
                            <a:ext cx="171000" cy="1922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9" name="Oval 170"/>
                          <p:cNvSpPr/>
                          <p:nvPr/>
                        </p:nvSpPr>
                        <p:spPr>
                          <a:xfrm>
                            <a:off x="1289160" y="2932200"/>
                            <a:ext cx="171000" cy="192240"/>
                          </a:xfrm>
                          <a:prstGeom prst="ellipse">
                            <a:avLst/>
                          </a:pr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90" name="Group 199"/>
                    <p:cNvGrpSpPr/>
                    <p:nvPr/>
                  </p:nvGrpSpPr>
                  <p:grpSpPr>
                    <a:xfrm>
                      <a:off x="1631520" y="3377520"/>
                      <a:ext cx="780840" cy="767520"/>
                      <a:chOff x="1631520" y="3377520"/>
                      <a:chExt cx="780840" cy="767520"/>
                    </a:xfrm>
                  </p:grpSpPr>
                  <p:grpSp>
                    <p:nvGrpSpPr>
                      <p:cNvPr id="891" name="Group 176"/>
                      <p:cNvGrpSpPr/>
                      <p:nvPr/>
                    </p:nvGrpSpPr>
                    <p:grpSpPr>
                      <a:xfrm>
                        <a:off x="1631520" y="3632400"/>
                        <a:ext cx="204120" cy="264960"/>
                        <a:chOff x="1631520" y="3632400"/>
                        <a:chExt cx="204120" cy="264960"/>
                      </a:xfrm>
                    </p:grpSpPr>
                    <p:sp>
                      <p:nvSpPr>
                        <p:cNvPr id="892" name="Oval 174"/>
                        <p:cNvSpPr/>
                        <p:nvPr/>
                      </p:nvSpPr>
                      <p:spPr>
                        <a:xfrm>
                          <a:off x="1631520" y="3645000"/>
                          <a:ext cx="181440" cy="2523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3" name="Oval 175"/>
                        <p:cNvSpPr/>
                        <p:nvPr/>
                      </p:nvSpPr>
                      <p:spPr>
                        <a:xfrm>
                          <a:off x="1657440" y="3632400"/>
                          <a:ext cx="178200" cy="2505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94" name="Group 198"/>
                      <p:cNvGrpSpPr/>
                      <p:nvPr/>
                    </p:nvGrpSpPr>
                    <p:grpSpPr>
                      <a:xfrm>
                        <a:off x="1764360" y="3377520"/>
                        <a:ext cx="648000" cy="767520"/>
                        <a:chOff x="1764360" y="3377520"/>
                        <a:chExt cx="648000" cy="767520"/>
                      </a:xfrm>
                    </p:grpSpPr>
                    <p:grpSp>
                      <p:nvGrpSpPr>
                        <p:cNvPr id="895" name="Group 185"/>
                        <p:cNvGrpSpPr/>
                        <p:nvPr/>
                      </p:nvGrpSpPr>
                      <p:grpSpPr>
                        <a:xfrm>
                          <a:off x="1768680" y="3395880"/>
                          <a:ext cx="643680" cy="749160"/>
                          <a:chOff x="1768680" y="3395880"/>
                          <a:chExt cx="643680" cy="749160"/>
                        </a:xfrm>
                      </p:grpSpPr>
                      <p:grpSp>
                        <p:nvGrpSpPr>
                          <p:cNvPr id="896" name="Group 183"/>
                          <p:cNvGrpSpPr/>
                          <p:nvPr/>
                        </p:nvGrpSpPr>
                        <p:grpSpPr>
                          <a:xfrm>
                            <a:off x="1768680" y="3395880"/>
                            <a:ext cx="643680" cy="749160"/>
                            <a:chOff x="1768680" y="3395880"/>
                            <a:chExt cx="643680" cy="749160"/>
                          </a:xfrm>
                        </p:grpSpPr>
                        <p:sp>
                          <p:nvSpPr>
                            <p:cNvPr id="897" name="Oval 177"/>
                            <p:cNvSpPr/>
                            <p:nvPr/>
                          </p:nvSpPr>
                          <p:spPr>
                            <a:xfrm>
                              <a:off x="1768680" y="3522600"/>
                              <a:ext cx="423720" cy="5025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8" name="Oval 178"/>
                            <p:cNvSpPr/>
                            <p:nvPr/>
                          </p:nvSpPr>
                          <p:spPr>
                            <a:xfrm>
                              <a:off x="2304000" y="3754800"/>
                              <a:ext cx="104040" cy="1422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9" name="Oval 179"/>
                            <p:cNvSpPr/>
                            <p:nvPr/>
                          </p:nvSpPr>
                          <p:spPr>
                            <a:xfrm>
                              <a:off x="2185920" y="3920040"/>
                              <a:ext cx="102600" cy="1422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0" name="Oval 180"/>
                            <p:cNvSpPr/>
                            <p:nvPr/>
                          </p:nvSpPr>
                          <p:spPr>
                            <a:xfrm>
                              <a:off x="2043720" y="4019760"/>
                              <a:ext cx="94680" cy="125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760" bIns="417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1" name="Oval 181"/>
                            <p:cNvSpPr/>
                            <p:nvPr/>
                          </p:nvSpPr>
                          <p:spPr>
                            <a:xfrm>
                              <a:off x="2316240" y="3572280"/>
                              <a:ext cx="96120" cy="13212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2" name="Oval 182"/>
                            <p:cNvSpPr/>
                            <p:nvPr/>
                          </p:nvSpPr>
                          <p:spPr>
                            <a:xfrm>
                              <a:off x="2085120" y="3395880"/>
                              <a:ext cx="134280" cy="19224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03" name="Freeform 184"/>
                          <p:cNvSpPr/>
                          <p:nvPr/>
                        </p:nvSpPr>
                        <p:spPr>
                          <a:xfrm>
                            <a:off x="1912320" y="3405600"/>
                            <a:ext cx="454320" cy="71640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4" name="Group 194"/>
                        <p:cNvGrpSpPr/>
                        <p:nvPr/>
                      </p:nvGrpSpPr>
                      <p:grpSpPr>
                        <a:xfrm>
                          <a:off x="1764360" y="3377520"/>
                          <a:ext cx="643680" cy="747720"/>
                          <a:chOff x="1764360" y="3377520"/>
                          <a:chExt cx="643680" cy="747720"/>
                        </a:xfrm>
                      </p:grpSpPr>
                      <p:grpSp>
                        <p:nvGrpSpPr>
                          <p:cNvPr id="905" name="Group 192"/>
                          <p:cNvGrpSpPr/>
                          <p:nvPr/>
                        </p:nvGrpSpPr>
                        <p:grpSpPr>
                          <a:xfrm>
                            <a:off x="1764360" y="3377520"/>
                            <a:ext cx="643680" cy="747720"/>
                            <a:chOff x="1764360" y="3377520"/>
                            <a:chExt cx="643680" cy="747720"/>
                          </a:xfrm>
                        </p:grpSpPr>
                        <p:sp>
                          <p:nvSpPr>
                            <p:cNvPr id="906" name="Oval 186"/>
                            <p:cNvSpPr/>
                            <p:nvPr/>
                          </p:nvSpPr>
                          <p:spPr>
                            <a:xfrm>
                              <a:off x="1764360" y="3502800"/>
                              <a:ext cx="421920" cy="502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7" name="Oval 187"/>
                            <p:cNvSpPr/>
                            <p:nvPr/>
                          </p:nvSpPr>
                          <p:spPr>
                            <a:xfrm>
                              <a:off x="2297880" y="3735000"/>
                              <a:ext cx="105120" cy="142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8" name="Oval 188"/>
                            <p:cNvSpPr/>
                            <p:nvPr/>
                          </p:nvSpPr>
                          <p:spPr>
                            <a:xfrm>
                              <a:off x="2181600" y="3900240"/>
                              <a:ext cx="102240" cy="142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9" name="Oval 189"/>
                            <p:cNvSpPr/>
                            <p:nvPr/>
                          </p:nvSpPr>
                          <p:spPr>
                            <a:xfrm>
                              <a:off x="2039400" y="3999960"/>
                              <a:ext cx="93240" cy="1252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760" bIns="417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10" name="Oval 190"/>
                            <p:cNvSpPr/>
                            <p:nvPr/>
                          </p:nvSpPr>
                          <p:spPr>
                            <a:xfrm>
                              <a:off x="2311920" y="3552480"/>
                              <a:ext cx="96120" cy="132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11" name="Oval 191"/>
                            <p:cNvSpPr/>
                            <p:nvPr/>
                          </p:nvSpPr>
                          <p:spPr>
                            <a:xfrm>
                              <a:off x="2079360" y="3377520"/>
                              <a:ext cx="135720" cy="1908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12" name="Freeform 193"/>
                          <p:cNvSpPr/>
                          <p:nvPr/>
                        </p:nvSpPr>
                        <p:spPr>
                          <a:xfrm>
                            <a:off x="1906200" y="3387240"/>
                            <a:ext cx="455400" cy="7153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3" name="Group 197"/>
                        <p:cNvGrpSpPr/>
                        <p:nvPr/>
                      </p:nvGrpSpPr>
                      <p:grpSpPr>
                        <a:xfrm>
                          <a:off x="1851480" y="3693240"/>
                          <a:ext cx="195480" cy="183600"/>
                          <a:chOff x="1851480" y="3693240"/>
                          <a:chExt cx="195480" cy="183600"/>
                        </a:xfrm>
                      </p:grpSpPr>
                      <p:sp>
                        <p:nvSpPr>
                          <p:cNvPr id="914" name="Line 195"/>
                          <p:cNvSpPr/>
                          <p:nvPr/>
                        </p:nvSpPr>
                        <p:spPr>
                          <a:xfrm flipV="1">
                            <a:off x="1874160" y="3693240"/>
                            <a:ext cx="157320" cy="14040"/>
                          </a:xfrm>
                          <a:prstGeom prst="line">
                            <a:avLst/>
                          </a:prstGeom>
                          <a:ln w="205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5" name="Line 196"/>
                          <p:cNvSpPr/>
                          <p:nvPr/>
                        </p:nvSpPr>
                        <p:spPr>
                          <a:xfrm>
                            <a:off x="1851480" y="3800160"/>
                            <a:ext cx="195480" cy="76680"/>
                          </a:xfrm>
                          <a:prstGeom prst="line">
                            <a:avLst/>
                          </a:prstGeom>
                          <a:ln w="205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916" name="Group 209"/>
              <p:cNvGrpSpPr/>
              <p:nvPr/>
            </p:nvGrpSpPr>
            <p:grpSpPr>
              <a:xfrm>
                <a:off x="2838960" y="2319840"/>
                <a:ext cx="888480" cy="817920"/>
                <a:chOff x="2838960" y="2319840"/>
                <a:chExt cx="888480" cy="817920"/>
              </a:xfrm>
            </p:grpSpPr>
            <p:sp>
              <p:nvSpPr>
                <p:cNvPr id="917" name="Oval 203"/>
                <p:cNvSpPr/>
                <p:nvPr/>
              </p:nvSpPr>
              <p:spPr>
                <a:xfrm>
                  <a:off x="2838960" y="2319840"/>
                  <a:ext cx="64080" cy="684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204"/>
                <p:cNvSpPr/>
                <p:nvPr/>
              </p:nvSpPr>
              <p:spPr>
                <a:xfrm>
                  <a:off x="2846520" y="2322720"/>
                  <a:ext cx="512280" cy="46440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205"/>
                <p:cNvSpPr/>
                <p:nvPr/>
              </p:nvSpPr>
              <p:spPr>
                <a:xfrm>
                  <a:off x="3297600" y="2717280"/>
                  <a:ext cx="359280" cy="3578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Oval 206"/>
                <p:cNvSpPr/>
                <p:nvPr/>
              </p:nvSpPr>
              <p:spPr>
                <a:xfrm>
                  <a:off x="3285360" y="2707200"/>
                  <a:ext cx="90360" cy="896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207"/>
                <p:cNvSpPr/>
                <p:nvPr/>
              </p:nvSpPr>
              <p:spPr>
                <a:xfrm>
                  <a:off x="3585240" y="2949840"/>
                  <a:ext cx="142200" cy="18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208"/>
                <p:cNvSpPr/>
                <p:nvPr/>
              </p:nvSpPr>
              <p:spPr>
                <a:xfrm>
                  <a:off x="3605040" y="2975400"/>
                  <a:ext cx="102600" cy="13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3" name="WordArt 211"/>
          <p:cNvSpPr txBox="1"/>
          <p:nvPr/>
        </p:nvSpPr>
        <p:spPr>
          <a:xfrm>
            <a:off x="2195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01a4e"/>
                </a:solidFill>
                <a:uFillTx/>
                <a:latin typeface="Times New Roman"/>
              </a:rPr>
              <a:t>Этап №4.  «Решение  задач  с  помощью  уравне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c0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c09f7"/>
                </a:solidFill>
                <a:uFillTx/>
                <a:latin typeface="Times New Roman"/>
              </a:rPr>
              <a:t>1 ряд.</a:t>
            </a:r>
            <a:r>
              <a:rPr b="1" lang="ru-RU" sz="2000" spc="-1" strike="noStrike">
                <a:solidFill>
                  <a:srgbClr val="3c09f7"/>
                </a:solidFill>
                <a:latin typeface="Times New Roman"/>
              </a:rPr>
              <a:t>      Маша, Оля  и  Таня пошли  в  лес  за  грибами.  Маша собрала  в  3  раза  больше  грибов,  чем  Таня, а  Оля  в  2  раза  больше,  чем  Таня. Сколько  грибов  собрала каждая  девочка,  если  всего  они  собрали  84  гри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Times New Roman"/>
              </a:rPr>
              <a:t>2 ряд.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  лесу  жили  хамелеоны.  Синих  хамелеонов  было  в  7</a:t>
            </a:r>
            <a:r>
              <a:rPr b="1" lang="ru-RU" sz="20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  больше,  чем  красных,  а  красных  в  5  раз  больше,  зеленых.  Сколько  хамелеонов  каждого  цвета  жило  в  лесу,  если  всего  их  было  насчитано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123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01a4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01a4e"/>
                </a:solidFill>
                <a:uFillTx/>
                <a:latin typeface="Times New Roman"/>
              </a:rPr>
              <a:t>3  ряд</a:t>
            </a:r>
            <a:r>
              <a:rPr b="0" lang="ru-RU" sz="2000" spc="-1" strike="noStrike" u="sng">
                <a:solidFill>
                  <a:srgbClr val="601a4e"/>
                </a:solidFill>
                <a:uFillTx/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601a4e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01a4e"/>
                </a:solidFill>
                <a:latin typeface="Times New Roman"/>
              </a:rPr>
              <a:t>В  зоопарке  жили  хищные  животные.  Тигров  было  в  2  раза  больше,  чем  ягуаров  и  в  4  раза  меньше,  чем  пантер.  Сколько  хищников  каждого  вида  жило  в  зоопарке,  если  всего  насчитывалось  55  животных?</a:t>
            </a:r>
            <a:r>
              <a:rPr b="1" lang="ru-RU" sz="1800" spc="-1" strike="noStrike">
                <a:solidFill>
                  <a:srgbClr val="601a4e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8805960" y="6453360"/>
            <a:ext cx="33804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WordArt 5"/>
          <p:cNvSpPr txBox="1"/>
          <p:nvPr/>
        </p:nvSpPr>
        <p:spPr>
          <a:xfrm>
            <a:off x="241128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800080"/>
                </a:solidFill>
                <a:uFillTx/>
                <a:latin typeface="Times New Roman"/>
              </a:rPr>
              <a:t>Этап  №4.  Ответы  к  задача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763280" y="980640"/>
            <a:ext cx="6923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1 ряд.</a:t>
            </a:r>
            <a:r>
              <a:rPr b="1" lang="ru-RU" sz="2000" spc="-1" strike="noStrike">
                <a:solidFill>
                  <a:srgbClr val="97bfa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х – грибов  собрала  Та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равнение: х + 2х + 3х = 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х =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Ответ: 42, 28 и  14  гри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  ряд.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х – зеленых  хамелеонов  жило в 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авнение:    х + 5х + 35х =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х =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Ответ:  105,  15  и  3  хамеле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3  ряд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х – ягуаров  жило  в  зоопа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равнение:   2х + х + 8х = 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х 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bd3eb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Ответ: 10,  5  и  40 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8820000" y="6453360"/>
            <a:ext cx="32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WordArt 6"/>
          <p:cNvSpPr txBox="1"/>
          <p:nvPr/>
        </p:nvSpPr>
        <p:spPr>
          <a:xfrm>
            <a:off x="1979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6327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ru-RU" sz="3000" spc="-1" strike="noStrike" u="sng">
                <a:solidFill>
                  <a:srgbClr val="601a4e"/>
                </a:solidFill>
                <a:uFillTx/>
                <a:latin typeface="Arial"/>
              </a:rPr>
              <a:t>Этап №5.  Самостоятельная  работа</a:t>
            </a:r>
            <a:r>
              <a:rPr b="0" lang="ru-RU" sz="3000" spc="-1" strike="noStrike" u="sng">
                <a:solidFill>
                  <a:srgbClr val="00a8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669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a94ff"/>
                </a:solidFill>
                <a:uFillTx/>
                <a:latin typeface="Times New Roman"/>
              </a:rPr>
              <a:t>1 уровень.</a:t>
            </a:r>
            <a:r>
              <a:rPr b="1" lang="ru-RU" sz="2000" spc="-1" strike="noStrike">
                <a:solidFill>
                  <a:srgbClr val="2a94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1.  Упростите  выражение.  Заполните  пропу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а)  15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+ 20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+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(⁭ + ⁭ +⁭)∙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 ⁭∙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б)  24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– 12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– 78 = ( ⁭  -  ⁭  ) ∙ а -  78 = ⁭∙а - 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в)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+ 55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– 56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+ 45 = ( ⁭ + ⁭ -  ⁭ ) ∙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+  ⁭  = ⁭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+ ⁭ = 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2.   Решите  уравнение.</a:t>
            </a:r>
            <a:r>
              <a:rPr b="0" i="1" lang="ru-RU" sz="1800" spc="-1" strike="noStrike">
                <a:solidFill>
                  <a:srgbClr val="2a94ff"/>
                </a:solidFill>
                <a:latin typeface="Times New Roman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а)  78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+   92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= 340                   б)   49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– 27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+ 34 =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(⁭ + ⁭) ∙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340                           ( ⁭ - ⁭ )∙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+  34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⁭ ∙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340                                                ⁭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=  100  ⁭ 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340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: ⁭                                                 ⁭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=  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⁭                                                           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⁭: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Ответ:                                                             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= 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                                                               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Ответ</a:t>
            </a:r>
            <a:r>
              <a:rPr b="0" lang="en-US" sz="1800" spc="-1" strike="noStrike">
                <a:solidFill>
                  <a:srgbClr val="2a94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3.  По  данной  к  задаче  таблице  составь 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Собрали  ябл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Петя             4х   я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Галя               х   я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Коля            7х   я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94ff"/>
                </a:solidFill>
                <a:latin typeface="Times New Roman"/>
              </a:rPr>
              <a:t>Вместе дети  собрали   -    72  яб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94ff"/>
                </a:solidFill>
                <a:latin typeface="Times New Roman"/>
              </a:rPr>
              <a:t>Составляем  уравнение: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"/>
          <p:cNvSpPr/>
          <p:nvPr/>
        </p:nvSpPr>
        <p:spPr>
          <a:xfrm>
            <a:off x="1908000" y="5084640"/>
            <a:ext cx="0" cy="108108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6"/>
          <p:cNvSpPr/>
          <p:nvPr/>
        </p:nvSpPr>
        <p:spPr>
          <a:xfrm>
            <a:off x="1116000" y="5373720"/>
            <a:ext cx="266400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8801280" y="6453360"/>
            <a:ext cx="342720" cy="404640"/>
          </a:xfrm>
          <a:prstGeom prst="rect">
            <a:avLst/>
          </a:prstGeom>
          <a:solidFill>
            <a:srgbClr val="a5b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dc6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WordArt 8"/>
          <p:cNvSpPr txBox="1"/>
          <p:nvPr/>
        </p:nvSpPr>
        <p:spPr>
          <a:xfrm>
            <a:off x="421956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01a4e"/>
                </a:solidFill>
                <a:uFillTx/>
                <a:latin typeface="Arial"/>
              </a:rPr>
              <a:t>2 уров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1.  Упростите  выра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)  46х + 87х – 38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б)  84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-  37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+ 41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y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– 12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)  65а + 36а – а – 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2.  Решите  урав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)  43х +  2 ∙ 3х = 98;      б)  59а – 38а – 95 =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3.  Решите  зада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словия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Выразить  через  «х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колько 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кенгур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  5 раз  больше, чем п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они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  2  раза  больш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чем  бегем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бегемоты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сего  в  зоопарке  было  26 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Составим  и  решим  уравн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4"/>
          <p:cNvSpPr/>
          <p:nvPr/>
        </p:nvSpPr>
        <p:spPr>
          <a:xfrm>
            <a:off x="2050920" y="3860640"/>
            <a:ext cx="0" cy="16560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5"/>
          <p:cNvSpPr/>
          <p:nvPr/>
        </p:nvSpPr>
        <p:spPr>
          <a:xfrm>
            <a:off x="684360" y="4292640"/>
            <a:ext cx="684036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7"/>
          <p:cNvSpPr/>
          <p:nvPr/>
        </p:nvSpPr>
        <p:spPr>
          <a:xfrm>
            <a:off x="5364000" y="3860640"/>
            <a:ext cx="0" cy="16560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"/>
          <p:cNvSpPr/>
          <p:nvPr/>
        </p:nvSpPr>
        <p:spPr>
          <a:xfrm>
            <a:off x="684360" y="4724280"/>
            <a:ext cx="684036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539640" y="5300640"/>
            <a:ext cx="705672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>
            <a:off x="539640" y="5516640"/>
            <a:ext cx="705672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1"/>
          <p:cNvSpPr/>
          <p:nvPr/>
        </p:nvSpPr>
        <p:spPr>
          <a:xfrm>
            <a:off x="539640" y="3860640"/>
            <a:ext cx="7056720" cy="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8820000" y="6453360"/>
            <a:ext cx="324000" cy="404640"/>
          </a:xfrm>
          <a:prstGeom prst="rect">
            <a:avLst/>
          </a:prstGeom>
          <a:solidFill>
            <a:srgbClr val="a5b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13"/>
          <p:cNvSpPr txBox="1"/>
          <p:nvPr/>
        </p:nvSpPr>
        <p:spPr>
          <a:xfrm>
            <a:off x="2195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3 уров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1.  Вычислить  как  можно  более  простым 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)  5 ∙ 2 + 5 ∙ 22 + 5 ∙ 222 + 5 ∙ 222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) 33 ∙ 25 – 25 ∙ 23 + 10 ∙15 – 40 ∙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2.  Решите  урав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(((7х – 2∙2х) + 6х) – 7х) + 2 ∙ 4х = 1000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3.  Решите  за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словия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ыразить  через «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рок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2 раза  больше,  чем синиц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3  раза  меньше, чем сне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и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не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сего  на  дереве  сидело- 18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Составляем  и  решаем  урав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"/>
          <p:cNvSpPr/>
          <p:nvPr/>
        </p:nvSpPr>
        <p:spPr>
          <a:xfrm>
            <a:off x="1835280" y="4149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5"/>
          <p:cNvSpPr/>
          <p:nvPr/>
        </p:nvSpPr>
        <p:spPr>
          <a:xfrm>
            <a:off x="5940360" y="4149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6"/>
          <p:cNvSpPr/>
          <p:nvPr/>
        </p:nvSpPr>
        <p:spPr>
          <a:xfrm>
            <a:off x="395280" y="4437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7"/>
          <p:cNvSpPr/>
          <p:nvPr/>
        </p:nvSpPr>
        <p:spPr>
          <a:xfrm>
            <a:off x="324000" y="501336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8"/>
          <p:cNvSpPr/>
          <p:nvPr/>
        </p:nvSpPr>
        <p:spPr>
          <a:xfrm>
            <a:off x="395280" y="530064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9"/>
          <p:cNvSpPr/>
          <p:nvPr/>
        </p:nvSpPr>
        <p:spPr>
          <a:xfrm>
            <a:off x="395280" y="551664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0"/>
          <p:cNvSpPr/>
          <p:nvPr/>
        </p:nvSpPr>
        <p:spPr>
          <a:xfrm>
            <a:off x="395280" y="414972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8820000" y="6524640"/>
            <a:ext cx="324000" cy="333360"/>
          </a:xfrm>
          <a:prstGeom prst="rect">
            <a:avLst/>
          </a:prstGeom>
          <a:solidFill>
            <a:srgbClr val="f2a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7080" cy="71892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Этап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410920" y="1600200"/>
            <a:ext cx="45370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1 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уров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36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12а –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y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x + x  + 7x = 72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8675640" y="6524640"/>
            <a:ext cx="468360" cy="33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5"/>
          <p:cNvGrpSpPr/>
          <p:nvPr/>
        </p:nvGrpSpPr>
        <p:grpSpPr>
          <a:xfrm>
            <a:off x="250920" y="907920"/>
            <a:ext cx="8686800" cy="5486400"/>
            <a:chOff x="250920" y="907920"/>
            <a:chExt cx="8686800" cy="5486400"/>
          </a:xfrm>
        </p:grpSpPr>
        <p:grpSp>
          <p:nvGrpSpPr>
            <p:cNvPr id="963" name="Group 6"/>
            <p:cNvGrpSpPr/>
            <p:nvPr/>
          </p:nvGrpSpPr>
          <p:grpSpPr>
            <a:xfrm>
              <a:off x="399960" y="907920"/>
              <a:ext cx="1278000" cy="916200"/>
              <a:chOff x="399960" y="907920"/>
              <a:chExt cx="1278000" cy="916200"/>
            </a:xfrm>
          </p:grpSpPr>
          <p:sp>
            <p:nvSpPr>
              <p:cNvPr id="964" name="Freeform 7"/>
              <p:cNvSpPr/>
              <p:nvPr/>
            </p:nvSpPr>
            <p:spPr>
              <a:xfrm flipH="1">
                <a:off x="1451880" y="1314360"/>
                <a:ext cx="134280" cy="1512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8"/>
              <p:cNvSpPr/>
              <p:nvPr/>
            </p:nvSpPr>
            <p:spPr>
              <a:xfrm flipH="1">
                <a:off x="646920" y="1614240"/>
                <a:ext cx="1016640" cy="1918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"/>
              <p:cNvSpPr/>
              <p:nvPr/>
            </p:nvSpPr>
            <p:spPr>
              <a:xfrm flipH="1">
                <a:off x="399960" y="907920"/>
                <a:ext cx="1278000" cy="916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"/>
              <p:cNvSpPr/>
              <p:nvPr/>
            </p:nvSpPr>
            <p:spPr>
              <a:xfrm flipH="1">
                <a:off x="445680" y="1278720"/>
                <a:ext cx="216720" cy="47268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1"/>
              <p:cNvSpPr/>
              <p:nvPr/>
            </p:nvSpPr>
            <p:spPr>
              <a:xfrm flipH="1">
                <a:off x="1053000" y="925200"/>
                <a:ext cx="399960" cy="294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2"/>
              <p:cNvSpPr/>
              <p:nvPr/>
            </p:nvSpPr>
            <p:spPr>
              <a:xfrm flipH="1">
                <a:off x="1232640" y="935640"/>
                <a:ext cx="82080" cy="1749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3"/>
              <p:cNvSpPr/>
              <p:nvPr/>
            </p:nvSpPr>
            <p:spPr>
              <a:xfrm flipH="1">
                <a:off x="1137960" y="1001880"/>
                <a:ext cx="72360" cy="874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4"/>
              <p:cNvSpPr/>
              <p:nvPr/>
            </p:nvSpPr>
            <p:spPr>
              <a:xfrm flipH="1">
                <a:off x="1107360" y="1013400"/>
                <a:ext cx="66960" cy="74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5"/>
              <p:cNvSpPr/>
              <p:nvPr/>
            </p:nvSpPr>
            <p:spPr>
              <a:xfrm flipH="1">
                <a:off x="1088280" y="1028520"/>
                <a:ext cx="55080" cy="478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6"/>
              <p:cNvSpPr/>
              <p:nvPr/>
            </p:nvSpPr>
            <p:spPr>
              <a:xfrm flipH="1">
                <a:off x="971280" y="1028520"/>
                <a:ext cx="318960" cy="348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7"/>
              <p:cNvSpPr/>
              <p:nvPr/>
            </p:nvSpPr>
            <p:spPr>
              <a:xfrm flipH="1">
                <a:off x="997920" y="1039680"/>
                <a:ext cx="56520" cy="925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8"/>
              <p:cNvSpPr/>
              <p:nvPr/>
            </p:nvSpPr>
            <p:spPr>
              <a:xfrm flipH="1">
                <a:off x="1073520" y="1043640"/>
                <a:ext cx="54000" cy="417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9"/>
              <p:cNvSpPr/>
              <p:nvPr/>
            </p:nvSpPr>
            <p:spPr>
              <a:xfrm flipH="1">
                <a:off x="1312920" y="1063800"/>
                <a:ext cx="98280" cy="774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0"/>
              <p:cNvSpPr/>
              <p:nvPr/>
            </p:nvSpPr>
            <p:spPr>
              <a:xfrm flipH="1">
                <a:off x="1357920" y="1089360"/>
                <a:ext cx="69840" cy="54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1"/>
              <p:cNvSpPr/>
              <p:nvPr/>
            </p:nvSpPr>
            <p:spPr>
              <a:xfrm flipH="1">
                <a:off x="1161000" y="1169280"/>
                <a:ext cx="103680" cy="925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22"/>
              <p:cNvSpPr/>
              <p:nvPr/>
            </p:nvSpPr>
            <p:spPr>
              <a:xfrm flipH="1">
                <a:off x="1310400" y="1209960"/>
                <a:ext cx="104760" cy="8100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3"/>
              <p:cNvSpPr/>
              <p:nvPr/>
            </p:nvSpPr>
            <p:spPr>
              <a:xfrm flipH="1">
                <a:off x="1212480" y="1234440"/>
                <a:ext cx="20160" cy="151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4"/>
              <p:cNvSpPr/>
              <p:nvPr/>
            </p:nvSpPr>
            <p:spPr>
              <a:xfrm flipH="1">
                <a:off x="1325520" y="1261080"/>
                <a:ext cx="17280" cy="136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5"/>
              <p:cNvSpPr/>
              <p:nvPr/>
            </p:nvSpPr>
            <p:spPr>
              <a:xfrm flipH="1">
                <a:off x="1289880" y="1285200"/>
                <a:ext cx="34920" cy="44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"/>
              <p:cNvSpPr/>
              <p:nvPr/>
            </p:nvSpPr>
            <p:spPr>
              <a:xfrm flipH="1">
                <a:off x="905040" y="1291320"/>
                <a:ext cx="71280" cy="5976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27"/>
              <p:cNvSpPr/>
              <p:nvPr/>
            </p:nvSpPr>
            <p:spPr>
              <a:xfrm flipH="1">
                <a:off x="1169280" y="1335960"/>
                <a:ext cx="18720" cy="1008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8"/>
              <p:cNvSpPr/>
              <p:nvPr/>
            </p:nvSpPr>
            <p:spPr>
              <a:xfrm flipH="1">
                <a:off x="1365840" y="1347120"/>
                <a:ext cx="179280" cy="1436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29"/>
              <p:cNvSpPr/>
              <p:nvPr/>
            </p:nvSpPr>
            <p:spPr>
              <a:xfrm flipH="1">
                <a:off x="860400" y="1351440"/>
                <a:ext cx="296280" cy="159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0"/>
              <p:cNvSpPr/>
              <p:nvPr/>
            </p:nvSpPr>
            <p:spPr>
              <a:xfrm flipH="1">
                <a:off x="513360" y="1380600"/>
                <a:ext cx="133200" cy="26820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1"/>
              <p:cNvSpPr/>
              <p:nvPr/>
            </p:nvSpPr>
            <p:spPr>
              <a:xfrm flipH="1">
                <a:off x="1474920" y="1413720"/>
                <a:ext cx="21600" cy="2412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2"/>
              <p:cNvSpPr/>
              <p:nvPr/>
            </p:nvSpPr>
            <p:spPr>
              <a:xfrm flipH="1">
                <a:off x="784080" y="1656360"/>
                <a:ext cx="323280" cy="3672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3"/>
              <p:cNvSpPr/>
              <p:nvPr/>
            </p:nvSpPr>
            <p:spPr>
              <a:xfrm flipH="1">
                <a:off x="895680" y="1698480"/>
                <a:ext cx="211680" cy="23760"/>
              </a:xfrm>
              <a:prstGeom prst="pie">
                <a:avLst/>
              </a:pr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4"/>
              <p:cNvSpPr/>
              <p:nvPr/>
            </p:nvSpPr>
            <p:spPr>
              <a:xfrm flipH="1">
                <a:off x="479520" y="1250640"/>
                <a:ext cx="1152720" cy="402840"/>
              </a:xfrm>
              <a:prstGeom prst="pie">
                <a:avLst/>
              </a:pr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2" name="Picture 35" descr="pe01821_"/>
            <p:cNvPicPr/>
            <p:nvPr/>
          </p:nvPicPr>
          <p:blipFill>
            <a:blip r:embed="rId1"/>
            <a:stretch/>
          </p:blipFill>
          <p:spPr>
            <a:xfrm>
              <a:off x="7257960" y="4489560"/>
              <a:ext cx="167976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Picture 36" descr="pe02310_"/>
            <p:cNvPicPr/>
            <p:nvPr/>
          </p:nvPicPr>
          <p:blipFill>
            <a:blip r:embed="rId2"/>
            <a:stretch/>
          </p:blipFill>
          <p:spPr>
            <a:xfrm>
              <a:off x="250920" y="4718160"/>
              <a:ext cx="1415880" cy="14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4" name="WordArt 37"/>
          <p:cNvSpPr txBox="1"/>
          <p:nvPr/>
        </p:nvSpPr>
        <p:spPr>
          <a:xfrm>
            <a:off x="2268360" y="6426360"/>
            <a:ext cx="4924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4824720" cy="77796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2 уров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482472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1.  9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2.  88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y –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00a –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5.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.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+ 2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+5 ∙ 2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= 2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= 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20,  4 и 2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85"/>
          <p:cNvSpPr/>
          <p:nvPr/>
        </p:nvSpPr>
        <p:spPr>
          <a:xfrm>
            <a:off x="8748720" y="6453360"/>
            <a:ext cx="395280" cy="404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86"/>
          <p:cNvSpPr txBox="1"/>
          <p:nvPr/>
        </p:nvSpPr>
        <p:spPr>
          <a:xfrm>
            <a:off x="2340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9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9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969080" cy="85104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Arial"/>
              </a:rPr>
              <a:t>3  уров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411280" y="1557000"/>
            <a:ext cx="5042160" cy="381636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1.   12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2. 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3.   х =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4.   2х + х + 2 ∙ 3х = 1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4,   2 и 12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8820000" y="6524640"/>
            <a:ext cx="324000" cy="33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5"/>
          <p:cNvGrpSpPr/>
          <p:nvPr/>
        </p:nvGrpSpPr>
        <p:grpSpPr>
          <a:xfrm>
            <a:off x="0" y="2349360"/>
            <a:ext cx="8496000" cy="4076280"/>
            <a:chOff x="0" y="2349360"/>
            <a:chExt cx="8496000" cy="4076280"/>
          </a:xfrm>
        </p:grpSpPr>
        <p:pic>
          <p:nvPicPr>
            <p:cNvPr id="1003" name="Picture 6" descr="bd07223_"/>
            <p:cNvPicPr/>
            <p:nvPr/>
          </p:nvPicPr>
          <p:blipFill>
            <a:blip r:embed="rId1"/>
            <a:stretch/>
          </p:blipFill>
          <p:spPr>
            <a:xfrm>
              <a:off x="7146000" y="2349360"/>
              <a:ext cx="135000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4" name="Group 7"/>
            <p:cNvGrpSpPr/>
            <p:nvPr/>
          </p:nvGrpSpPr>
          <p:grpSpPr>
            <a:xfrm>
              <a:off x="3175920" y="5077800"/>
              <a:ext cx="2839680" cy="1347840"/>
              <a:chOff x="3175920" y="5077800"/>
              <a:chExt cx="2839680" cy="1347840"/>
            </a:xfrm>
          </p:grpSpPr>
          <p:sp>
            <p:nvSpPr>
              <p:cNvPr id="1005" name="Freeform 8"/>
              <p:cNvSpPr/>
              <p:nvPr/>
            </p:nvSpPr>
            <p:spPr>
              <a:xfrm flipH="1">
                <a:off x="3380400" y="6120720"/>
                <a:ext cx="133560" cy="4464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9"/>
              <p:cNvSpPr/>
              <p:nvPr/>
            </p:nvSpPr>
            <p:spPr>
              <a:xfrm flipH="1">
                <a:off x="4626360" y="6231240"/>
                <a:ext cx="150120" cy="1893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"/>
              <p:cNvSpPr/>
              <p:nvPr/>
            </p:nvSpPr>
            <p:spPr>
              <a:xfrm flipH="1">
                <a:off x="4510440" y="6229440"/>
                <a:ext cx="203400" cy="19440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1"/>
              <p:cNvSpPr/>
              <p:nvPr/>
            </p:nvSpPr>
            <p:spPr>
              <a:xfrm flipH="1">
                <a:off x="4512240" y="6226560"/>
                <a:ext cx="155160" cy="176760"/>
              </a:xfrm>
              <a:prstGeom prst="pie">
                <a:avLst/>
              </a:pr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2"/>
              <p:cNvSpPr/>
              <p:nvPr/>
            </p:nvSpPr>
            <p:spPr>
              <a:xfrm flipH="1">
                <a:off x="3379320" y="5931360"/>
                <a:ext cx="542160" cy="1944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3"/>
              <p:cNvSpPr/>
              <p:nvPr/>
            </p:nvSpPr>
            <p:spPr>
              <a:xfrm flipH="1">
                <a:off x="3880440" y="6022080"/>
                <a:ext cx="522720" cy="73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4"/>
              <p:cNvSpPr/>
              <p:nvPr/>
            </p:nvSpPr>
            <p:spPr>
              <a:xfrm flipH="1">
                <a:off x="4310640" y="5872320"/>
                <a:ext cx="1704960" cy="460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5"/>
              <p:cNvSpPr/>
              <p:nvPr/>
            </p:nvSpPr>
            <p:spPr>
              <a:xfrm flipH="1">
                <a:off x="5360760" y="6077880"/>
                <a:ext cx="267480" cy="23292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6"/>
              <p:cNvSpPr/>
              <p:nvPr/>
            </p:nvSpPr>
            <p:spPr>
              <a:xfrm flipH="1">
                <a:off x="5358600" y="6092280"/>
                <a:ext cx="268200" cy="229680"/>
              </a:xfrm>
              <a:prstGeom prst="pie">
                <a:avLst/>
              </a:prstGeom>
              <a:solidFill>
                <a:srgbClr val="824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7"/>
              <p:cNvSpPr/>
              <p:nvPr/>
            </p:nvSpPr>
            <p:spPr>
              <a:xfrm flipH="1">
                <a:off x="4229280" y="5907240"/>
                <a:ext cx="1151280" cy="358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8"/>
              <p:cNvSpPr/>
              <p:nvPr/>
            </p:nvSpPr>
            <p:spPr>
              <a:xfrm flipH="1">
                <a:off x="4550040" y="5883120"/>
                <a:ext cx="772200" cy="2282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9"/>
              <p:cNvSpPr/>
              <p:nvPr/>
            </p:nvSpPr>
            <p:spPr>
              <a:xfrm flipH="1">
                <a:off x="4361400" y="5421960"/>
                <a:ext cx="549000" cy="598320"/>
              </a:xfrm>
              <a:prstGeom prst="pie">
                <a:avLst/>
              </a:prstGeom>
              <a:solidFill>
                <a:srgbClr val="b0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20"/>
              <p:cNvSpPr/>
              <p:nvPr/>
            </p:nvSpPr>
            <p:spPr>
              <a:xfrm flipH="1">
                <a:off x="4503600" y="5433480"/>
                <a:ext cx="394920" cy="561240"/>
              </a:xfrm>
              <a:prstGeom prst="pie">
                <a:avLst/>
              </a:pr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21"/>
              <p:cNvSpPr/>
              <p:nvPr/>
            </p:nvSpPr>
            <p:spPr>
              <a:xfrm flipH="1">
                <a:off x="4510800" y="5503680"/>
                <a:ext cx="335520" cy="29844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22"/>
              <p:cNvSpPr/>
              <p:nvPr/>
            </p:nvSpPr>
            <p:spPr>
              <a:xfrm flipH="1">
                <a:off x="4288320" y="5772960"/>
                <a:ext cx="109080" cy="19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23"/>
              <p:cNvSpPr/>
              <p:nvPr/>
            </p:nvSpPr>
            <p:spPr>
              <a:xfrm flipH="1">
                <a:off x="4809600" y="5742720"/>
                <a:ext cx="537480" cy="3175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24"/>
              <p:cNvSpPr/>
              <p:nvPr/>
            </p:nvSpPr>
            <p:spPr>
              <a:xfrm flipH="1">
                <a:off x="4398120" y="5082480"/>
                <a:ext cx="699840" cy="51048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25"/>
              <p:cNvSpPr/>
              <p:nvPr/>
            </p:nvSpPr>
            <p:spPr>
              <a:xfrm flipH="1">
                <a:off x="4377960" y="5526000"/>
                <a:ext cx="147240" cy="449640"/>
              </a:xfrm>
              <a:prstGeom prst="pie">
                <a:avLst/>
              </a:pr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 flipH="1">
                <a:off x="4464000" y="5305680"/>
                <a:ext cx="77400" cy="10692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 flipH="1">
                <a:off x="4829400" y="5206680"/>
                <a:ext cx="3636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28"/>
              <p:cNvSpPr/>
              <p:nvPr/>
            </p:nvSpPr>
            <p:spPr>
              <a:xfrm flipH="1">
                <a:off x="4884120" y="5449320"/>
                <a:ext cx="75960" cy="11628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29"/>
              <p:cNvSpPr/>
              <p:nvPr/>
            </p:nvSpPr>
            <p:spPr>
              <a:xfrm flipH="1">
                <a:off x="4629240" y="5080680"/>
                <a:ext cx="99000" cy="957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30"/>
              <p:cNvSpPr/>
              <p:nvPr/>
            </p:nvSpPr>
            <p:spPr>
              <a:xfrm flipH="1">
                <a:off x="4682880" y="5229000"/>
                <a:ext cx="145440" cy="13716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31"/>
              <p:cNvSpPr/>
              <p:nvPr/>
            </p:nvSpPr>
            <p:spPr>
              <a:xfrm flipH="1">
                <a:off x="4892760" y="5122080"/>
                <a:ext cx="107280" cy="130680"/>
              </a:xfrm>
              <a:prstGeom prst="pie">
                <a:avLst/>
              </a:pr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2"/>
              <p:cNvSpPr/>
              <p:nvPr/>
            </p:nvSpPr>
            <p:spPr>
              <a:xfrm flipH="1">
                <a:off x="4937760" y="5658480"/>
                <a:ext cx="97200" cy="16236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3"/>
              <p:cNvSpPr/>
              <p:nvPr/>
            </p:nvSpPr>
            <p:spPr>
              <a:xfrm flipH="1">
                <a:off x="4901040" y="5165280"/>
                <a:ext cx="107280" cy="98640"/>
              </a:xfrm>
              <a:prstGeom prst="pie">
                <a:avLst/>
              </a:pr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4"/>
              <p:cNvSpPr/>
              <p:nvPr/>
            </p:nvSpPr>
            <p:spPr>
              <a:xfrm flipH="1">
                <a:off x="5022000" y="5607360"/>
                <a:ext cx="168480" cy="211680"/>
              </a:xfrm>
              <a:prstGeom prst="pie">
                <a:avLst/>
              </a:pr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5"/>
              <p:cNvSpPr/>
              <p:nvPr/>
            </p:nvSpPr>
            <p:spPr>
              <a:xfrm flipH="1">
                <a:off x="4758480" y="5168520"/>
                <a:ext cx="39240" cy="36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6"/>
              <p:cNvSpPr/>
              <p:nvPr/>
            </p:nvSpPr>
            <p:spPr>
              <a:xfrm flipH="1">
                <a:off x="4935240" y="5541840"/>
                <a:ext cx="235080" cy="1641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7"/>
              <p:cNvSpPr/>
              <p:nvPr/>
            </p:nvSpPr>
            <p:spPr>
              <a:xfrm flipH="1">
                <a:off x="5436720" y="6010920"/>
                <a:ext cx="39240" cy="30240"/>
              </a:xfrm>
              <a:prstGeom prst="pie">
                <a:avLst/>
              </a:pr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8"/>
              <p:cNvSpPr/>
              <p:nvPr/>
            </p:nvSpPr>
            <p:spPr>
              <a:xfrm flipH="1">
                <a:off x="4890600" y="5629320"/>
                <a:ext cx="580680" cy="461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9"/>
              <p:cNvSpPr/>
              <p:nvPr/>
            </p:nvSpPr>
            <p:spPr>
              <a:xfrm flipH="1">
                <a:off x="5185080" y="5619960"/>
                <a:ext cx="204840" cy="2084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0"/>
              <p:cNvSpPr/>
              <p:nvPr/>
            </p:nvSpPr>
            <p:spPr>
              <a:xfrm flipH="1">
                <a:off x="5243400" y="5342400"/>
                <a:ext cx="145440" cy="331560"/>
              </a:xfrm>
              <a:prstGeom prst="pie">
                <a:avLst/>
              </a:pr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1"/>
              <p:cNvSpPr/>
              <p:nvPr/>
            </p:nvSpPr>
            <p:spPr>
              <a:xfrm flipH="1">
                <a:off x="5134320" y="5248080"/>
                <a:ext cx="60840" cy="50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"/>
              <p:cNvSpPr/>
              <p:nvPr/>
            </p:nvSpPr>
            <p:spPr>
              <a:xfrm flipH="1">
                <a:off x="5413320" y="5624640"/>
                <a:ext cx="82440" cy="205560"/>
              </a:xfrm>
              <a:prstGeom prst="pie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3"/>
              <p:cNvSpPr/>
              <p:nvPr/>
            </p:nvSpPr>
            <p:spPr>
              <a:xfrm flipH="1">
                <a:off x="5455080" y="5753880"/>
                <a:ext cx="112320" cy="1069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4"/>
              <p:cNvSpPr/>
              <p:nvPr/>
            </p:nvSpPr>
            <p:spPr>
              <a:xfrm flipH="1">
                <a:off x="5423400" y="5616720"/>
                <a:ext cx="170640" cy="140040"/>
              </a:xfrm>
              <a:prstGeom prst="pie">
                <a:avLst/>
              </a:prstGeom>
              <a:solidFill>
                <a:srgbClr val="ff0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5"/>
              <p:cNvSpPr/>
              <p:nvPr/>
            </p:nvSpPr>
            <p:spPr>
              <a:xfrm flipH="1">
                <a:off x="5523120" y="5493600"/>
                <a:ext cx="74160" cy="16272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6"/>
              <p:cNvSpPr/>
              <p:nvPr/>
            </p:nvSpPr>
            <p:spPr>
              <a:xfrm flipH="1">
                <a:off x="5579280" y="5506920"/>
                <a:ext cx="107280" cy="141480"/>
              </a:xfrm>
              <a:prstGeom prst="pi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"/>
              <p:cNvSpPr/>
              <p:nvPr/>
            </p:nvSpPr>
            <p:spPr>
              <a:xfrm flipH="1">
                <a:off x="5520960" y="5461920"/>
                <a:ext cx="127440" cy="7812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8"/>
              <p:cNvSpPr/>
              <p:nvPr/>
            </p:nvSpPr>
            <p:spPr>
              <a:xfrm flipH="1">
                <a:off x="3182400" y="5798880"/>
                <a:ext cx="100800" cy="6192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9"/>
              <p:cNvSpPr/>
              <p:nvPr/>
            </p:nvSpPr>
            <p:spPr>
              <a:xfrm flipH="1">
                <a:off x="3658680" y="5734800"/>
                <a:ext cx="67680" cy="5076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0"/>
              <p:cNvSpPr/>
              <p:nvPr/>
            </p:nvSpPr>
            <p:spPr>
              <a:xfrm flipH="1">
                <a:off x="3205440" y="5629320"/>
                <a:ext cx="496080" cy="484920"/>
              </a:xfrm>
              <a:prstGeom prst="pie">
                <a:avLst/>
              </a:prstGeom>
              <a:solidFill>
                <a:srgbClr val="8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"/>
              <p:cNvSpPr/>
              <p:nvPr/>
            </p:nvSpPr>
            <p:spPr>
              <a:xfrm flipH="1">
                <a:off x="3338280" y="5398200"/>
                <a:ext cx="257760" cy="393840"/>
              </a:xfrm>
              <a:prstGeom prst="pie">
                <a:avLst/>
              </a:pr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2"/>
              <p:cNvSpPr/>
              <p:nvPr/>
            </p:nvSpPr>
            <p:spPr>
              <a:xfrm flipH="1">
                <a:off x="3372480" y="5396400"/>
                <a:ext cx="218160" cy="395640"/>
              </a:xfrm>
              <a:prstGeom prst="pie">
                <a:avLst/>
              </a:pr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3"/>
              <p:cNvSpPr/>
              <p:nvPr/>
            </p:nvSpPr>
            <p:spPr>
              <a:xfrm flipH="1">
                <a:off x="5142240" y="5245200"/>
                <a:ext cx="658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4"/>
              <p:cNvSpPr/>
              <p:nvPr/>
            </p:nvSpPr>
            <p:spPr>
              <a:xfrm flipH="1">
                <a:off x="3440160" y="5350320"/>
                <a:ext cx="236520" cy="250200"/>
              </a:xfrm>
              <a:prstGeom prst="pie">
                <a:avLst/>
              </a:prstGeom>
              <a:solidFill>
                <a:srgbClr val="f0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5"/>
              <p:cNvSpPr/>
              <p:nvPr/>
            </p:nvSpPr>
            <p:spPr>
              <a:xfrm flipH="1">
                <a:off x="5150520" y="5165280"/>
                <a:ext cx="3780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6"/>
              <p:cNvSpPr/>
              <p:nvPr/>
            </p:nvSpPr>
            <p:spPr>
              <a:xfrm flipH="1">
                <a:off x="5067720" y="5189040"/>
                <a:ext cx="5940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7"/>
              <p:cNvSpPr/>
              <p:nvPr/>
            </p:nvSpPr>
            <p:spPr>
              <a:xfrm flipH="1">
                <a:off x="5196960" y="5185800"/>
                <a:ext cx="561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8"/>
              <p:cNvSpPr/>
              <p:nvPr/>
            </p:nvSpPr>
            <p:spPr>
              <a:xfrm flipH="1">
                <a:off x="3261960" y="6102000"/>
                <a:ext cx="115200" cy="37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9"/>
              <p:cNvSpPr/>
              <p:nvPr/>
            </p:nvSpPr>
            <p:spPr>
              <a:xfrm flipH="1">
                <a:off x="3290040" y="5710680"/>
                <a:ext cx="391680" cy="401760"/>
              </a:xfrm>
              <a:prstGeom prst="pie">
                <a:avLst/>
              </a:pr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0"/>
              <p:cNvSpPr/>
              <p:nvPr/>
            </p:nvSpPr>
            <p:spPr>
              <a:xfrm flipH="1">
                <a:off x="3421800" y="5469840"/>
                <a:ext cx="82440" cy="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1"/>
              <p:cNvSpPr/>
              <p:nvPr/>
            </p:nvSpPr>
            <p:spPr>
              <a:xfrm flipH="1">
                <a:off x="5220360" y="5251320"/>
                <a:ext cx="7416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2"/>
              <p:cNvSpPr/>
              <p:nvPr/>
            </p:nvSpPr>
            <p:spPr>
              <a:xfrm flipH="1">
                <a:off x="5046840" y="5241960"/>
                <a:ext cx="6768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3"/>
              <p:cNvSpPr/>
              <p:nvPr/>
            </p:nvSpPr>
            <p:spPr>
              <a:xfrm flipH="1">
                <a:off x="5067720" y="5288040"/>
                <a:ext cx="4428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4"/>
              <p:cNvSpPr/>
              <p:nvPr/>
            </p:nvSpPr>
            <p:spPr>
              <a:xfrm flipH="1">
                <a:off x="3461760" y="5355000"/>
                <a:ext cx="216720" cy="24372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5"/>
              <p:cNvSpPr/>
              <p:nvPr/>
            </p:nvSpPr>
            <p:spPr>
              <a:xfrm flipH="1">
                <a:off x="5117760" y="5316840"/>
                <a:ext cx="3276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6"/>
              <p:cNvSpPr/>
              <p:nvPr/>
            </p:nvSpPr>
            <p:spPr>
              <a:xfrm flipH="1">
                <a:off x="5183280" y="5326200"/>
                <a:ext cx="363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7"/>
              <p:cNvSpPr/>
              <p:nvPr/>
            </p:nvSpPr>
            <p:spPr>
              <a:xfrm flipH="1">
                <a:off x="5204880" y="5304240"/>
                <a:ext cx="208440" cy="52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8"/>
              <p:cNvSpPr/>
              <p:nvPr/>
            </p:nvSpPr>
            <p:spPr>
              <a:xfrm flipH="1">
                <a:off x="5293080" y="5680440"/>
                <a:ext cx="410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9"/>
              <p:cNvSpPr/>
              <p:nvPr/>
            </p:nvSpPr>
            <p:spPr>
              <a:xfrm flipH="1">
                <a:off x="5292720" y="5832000"/>
                <a:ext cx="183240" cy="19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70"/>
              <p:cNvSpPr/>
              <p:nvPr/>
            </p:nvSpPr>
            <p:spPr>
              <a:xfrm flipH="1">
                <a:off x="5436720" y="6015600"/>
                <a:ext cx="3924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71"/>
              <p:cNvSpPr/>
              <p:nvPr/>
            </p:nvSpPr>
            <p:spPr>
              <a:xfrm flipH="1">
                <a:off x="5050080" y="5624640"/>
                <a:ext cx="113760" cy="16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72"/>
              <p:cNvSpPr/>
              <p:nvPr/>
            </p:nvSpPr>
            <p:spPr>
              <a:xfrm flipH="1">
                <a:off x="5079240" y="5963040"/>
                <a:ext cx="219960" cy="14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73"/>
              <p:cNvSpPr/>
              <p:nvPr/>
            </p:nvSpPr>
            <p:spPr>
              <a:xfrm flipH="1">
                <a:off x="5149080" y="5798880"/>
                <a:ext cx="14544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74"/>
              <p:cNvSpPr/>
              <p:nvPr/>
            </p:nvSpPr>
            <p:spPr>
              <a:xfrm flipH="1">
                <a:off x="5142960" y="5832000"/>
                <a:ext cx="115200" cy="11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75"/>
              <p:cNvSpPr/>
              <p:nvPr/>
            </p:nvSpPr>
            <p:spPr>
              <a:xfrm flipH="1">
                <a:off x="4971960" y="5851080"/>
                <a:ext cx="18504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6"/>
              <p:cNvSpPr/>
              <p:nvPr/>
            </p:nvSpPr>
            <p:spPr>
              <a:xfrm flipH="1">
                <a:off x="4776840" y="5144400"/>
                <a:ext cx="14544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77"/>
              <p:cNvSpPr/>
              <p:nvPr/>
            </p:nvSpPr>
            <p:spPr>
              <a:xfrm flipH="1">
                <a:off x="4910400" y="5147640"/>
                <a:ext cx="9108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78"/>
              <p:cNvSpPr/>
              <p:nvPr/>
            </p:nvSpPr>
            <p:spPr>
              <a:xfrm flipH="1">
                <a:off x="4889520" y="5112720"/>
                <a:ext cx="9936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9"/>
              <p:cNvSpPr/>
              <p:nvPr/>
            </p:nvSpPr>
            <p:spPr>
              <a:xfrm flipH="1">
                <a:off x="4649400" y="5077800"/>
                <a:ext cx="12348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80"/>
              <p:cNvSpPr/>
              <p:nvPr/>
            </p:nvSpPr>
            <p:spPr>
              <a:xfrm flipH="1">
                <a:off x="4695480" y="5106240"/>
                <a:ext cx="3780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81"/>
              <p:cNvSpPr/>
              <p:nvPr/>
            </p:nvSpPr>
            <p:spPr>
              <a:xfrm flipH="1">
                <a:off x="5518080" y="5460480"/>
                <a:ext cx="133560" cy="19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82"/>
              <p:cNvSpPr/>
              <p:nvPr/>
            </p:nvSpPr>
            <p:spPr>
              <a:xfrm flipH="1">
                <a:off x="5594400" y="5506920"/>
                <a:ext cx="97200" cy="14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83"/>
              <p:cNvSpPr/>
              <p:nvPr/>
            </p:nvSpPr>
            <p:spPr>
              <a:xfrm flipH="1">
                <a:off x="5407200" y="5487480"/>
                <a:ext cx="122400" cy="35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84"/>
              <p:cNvSpPr/>
              <p:nvPr/>
            </p:nvSpPr>
            <p:spPr>
              <a:xfrm flipH="1">
                <a:off x="5416920" y="5613480"/>
                <a:ext cx="1832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85"/>
              <p:cNvSpPr/>
              <p:nvPr/>
            </p:nvSpPr>
            <p:spPr>
              <a:xfrm flipH="1">
                <a:off x="5451480" y="5749200"/>
                <a:ext cx="119160" cy="12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86"/>
              <p:cNvSpPr/>
              <p:nvPr/>
            </p:nvSpPr>
            <p:spPr>
              <a:xfrm flipH="1">
                <a:off x="4927320" y="5533920"/>
                <a:ext cx="249480" cy="18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87"/>
              <p:cNvSpPr/>
              <p:nvPr/>
            </p:nvSpPr>
            <p:spPr>
              <a:xfrm flipH="1">
                <a:off x="4934160" y="5661360"/>
                <a:ext cx="185040" cy="17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8"/>
              <p:cNvSpPr/>
              <p:nvPr/>
            </p:nvSpPr>
            <p:spPr>
              <a:xfrm flipH="1">
                <a:off x="4827960" y="5203440"/>
                <a:ext cx="327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89"/>
              <p:cNvSpPr/>
              <p:nvPr/>
            </p:nvSpPr>
            <p:spPr>
              <a:xfrm flipH="1">
                <a:off x="4758840" y="5165280"/>
                <a:ext cx="295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90"/>
              <p:cNvSpPr/>
              <p:nvPr/>
            </p:nvSpPr>
            <p:spPr>
              <a:xfrm flipH="1">
                <a:off x="4668840" y="5173200"/>
                <a:ext cx="191880" cy="20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91"/>
              <p:cNvSpPr/>
              <p:nvPr/>
            </p:nvSpPr>
            <p:spPr>
              <a:xfrm flipH="1">
                <a:off x="4743360" y="5253120"/>
                <a:ext cx="37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92"/>
              <p:cNvSpPr/>
              <p:nvPr/>
            </p:nvSpPr>
            <p:spPr>
              <a:xfrm flipH="1">
                <a:off x="4712400" y="5280120"/>
                <a:ext cx="993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93"/>
              <p:cNvSpPr/>
              <p:nvPr/>
            </p:nvSpPr>
            <p:spPr>
              <a:xfrm flipH="1">
                <a:off x="4896000" y="5310360"/>
                <a:ext cx="208080" cy="14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94"/>
              <p:cNvSpPr/>
              <p:nvPr/>
            </p:nvSpPr>
            <p:spPr>
              <a:xfrm flipH="1">
                <a:off x="5036040" y="5417280"/>
                <a:ext cx="298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95"/>
              <p:cNvSpPr/>
              <p:nvPr/>
            </p:nvSpPr>
            <p:spPr>
              <a:xfrm flipH="1">
                <a:off x="4995360" y="5426640"/>
                <a:ext cx="4104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96"/>
              <p:cNvSpPr/>
              <p:nvPr/>
            </p:nvSpPr>
            <p:spPr>
              <a:xfrm flipH="1">
                <a:off x="4963320" y="5421960"/>
                <a:ext cx="3636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97"/>
              <p:cNvSpPr/>
              <p:nvPr/>
            </p:nvSpPr>
            <p:spPr>
              <a:xfrm flipH="1">
                <a:off x="4912560" y="5388480"/>
                <a:ext cx="5760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98"/>
              <p:cNvSpPr/>
              <p:nvPr/>
            </p:nvSpPr>
            <p:spPr>
              <a:xfrm flipH="1">
                <a:off x="4973760" y="54093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99"/>
              <p:cNvSpPr/>
              <p:nvPr/>
            </p:nvSpPr>
            <p:spPr>
              <a:xfrm flipH="1">
                <a:off x="4860000" y="5361120"/>
                <a:ext cx="5760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00"/>
              <p:cNvSpPr/>
              <p:nvPr/>
            </p:nvSpPr>
            <p:spPr>
              <a:xfrm flipH="1">
                <a:off x="4861080" y="5429880"/>
                <a:ext cx="119160" cy="18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01"/>
              <p:cNvSpPr/>
              <p:nvPr/>
            </p:nvSpPr>
            <p:spPr>
              <a:xfrm flipH="1">
                <a:off x="4522320" y="5162040"/>
                <a:ext cx="1418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02"/>
              <p:cNvSpPr/>
              <p:nvPr/>
            </p:nvSpPr>
            <p:spPr>
              <a:xfrm flipH="1">
                <a:off x="4504320" y="5189040"/>
                <a:ext cx="4752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03"/>
              <p:cNvSpPr/>
              <p:nvPr/>
            </p:nvSpPr>
            <p:spPr>
              <a:xfrm flipH="1">
                <a:off x="4503600" y="5212800"/>
                <a:ext cx="3636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04"/>
              <p:cNvSpPr/>
              <p:nvPr/>
            </p:nvSpPr>
            <p:spPr>
              <a:xfrm flipH="1">
                <a:off x="4536720" y="5240160"/>
                <a:ext cx="6444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05"/>
              <p:cNvSpPr/>
              <p:nvPr/>
            </p:nvSpPr>
            <p:spPr>
              <a:xfrm flipH="1">
                <a:off x="4470480" y="5234040"/>
                <a:ext cx="4644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06"/>
              <p:cNvSpPr/>
              <p:nvPr/>
            </p:nvSpPr>
            <p:spPr>
              <a:xfrm flipH="1">
                <a:off x="4433040" y="5248080"/>
                <a:ext cx="561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07"/>
              <p:cNvSpPr/>
              <p:nvPr/>
            </p:nvSpPr>
            <p:spPr>
              <a:xfrm flipH="1">
                <a:off x="4417560" y="5263920"/>
                <a:ext cx="3276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08"/>
              <p:cNvSpPr/>
              <p:nvPr/>
            </p:nvSpPr>
            <p:spPr>
              <a:xfrm flipH="1">
                <a:off x="4396320" y="5284800"/>
                <a:ext cx="478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09"/>
              <p:cNvSpPr/>
              <p:nvPr/>
            </p:nvSpPr>
            <p:spPr>
              <a:xfrm flipH="1">
                <a:off x="4519080" y="5294520"/>
                <a:ext cx="410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10"/>
              <p:cNvSpPr/>
              <p:nvPr/>
            </p:nvSpPr>
            <p:spPr>
              <a:xfrm flipH="1">
                <a:off x="4548960" y="5315400"/>
                <a:ext cx="309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11"/>
              <p:cNvSpPr/>
              <p:nvPr/>
            </p:nvSpPr>
            <p:spPr>
              <a:xfrm flipH="1">
                <a:off x="4449240" y="5323320"/>
                <a:ext cx="14400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12"/>
              <p:cNvSpPr/>
              <p:nvPr/>
            </p:nvSpPr>
            <p:spPr>
              <a:xfrm flipH="1">
                <a:off x="4348080" y="5417280"/>
                <a:ext cx="522360" cy="55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13"/>
              <p:cNvSpPr/>
              <p:nvPr/>
            </p:nvSpPr>
            <p:spPr>
              <a:xfrm flipH="1">
                <a:off x="4492800" y="5482800"/>
                <a:ext cx="363600" cy="30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14"/>
              <p:cNvSpPr/>
              <p:nvPr/>
            </p:nvSpPr>
            <p:spPr>
              <a:xfrm flipH="1">
                <a:off x="4513680" y="5784120"/>
                <a:ext cx="27792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15"/>
              <p:cNvSpPr/>
              <p:nvPr/>
            </p:nvSpPr>
            <p:spPr>
              <a:xfrm flipH="1">
                <a:off x="4477680" y="5505120"/>
                <a:ext cx="56160" cy="28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16"/>
              <p:cNvSpPr/>
              <p:nvPr/>
            </p:nvSpPr>
            <p:spPr>
              <a:xfrm flipH="1">
                <a:off x="3799080" y="5852880"/>
                <a:ext cx="428040" cy="13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17"/>
              <p:cNvSpPr/>
              <p:nvPr/>
            </p:nvSpPr>
            <p:spPr>
              <a:xfrm flipH="1">
                <a:off x="4229280" y="5776200"/>
                <a:ext cx="1118160" cy="34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18"/>
              <p:cNvSpPr/>
              <p:nvPr/>
            </p:nvSpPr>
            <p:spPr>
              <a:xfrm flipH="1">
                <a:off x="4540680" y="5578560"/>
                <a:ext cx="353520" cy="43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19"/>
              <p:cNvSpPr/>
              <p:nvPr/>
            </p:nvSpPr>
            <p:spPr>
              <a:xfrm flipH="1">
                <a:off x="4583160" y="5888160"/>
                <a:ext cx="172080" cy="4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20"/>
              <p:cNvSpPr/>
              <p:nvPr/>
            </p:nvSpPr>
            <p:spPr>
              <a:xfrm flipH="1">
                <a:off x="4695480" y="5851080"/>
                <a:ext cx="327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21"/>
              <p:cNvSpPr/>
              <p:nvPr/>
            </p:nvSpPr>
            <p:spPr>
              <a:xfrm flipH="1">
                <a:off x="4235760" y="5953320"/>
                <a:ext cx="113796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22"/>
              <p:cNvSpPr/>
              <p:nvPr/>
            </p:nvSpPr>
            <p:spPr>
              <a:xfrm flipH="1">
                <a:off x="4930200" y="5923080"/>
                <a:ext cx="170280" cy="16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23"/>
              <p:cNvSpPr/>
              <p:nvPr/>
            </p:nvSpPr>
            <p:spPr>
              <a:xfrm flipH="1">
                <a:off x="4881240" y="5750640"/>
                <a:ext cx="69120" cy="19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24"/>
              <p:cNvSpPr/>
              <p:nvPr/>
            </p:nvSpPr>
            <p:spPr>
              <a:xfrm flipH="1">
                <a:off x="3436920" y="5347080"/>
                <a:ext cx="244800" cy="25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25"/>
              <p:cNvSpPr/>
              <p:nvPr/>
            </p:nvSpPr>
            <p:spPr>
              <a:xfrm flipH="1">
                <a:off x="3437280" y="5578560"/>
                <a:ext cx="15048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26"/>
              <p:cNvSpPr/>
              <p:nvPr/>
            </p:nvSpPr>
            <p:spPr>
              <a:xfrm flipH="1">
                <a:off x="3417120" y="5463720"/>
                <a:ext cx="8424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27"/>
              <p:cNvSpPr/>
              <p:nvPr/>
            </p:nvSpPr>
            <p:spPr>
              <a:xfrm flipH="1">
                <a:off x="3443400" y="5474880"/>
                <a:ext cx="212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28"/>
              <p:cNvSpPr/>
              <p:nvPr/>
            </p:nvSpPr>
            <p:spPr>
              <a:xfrm flipH="1">
                <a:off x="3326040" y="5407560"/>
                <a:ext cx="11052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29"/>
              <p:cNvSpPr/>
              <p:nvPr/>
            </p:nvSpPr>
            <p:spPr>
              <a:xfrm flipH="1">
                <a:off x="3413880" y="5635800"/>
                <a:ext cx="77400" cy="15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30"/>
              <p:cNvSpPr/>
              <p:nvPr/>
            </p:nvSpPr>
            <p:spPr>
              <a:xfrm flipH="1">
                <a:off x="3519720" y="5634360"/>
                <a:ext cx="193320" cy="14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31"/>
              <p:cNvSpPr/>
              <p:nvPr/>
            </p:nvSpPr>
            <p:spPr>
              <a:xfrm flipH="1">
                <a:off x="3514680" y="5739840"/>
                <a:ext cx="13752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32"/>
              <p:cNvSpPr/>
              <p:nvPr/>
            </p:nvSpPr>
            <p:spPr>
              <a:xfrm flipH="1">
                <a:off x="3665160" y="5742720"/>
                <a:ext cx="7272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33"/>
              <p:cNvSpPr/>
              <p:nvPr/>
            </p:nvSpPr>
            <p:spPr>
              <a:xfrm flipH="1">
                <a:off x="3499560" y="5763600"/>
                <a:ext cx="3780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134"/>
              <p:cNvSpPr/>
              <p:nvPr/>
            </p:nvSpPr>
            <p:spPr>
              <a:xfrm flipH="1">
                <a:off x="3355560" y="5830560"/>
                <a:ext cx="198360" cy="30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35"/>
              <p:cNvSpPr/>
              <p:nvPr/>
            </p:nvSpPr>
            <p:spPr>
              <a:xfrm flipH="1">
                <a:off x="3315600" y="5919840"/>
                <a:ext cx="10764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36"/>
              <p:cNvSpPr/>
              <p:nvPr/>
            </p:nvSpPr>
            <p:spPr>
              <a:xfrm flipH="1">
                <a:off x="3238200" y="5867280"/>
                <a:ext cx="132120" cy="19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137"/>
              <p:cNvSpPr/>
              <p:nvPr/>
            </p:nvSpPr>
            <p:spPr>
              <a:xfrm flipH="1">
                <a:off x="3296520" y="6039720"/>
                <a:ext cx="49680" cy="6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38"/>
              <p:cNvSpPr/>
              <p:nvPr/>
            </p:nvSpPr>
            <p:spPr>
              <a:xfrm flipH="1">
                <a:off x="3185280" y="5637240"/>
                <a:ext cx="153720" cy="19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39"/>
              <p:cNvSpPr/>
              <p:nvPr/>
            </p:nvSpPr>
            <p:spPr>
              <a:xfrm flipH="1">
                <a:off x="3175920" y="5811480"/>
                <a:ext cx="10224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140"/>
              <p:cNvSpPr/>
              <p:nvPr/>
            </p:nvSpPr>
            <p:spPr>
              <a:xfrm flipH="1">
                <a:off x="3678480" y="5780880"/>
                <a:ext cx="12204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41"/>
              <p:cNvSpPr/>
              <p:nvPr/>
            </p:nvSpPr>
            <p:spPr>
              <a:xfrm flipH="1">
                <a:off x="5177160" y="5616720"/>
                <a:ext cx="9936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142"/>
              <p:cNvSpPr/>
              <p:nvPr/>
            </p:nvSpPr>
            <p:spPr>
              <a:xfrm flipH="1">
                <a:off x="4864320" y="6157800"/>
                <a:ext cx="152280" cy="15624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143"/>
              <p:cNvSpPr/>
              <p:nvPr/>
            </p:nvSpPr>
            <p:spPr>
              <a:xfrm flipH="1">
                <a:off x="4859640" y="6153120"/>
                <a:ext cx="18000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44"/>
              <p:cNvSpPr/>
              <p:nvPr/>
            </p:nvSpPr>
            <p:spPr>
              <a:xfrm flipH="1">
                <a:off x="4896360" y="6192720"/>
                <a:ext cx="5904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45"/>
              <p:cNvSpPr/>
              <p:nvPr/>
            </p:nvSpPr>
            <p:spPr>
              <a:xfrm flipH="1">
                <a:off x="4293360" y="6042600"/>
                <a:ext cx="135720" cy="13860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46"/>
              <p:cNvSpPr/>
              <p:nvPr/>
            </p:nvSpPr>
            <p:spPr>
              <a:xfrm flipH="1">
                <a:off x="4288680" y="6039720"/>
                <a:ext cx="16200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47"/>
              <p:cNvSpPr/>
              <p:nvPr/>
            </p:nvSpPr>
            <p:spPr>
              <a:xfrm flipH="1">
                <a:off x="4321800" y="6075000"/>
                <a:ext cx="5472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148"/>
              <p:cNvSpPr/>
              <p:nvPr/>
            </p:nvSpPr>
            <p:spPr>
              <a:xfrm flipH="1">
                <a:off x="3369240" y="5854320"/>
                <a:ext cx="10584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149"/>
              <p:cNvSpPr/>
              <p:nvPr/>
            </p:nvSpPr>
            <p:spPr>
              <a:xfrm flipH="1">
                <a:off x="5353560" y="6075000"/>
                <a:ext cx="286200" cy="25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50"/>
              <p:cNvSpPr/>
              <p:nvPr/>
            </p:nvSpPr>
            <p:spPr>
              <a:xfrm flipH="1">
                <a:off x="5451480" y="6108120"/>
                <a:ext cx="75960" cy="41400"/>
              </a:xfrm>
              <a:prstGeom prst="pie">
                <a:avLst/>
              </a:prstGeom>
              <a:solidFill>
                <a:srgbClr val="cca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151"/>
              <p:cNvSpPr/>
              <p:nvPr/>
            </p:nvSpPr>
            <p:spPr>
              <a:xfrm flipH="1">
                <a:off x="4610160" y="5563800"/>
                <a:ext cx="201600" cy="2203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52"/>
              <p:cNvSpPr/>
              <p:nvPr/>
            </p:nvSpPr>
            <p:spPr>
              <a:xfrm flipH="1">
                <a:off x="4556880" y="6266160"/>
                <a:ext cx="163440" cy="14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153"/>
              <p:cNvSpPr/>
              <p:nvPr/>
            </p:nvSpPr>
            <p:spPr>
              <a:xfrm flipH="1">
                <a:off x="4506840" y="6261480"/>
                <a:ext cx="196920" cy="16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54"/>
              <p:cNvSpPr/>
              <p:nvPr/>
            </p:nvSpPr>
            <p:spPr>
              <a:xfrm flipH="1">
                <a:off x="4514040" y="6223320"/>
                <a:ext cx="1454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55"/>
              <p:cNvSpPr/>
              <p:nvPr/>
            </p:nvSpPr>
            <p:spPr>
              <a:xfrm flipH="1">
                <a:off x="4525560" y="5955120"/>
                <a:ext cx="236160" cy="27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156"/>
              <p:cNvSpPr/>
              <p:nvPr/>
            </p:nvSpPr>
            <p:spPr>
              <a:xfrm flipH="1">
                <a:off x="3350880" y="6116040"/>
                <a:ext cx="190080" cy="6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57"/>
              <p:cNvSpPr/>
              <p:nvPr/>
            </p:nvSpPr>
            <p:spPr>
              <a:xfrm flipH="1">
                <a:off x="3248280" y="6092280"/>
                <a:ext cx="15516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5" name="Picture 158" descr="pe02647_"/>
            <p:cNvPicPr/>
            <p:nvPr/>
          </p:nvPicPr>
          <p:blipFill>
            <a:blip r:embed="rId2"/>
            <a:stretch/>
          </p:blipFill>
          <p:spPr>
            <a:xfrm>
              <a:off x="0" y="4543560"/>
              <a:ext cx="1905480" cy="16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6" name="WordArt 159"/>
          <p:cNvSpPr txBox="1"/>
          <p:nvPr/>
        </p:nvSpPr>
        <p:spPr>
          <a:xfrm>
            <a:off x="2627280" y="6429240"/>
            <a:ext cx="401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0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9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98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98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98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898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98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98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a4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Три  пути  ведут  к  знанию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eb4757"/>
                </a:solidFill>
                <a:latin typeface="Times New Roman"/>
              </a:rPr>
              <a:t>путь   размышления</a:t>
            </a: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-  это  путь самый  благородный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eb4757"/>
                </a:solidFill>
                <a:latin typeface="Times New Roman"/>
              </a:rPr>
              <a:t>путь   подражания</a:t>
            </a: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-  это  путь  самый   легкий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eb4757"/>
                </a:solidFill>
                <a:latin typeface="Times New Roman"/>
              </a:rPr>
              <a:t>путь  опыта</a:t>
            </a: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  -  это  путь  самый   горь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1a4e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601a4e"/>
                </a:solidFill>
                <a:latin typeface="Times New Roman"/>
              </a:rPr>
              <a:t>Конфу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c6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ag00020_"/>
          <p:cNvPicPr/>
          <p:nvPr/>
        </p:nvPicPr>
        <p:blipFill>
          <a:blip r:embed="rId1"/>
          <a:stretch/>
        </p:blipFill>
        <p:spPr>
          <a:xfrm>
            <a:off x="468360" y="4365720"/>
            <a:ext cx="3200400" cy="2305080"/>
          </a:xfrm>
          <a:prstGeom prst="rect">
            <a:avLst/>
          </a:prstGeom>
          <a:ln w="0">
            <a:noFill/>
          </a:ln>
        </p:spPr>
      </p:pic>
      <p:sp>
        <p:nvSpPr>
          <p:cNvPr id="546" name="WordArt 6"/>
          <p:cNvSpPr txBox="1"/>
          <p:nvPr/>
        </p:nvSpPr>
        <p:spPr>
          <a:xfrm>
            <a:off x="3714840" y="614376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01a4e"/>
                </a:solidFill>
                <a:uFillTx/>
                <a:latin typeface="Times New Roman"/>
              </a:rPr>
              <a:t>Оцени  свои  знания:</a:t>
            </a:r>
            <a:r>
              <a:rPr b="1" lang="en-US" sz="4400" spc="-1" strike="noStrike" u="sng">
                <a:solidFill>
                  <a:srgbClr val="601a4e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Максимум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  41  б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от  37  до  41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  оценка   «5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dc6ff"/>
                </a:solidFill>
                <a:latin typeface="Times New Roman"/>
              </a:rPr>
              <a:t>от  29  до  35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ценка   «4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Times New Roman"/>
              </a:rPr>
              <a:t>от  20  до  28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  оценка   «3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нее  20  баллов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ценка  «2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4"/>
          <p:cNvSpPr/>
          <p:nvPr/>
        </p:nvSpPr>
        <p:spPr>
          <a:xfrm flipH="1">
            <a:off x="8820000" y="6519960"/>
            <a:ext cx="324000" cy="338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Picture 6" descr="j0305493"/>
          <p:cNvPicPr/>
          <p:nvPr/>
        </p:nvPicPr>
        <p:blipFill>
          <a:blip r:embed="rId1"/>
          <a:stretch/>
        </p:blipFill>
        <p:spPr>
          <a:xfrm>
            <a:off x="7596360" y="3068640"/>
            <a:ext cx="1295280" cy="9367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7" descr="j0286034"/>
          <p:cNvPicPr/>
          <p:nvPr/>
        </p:nvPicPr>
        <p:blipFill>
          <a:blip r:embed="rId2"/>
          <a:stretch/>
        </p:blipFill>
        <p:spPr>
          <a:xfrm>
            <a:off x="7740720" y="5229360"/>
            <a:ext cx="106344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162" name="Group 11"/>
          <p:cNvGrpSpPr/>
          <p:nvPr/>
        </p:nvGrpSpPr>
        <p:grpSpPr>
          <a:xfrm>
            <a:off x="7164360" y="1052640"/>
            <a:ext cx="1584360" cy="1799640"/>
            <a:chOff x="7164360" y="1052640"/>
            <a:chExt cx="1584360" cy="1799640"/>
          </a:xfrm>
        </p:grpSpPr>
        <p:pic>
          <p:nvPicPr>
            <p:cNvPr id="1163" name="Picture 12" descr="ag00433_"/>
            <p:cNvPicPr/>
            <p:nvPr/>
          </p:nvPicPr>
          <p:blipFill>
            <a:blip r:embed="rId3"/>
            <a:stretch/>
          </p:blipFill>
          <p:spPr>
            <a:xfrm>
              <a:off x="7164360" y="1309680"/>
              <a:ext cx="1584360" cy="15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Picture 13" descr="j0076161"/>
            <p:cNvPicPr/>
            <p:nvPr/>
          </p:nvPicPr>
          <p:blipFill>
            <a:blip r:embed="rId4"/>
            <a:stretch/>
          </p:blipFill>
          <p:spPr>
            <a:xfrm>
              <a:off x="7432560" y="1052640"/>
              <a:ext cx="1315800" cy="10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5" name="WordArt 14"/>
          <p:cNvSpPr txBox="1"/>
          <p:nvPr/>
        </p:nvSpPr>
        <p:spPr>
          <a:xfrm>
            <a:off x="2124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92 -0.00139 C -0.09497 -0.02405 -0.1059 -0.06267 -0.1 -0.1013 C -0.09688 -0.11471 -0.09288 -0.12789 -0.08698 -0.13853 C -0.08299 -0.108 -0.06892 -0.08002 -0.04792 -0.06267 C -0.04792 -0.09991 -0.03195 -0.13599 -0.00486 -0.15194 C 0.00417 -0.15865 0.01406 -0.16119 0.02413 -0.16258 C 0.00903 -0.13992 0.00104 -0.108 0.00417 -0.0747 C 0.02604 -0.09852 0.05712 -0.10407 0.08403 -0.08673 C 0.09305 -0.08141 0.10208 -0.07193 0.10816 -0.06267 C 0.08507 -0.06522 0.06111 -0.05342 0.0441 -0.02937 C 0.07101 -0.02128 0.0941 0.00671 0.10104 0.04533 C 0.10312 0.05851 0.10312 0.07192 0.10104 0.08511 C 0.08802 0.0599 0.06614 0.04255 0.04201 0.04001 C 0.05417 0.07331 0.05104 0.11448 0.03316 0.14523 C 0.02604 0.15587 0.01805 0.16512 0.00903 0.17044 C 0.01614 0.14107 0.01215 0.10777 -0.00087 0.08117 C -0.01285 0.11448 -0.03889 0.13714 -0.06892 0.13714 C -0.07986 0.13714 -0.08993 0.1346 -0.09896 0.12905 C -0.07691 0.11841 -0.0599 0.0932 -0.05191 0.06244 C -0.07986 0.07054 -0.10886 0.05851 -0.12795 0.02798 C -0.1349 0.01596 -0.13889 0.00393 -0.14184 -0.00948 C -0.12188 0.00786 -0.09583 0.01064 -0.07292 -0.00139 Z">
                                      <p:cBhvr>
                                        <p:cTn id="97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0.00532 L -0.15156 -0.00532 E">
                                      <p:cBhvr>
                                        <p:cTn id="983" dur="2000" fill="hold"/>
                                        <p:tgtEl>
                                          <p:spTgt spid="1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74 -0.11702 C -0.04375 -0.11702 -0.01667 -0.08094 -0.01667 -0.037 C -0.01667 0.0148 -0.04671 0.03353 -0.06476 0.0414 L -0.08872 0.04949 C -0.10678 0.05759 -0.13681 0.07748 -0.13681 0.13599 C -0.13681 0.17345 -0.10973 0.216 -0.07674 0.216 C -0.04375 0.216 -0.01667 0.17345 -0.01667 0.13599 C -0.01667 0.07748 -0.04671 0.05759 -0.06476 0.04949 L -0.08872 0.0414 C -0.10678 0.03353 -0.13681 0.0148 -0.13681 -0.037 C -0.13681 -0.08094 -0.10973 -0.11702 -0.07674 -0.11702 Z">
                                      <p:cBhvr>
                                        <p:cTn id="987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9640" y="292860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f6f1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f01055"/>
                </a:solidFill>
                <a:latin typeface="Georgia"/>
              </a:rPr>
              <a:t>Спасибо  за  урок,  де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"/>
          <p:cNvSpPr/>
          <p:nvPr/>
        </p:nvSpPr>
        <p:spPr>
          <a:xfrm>
            <a:off x="8748720" y="6597720"/>
            <a:ext cx="395280" cy="260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2acde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WordArt 5"/>
          <p:cNvSpPr txBox="1"/>
          <p:nvPr/>
        </p:nvSpPr>
        <p:spPr>
          <a:xfrm>
            <a:off x="2286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01a4e"/>
                </a:solidFill>
                <a:uFillTx/>
                <a:latin typeface="Times New Roman"/>
              </a:rPr>
              <a:t>Цели </a:t>
            </a:r>
            <a:r>
              <a:rPr b="1" lang="en-US" sz="4400" spc="-1" strike="noStrike" u="sng">
                <a:solidFill>
                  <a:srgbClr val="601a4e"/>
                </a:solidFill>
                <a:uFillTx/>
                <a:latin typeface="Times New Roman"/>
              </a:rPr>
              <a:t>  </a:t>
            </a:r>
            <a:r>
              <a:rPr b="1" lang="ru-RU" sz="4400" spc="-1" strike="noStrike" u="sng">
                <a:solidFill>
                  <a:srgbClr val="601a4e"/>
                </a:solidFill>
                <a:uFillTx/>
                <a:latin typeface="Times New Roman"/>
              </a:rPr>
              <a:t>урока</a:t>
            </a:r>
            <a:r>
              <a:rPr b="1" lang="ru-RU" sz="4400" spc="-1" strike="noStrike">
                <a:solidFill>
                  <a:srgbClr val="601a4e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85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a94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94ff"/>
                </a:solidFill>
                <a:latin typeface="Times New Roman"/>
              </a:rPr>
              <a:t>Систематизировать,  расширить  и  углубить  знания  по  данной 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a94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94ff"/>
                </a:solidFill>
                <a:latin typeface="Times New Roman"/>
              </a:rPr>
              <a:t>Развивать   наблюдательность,  умение  анализировать, вычислительные нав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a94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94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94ff"/>
                </a:solidFill>
                <a:latin typeface="Times New Roman"/>
              </a:rPr>
              <a:t>Искать  наиболее  рациональные  пути  решения 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660066"/>
          </a:solidFill>
          <a:ln w="9360">
            <a:solidFill>
              <a:srgbClr val="f2a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acd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61"/>
          <p:cNvGrpSpPr/>
          <p:nvPr/>
        </p:nvGrpSpPr>
        <p:grpSpPr>
          <a:xfrm>
            <a:off x="6517440" y="3500280"/>
            <a:ext cx="1726560" cy="2492280"/>
            <a:chOff x="6517440" y="3500280"/>
            <a:chExt cx="1726560" cy="2492280"/>
          </a:xfrm>
        </p:grpSpPr>
        <p:grpSp>
          <p:nvGrpSpPr>
            <p:cNvPr id="551" name="Group 62"/>
            <p:cNvGrpSpPr/>
            <p:nvPr/>
          </p:nvGrpSpPr>
          <p:grpSpPr>
            <a:xfrm>
              <a:off x="7281360" y="3946320"/>
              <a:ext cx="130680" cy="196920"/>
              <a:chOff x="7281360" y="3946320"/>
              <a:chExt cx="130680" cy="196920"/>
            </a:xfrm>
          </p:grpSpPr>
          <p:sp>
            <p:nvSpPr>
              <p:cNvPr id="552" name="Freeform 63"/>
              <p:cNvSpPr/>
              <p:nvPr/>
            </p:nvSpPr>
            <p:spPr>
              <a:xfrm flipH="1">
                <a:off x="7302600" y="3946320"/>
                <a:ext cx="109080" cy="193680"/>
              </a:xfrm>
              <a:prstGeom prst="pie">
                <a:avLst/>
              </a:prstGeom>
              <a:solidFill>
                <a:srgbClr val="ffe0c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64"/>
              <p:cNvSpPr/>
              <p:nvPr/>
            </p:nvSpPr>
            <p:spPr>
              <a:xfrm flipH="1">
                <a:off x="7281360" y="4100400"/>
                <a:ext cx="110880" cy="4284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Freeform 65"/>
            <p:cNvSpPr/>
            <p:nvPr/>
          </p:nvSpPr>
          <p:spPr>
            <a:xfrm flipH="1">
              <a:off x="7531920" y="4097160"/>
              <a:ext cx="519480" cy="6080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66"/>
            <p:cNvGrpSpPr/>
            <p:nvPr/>
          </p:nvGrpSpPr>
          <p:grpSpPr>
            <a:xfrm>
              <a:off x="7266960" y="4074840"/>
              <a:ext cx="569160" cy="666720"/>
              <a:chOff x="7266960" y="4074840"/>
              <a:chExt cx="569160" cy="666720"/>
            </a:xfrm>
          </p:grpSpPr>
          <p:sp>
            <p:nvSpPr>
              <p:cNvPr id="556" name="Freeform 67"/>
              <p:cNvSpPr/>
              <p:nvPr/>
            </p:nvSpPr>
            <p:spPr>
              <a:xfrm flipH="1">
                <a:off x="7266600" y="4074840"/>
                <a:ext cx="569160" cy="666720"/>
              </a:xfrm>
              <a:prstGeom prst="pie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68"/>
              <p:cNvSpPr/>
              <p:nvPr/>
            </p:nvSpPr>
            <p:spPr>
              <a:xfrm flipH="1">
                <a:off x="7638480" y="4108320"/>
                <a:ext cx="159480" cy="4032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69"/>
            <p:cNvSpPr/>
            <p:nvPr/>
          </p:nvSpPr>
          <p:spPr>
            <a:xfrm flipH="1">
              <a:off x="7802280" y="4108320"/>
              <a:ext cx="170640" cy="1238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70"/>
            <p:cNvGrpSpPr/>
            <p:nvPr/>
          </p:nvGrpSpPr>
          <p:grpSpPr>
            <a:xfrm>
              <a:off x="6585840" y="3500280"/>
              <a:ext cx="795600" cy="1771560"/>
              <a:chOff x="6585840" y="3500280"/>
              <a:chExt cx="795600" cy="1771560"/>
            </a:xfrm>
          </p:grpSpPr>
          <p:grpSp>
            <p:nvGrpSpPr>
              <p:cNvPr id="560" name="Group 71"/>
              <p:cNvGrpSpPr/>
              <p:nvPr/>
            </p:nvGrpSpPr>
            <p:grpSpPr>
              <a:xfrm>
                <a:off x="6585840" y="3500280"/>
                <a:ext cx="777960" cy="1771560"/>
                <a:chOff x="6585840" y="3500280"/>
                <a:chExt cx="777960" cy="1771560"/>
              </a:xfrm>
            </p:grpSpPr>
            <p:sp>
              <p:nvSpPr>
                <p:cNvPr id="561" name="Freeform 72"/>
                <p:cNvSpPr/>
                <p:nvPr/>
              </p:nvSpPr>
              <p:spPr>
                <a:xfrm flipH="1">
                  <a:off x="7286040" y="3511440"/>
                  <a:ext cx="77400" cy="1760400"/>
                </a:xfrm>
                <a:prstGeom prst="pie">
                  <a:avLst/>
                </a:prstGeom>
                <a:solidFill>
                  <a:srgbClr val="a05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73"/>
                <p:cNvSpPr/>
                <p:nvPr/>
              </p:nvSpPr>
              <p:spPr>
                <a:xfrm flipH="1">
                  <a:off x="6585840" y="3500280"/>
                  <a:ext cx="740160" cy="231480"/>
                </a:xfrm>
                <a:prstGeom prst="pie">
                  <a:avLst/>
                </a:prstGeom>
                <a:solidFill>
                  <a:srgbClr val="00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Freeform 74"/>
              <p:cNvSpPr/>
              <p:nvPr/>
            </p:nvSpPr>
            <p:spPr>
              <a:xfrm flipH="1">
                <a:off x="7262640" y="3957480"/>
                <a:ext cx="118440" cy="149040"/>
              </a:xfrm>
              <a:prstGeom prst="pie">
                <a:avLst/>
              </a:prstGeom>
              <a:solidFill>
                <a:srgbClr val="ffe0c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75"/>
            <p:cNvGrpSpPr/>
            <p:nvPr/>
          </p:nvGrpSpPr>
          <p:grpSpPr>
            <a:xfrm>
              <a:off x="6517440" y="5222520"/>
              <a:ext cx="1678320" cy="770040"/>
              <a:chOff x="6517440" y="5222520"/>
              <a:chExt cx="1678320" cy="770040"/>
            </a:xfrm>
          </p:grpSpPr>
          <p:sp>
            <p:nvSpPr>
              <p:cNvPr id="565" name="Freeform 76"/>
              <p:cNvSpPr/>
              <p:nvPr/>
            </p:nvSpPr>
            <p:spPr>
              <a:xfrm flipH="1">
                <a:off x="6517440" y="5222520"/>
                <a:ext cx="1678320" cy="770040"/>
              </a:xfrm>
              <a:prstGeom prst="pi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77"/>
              <p:cNvGrpSpPr/>
              <p:nvPr/>
            </p:nvGrpSpPr>
            <p:grpSpPr>
              <a:xfrm>
                <a:off x="6800040" y="5308200"/>
                <a:ext cx="387720" cy="534960"/>
                <a:chOff x="6800040" y="5308200"/>
                <a:chExt cx="387720" cy="534960"/>
              </a:xfrm>
            </p:grpSpPr>
            <p:sp>
              <p:nvSpPr>
                <p:cNvPr id="567" name="Freeform 78"/>
                <p:cNvSpPr/>
                <p:nvPr/>
              </p:nvSpPr>
              <p:spPr>
                <a:xfrm flipH="1">
                  <a:off x="7074720" y="5308200"/>
                  <a:ext cx="113040" cy="17964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79"/>
                <p:cNvSpPr/>
                <p:nvPr/>
              </p:nvSpPr>
              <p:spPr>
                <a:xfrm flipH="1">
                  <a:off x="6936480" y="5463720"/>
                  <a:ext cx="175680" cy="20196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80"/>
                <p:cNvSpPr/>
                <p:nvPr/>
              </p:nvSpPr>
              <p:spPr>
                <a:xfrm flipH="1">
                  <a:off x="6800040" y="5621040"/>
                  <a:ext cx="174240" cy="222120"/>
                </a:xfrm>
                <a:prstGeom prst="pi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81"/>
            <p:cNvGrpSpPr/>
            <p:nvPr/>
          </p:nvGrpSpPr>
          <p:grpSpPr>
            <a:xfrm>
              <a:off x="7229160" y="4609800"/>
              <a:ext cx="686160" cy="1120680"/>
              <a:chOff x="7229160" y="4609800"/>
              <a:chExt cx="686160" cy="1120680"/>
            </a:xfrm>
          </p:grpSpPr>
          <p:grpSp>
            <p:nvGrpSpPr>
              <p:cNvPr id="571" name="Group 82"/>
              <p:cNvGrpSpPr/>
              <p:nvPr/>
            </p:nvGrpSpPr>
            <p:grpSpPr>
              <a:xfrm>
                <a:off x="7267320" y="5333760"/>
                <a:ext cx="601200" cy="396720"/>
                <a:chOff x="7267320" y="5333760"/>
                <a:chExt cx="601200" cy="396720"/>
              </a:xfrm>
            </p:grpSpPr>
            <p:sp>
              <p:nvSpPr>
                <p:cNvPr id="572" name="Freeform 83"/>
                <p:cNvSpPr/>
                <p:nvPr/>
              </p:nvSpPr>
              <p:spPr>
                <a:xfrm flipH="1">
                  <a:off x="7267320" y="5333760"/>
                  <a:ext cx="321120" cy="142920"/>
                </a:xfrm>
                <a:prstGeom prst="pie">
                  <a:avLst/>
                </a:prstGeom>
                <a:solidFill>
                  <a:srgbClr val="c06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84"/>
                <p:cNvSpPr/>
                <p:nvPr/>
              </p:nvSpPr>
              <p:spPr>
                <a:xfrm flipH="1">
                  <a:off x="7654680" y="5590800"/>
                  <a:ext cx="213480" cy="139680"/>
                </a:xfrm>
                <a:prstGeom prst="pie">
                  <a:avLst/>
                </a:prstGeom>
                <a:solidFill>
                  <a:srgbClr val="c06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Freeform 85"/>
              <p:cNvSpPr/>
              <p:nvPr/>
            </p:nvSpPr>
            <p:spPr>
              <a:xfrm flipH="1">
                <a:off x="7229160" y="4609800"/>
                <a:ext cx="686160" cy="1001880"/>
              </a:xfrm>
              <a:prstGeom prst="pie">
                <a:avLst/>
              </a:pr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86"/>
            <p:cNvGrpSpPr/>
            <p:nvPr/>
          </p:nvGrpSpPr>
          <p:grpSpPr>
            <a:xfrm>
              <a:off x="7739640" y="4161960"/>
              <a:ext cx="504360" cy="779760"/>
              <a:chOff x="7739640" y="4161960"/>
              <a:chExt cx="504360" cy="779760"/>
            </a:xfrm>
          </p:grpSpPr>
          <p:grpSp>
            <p:nvGrpSpPr>
              <p:cNvPr id="576" name="Group 87"/>
              <p:cNvGrpSpPr/>
              <p:nvPr/>
            </p:nvGrpSpPr>
            <p:grpSpPr>
              <a:xfrm>
                <a:off x="7739640" y="4161960"/>
                <a:ext cx="369720" cy="779760"/>
                <a:chOff x="7739640" y="4161960"/>
                <a:chExt cx="369720" cy="779760"/>
              </a:xfrm>
            </p:grpSpPr>
            <p:sp>
              <p:nvSpPr>
                <p:cNvPr id="577" name="Freeform 88"/>
                <p:cNvSpPr/>
                <p:nvPr/>
              </p:nvSpPr>
              <p:spPr>
                <a:xfrm flipH="1">
                  <a:off x="7739280" y="4161960"/>
                  <a:ext cx="369720" cy="779760"/>
                </a:xfrm>
                <a:prstGeom prst="pie">
                  <a:avLst/>
                </a:prstGeom>
                <a:solidFill>
                  <a:srgbClr val="0000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 flipH="1">
                  <a:off x="7754400" y="4192200"/>
                  <a:ext cx="259920" cy="439920"/>
                </a:xfrm>
                <a:prstGeom prst="pie">
                  <a:avLst/>
                </a:pr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90"/>
              <p:cNvGrpSpPr/>
              <p:nvPr/>
            </p:nvGrpSpPr>
            <p:grpSpPr>
              <a:xfrm>
                <a:off x="7804440" y="4242960"/>
                <a:ext cx="439560" cy="654120"/>
                <a:chOff x="7804440" y="4242960"/>
                <a:chExt cx="439560" cy="654120"/>
              </a:xfrm>
            </p:grpSpPr>
            <p:sp>
              <p:nvSpPr>
                <p:cNvPr id="580" name="Freeform 91"/>
                <p:cNvSpPr/>
                <p:nvPr/>
              </p:nvSpPr>
              <p:spPr>
                <a:xfrm flipH="1">
                  <a:off x="7804440" y="4744800"/>
                  <a:ext cx="163440" cy="152280"/>
                </a:xfrm>
                <a:prstGeom prst="pie">
                  <a:avLst/>
                </a:prstGeom>
                <a:solidFill>
                  <a:srgbClr val="ffe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 flipH="1">
                  <a:off x="7893720" y="4738320"/>
                  <a:ext cx="96840" cy="96840"/>
                </a:xfrm>
                <a:prstGeom prst="pi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 flipH="1">
                  <a:off x="7888320" y="4242960"/>
                  <a:ext cx="355320" cy="595440"/>
                </a:xfrm>
                <a:prstGeom prst="pie">
                  <a:avLst/>
                </a:prstGeom>
                <a:solidFill>
                  <a:srgbClr val="0000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Group 94"/>
            <p:cNvGrpSpPr/>
            <p:nvPr/>
          </p:nvGrpSpPr>
          <p:grpSpPr>
            <a:xfrm>
              <a:off x="7841880" y="3836880"/>
              <a:ext cx="283680" cy="326880"/>
              <a:chOff x="7841880" y="3836880"/>
              <a:chExt cx="283680" cy="326880"/>
            </a:xfrm>
          </p:grpSpPr>
          <p:grpSp>
            <p:nvGrpSpPr>
              <p:cNvPr id="584" name="Group 95"/>
              <p:cNvGrpSpPr/>
              <p:nvPr/>
            </p:nvGrpSpPr>
            <p:grpSpPr>
              <a:xfrm>
                <a:off x="7852680" y="3931920"/>
                <a:ext cx="244080" cy="157320"/>
                <a:chOff x="7852680" y="3931920"/>
                <a:chExt cx="244080" cy="157320"/>
              </a:xfrm>
            </p:grpSpPr>
            <p:sp>
              <p:nvSpPr>
                <p:cNvPr id="585" name="Freeform 96"/>
                <p:cNvSpPr/>
                <p:nvPr/>
              </p:nvSpPr>
              <p:spPr>
                <a:xfrm flipH="1">
                  <a:off x="7852320" y="3931920"/>
                  <a:ext cx="34200" cy="71640"/>
                </a:xfrm>
                <a:prstGeom prst="pie">
                  <a:avLst/>
                </a:prstGeom>
                <a:solidFill>
                  <a:srgbClr val="ffe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 flipH="1">
                  <a:off x="8039160" y="4030200"/>
                  <a:ext cx="57240" cy="59040"/>
                </a:xfrm>
                <a:prstGeom prst="pie">
                  <a:avLst/>
                </a:prstGeom>
                <a:solidFill>
                  <a:srgbClr val="ffe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98"/>
              <p:cNvSpPr/>
              <p:nvPr/>
            </p:nvSpPr>
            <p:spPr>
              <a:xfrm flipH="1">
                <a:off x="7841520" y="3871800"/>
                <a:ext cx="271080" cy="291960"/>
              </a:xfrm>
              <a:prstGeom prst="pie">
                <a:avLst/>
              </a:prstGeom>
              <a:solidFill>
                <a:srgbClr val="ffe0c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Group 99"/>
              <p:cNvGrpSpPr/>
              <p:nvPr/>
            </p:nvGrpSpPr>
            <p:grpSpPr>
              <a:xfrm>
                <a:off x="7880040" y="3935160"/>
                <a:ext cx="206280" cy="101520"/>
                <a:chOff x="7880040" y="3935160"/>
                <a:chExt cx="206280" cy="101520"/>
              </a:xfrm>
            </p:grpSpPr>
            <p:sp>
              <p:nvSpPr>
                <p:cNvPr id="589" name="Freeform 100"/>
                <p:cNvSpPr/>
                <p:nvPr/>
              </p:nvSpPr>
              <p:spPr>
                <a:xfrm flipH="1">
                  <a:off x="7969320" y="3981240"/>
                  <a:ext cx="16200" cy="15840"/>
                </a:xfrm>
                <a:prstGeom prst="pi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 flipH="1">
                  <a:off x="8056080" y="4019400"/>
                  <a:ext cx="30240" cy="17280"/>
                </a:xfrm>
                <a:prstGeom prst="pi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 flipH="1">
                  <a:off x="7879680" y="3935160"/>
                  <a:ext cx="27000" cy="17280"/>
                </a:xfrm>
                <a:prstGeom prst="pie">
                  <a:avLst/>
                </a:pr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103"/>
              <p:cNvGrpSpPr/>
              <p:nvPr/>
            </p:nvGrpSpPr>
            <p:grpSpPr>
              <a:xfrm>
                <a:off x="7887240" y="3943080"/>
                <a:ext cx="173880" cy="111240"/>
                <a:chOff x="7887240" y="3943080"/>
                <a:chExt cx="173880" cy="111240"/>
              </a:xfrm>
            </p:grpSpPr>
            <p:sp>
              <p:nvSpPr>
                <p:cNvPr id="593" name="Freeform 104"/>
                <p:cNvSpPr/>
                <p:nvPr/>
              </p:nvSpPr>
              <p:spPr>
                <a:xfrm flipH="1">
                  <a:off x="7973280" y="3982680"/>
                  <a:ext cx="87840" cy="71640"/>
                </a:xfrm>
                <a:prstGeom prst="pie">
                  <a:avLst/>
                </a:prstGeom>
                <a:solidFill>
                  <a:srgbClr val="80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Oval 105"/>
                <p:cNvSpPr/>
                <p:nvPr/>
              </p:nvSpPr>
              <p:spPr>
                <a:xfrm flipH="1">
                  <a:off x="8007480" y="4016160"/>
                  <a:ext cx="14040" cy="11160"/>
                </a:xfrm>
                <a:prstGeom prst="ellipse">
                  <a:avLst/>
                </a:prstGeom>
                <a:solidFill>
                  <a:srgbClr val="00a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 flipH="1">
                  <a:off x="7886880" y="3943080"/>
                  <a:ext cx="89640" cy="69840"/>
                </a:xfrm>
                <a:prstGeom prst="pie">
                  <a:avLst/>
                </a:prstGeom>
                <a:solidFill>
                  <a:srgbClr val="80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107"/>
                <p:cNvSpPr/>
                <p:nvPr/>
              </p:nvSpPr>
              <p:spPr>
                <a:xfrm flipH="1">
                  <a:off x="7921080" y="3974760"/>
                  <a:ext cx="14040" cy="12600"/>
                </a:xfrm>
                <a:prstGeom prst="ellipse">
                  <a:avLst/>
                </a:prstGeom>
                <a:solidFill>
                  <a:srgbClr val="00a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Freeform 108"/>
              <p:cNvSpPr/>
              <p:nvPr/>
            </p:nvSpPr>
            <p:spPr>
              <a:xfrm flipH="1">
                <a:off x="7881480" y="4057200"/>
                <a:ext cx="87840" cy="6372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09"/>
              <p:cNvSpPr/>
              <p:nvPr/>
            </p:nvSpPr>
            <p:spPr>
              <a:xfrm flipH="1">
                <a:off x="7917120" y="4036680"/>
                <a:ext cx="46800" cy="22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10"/>
              <p:cNvSpPr/>
              <p:nvPr/>
            </p:nvSpPr>
            <p:spPr>
              <a:xfrm flipH="1">
                <a:off x="7879320" y="3836880"/>
                <a:ext cx="246240" cy="199800"/>
              </a:xfrm>
              <a:prstGeom prst="pie">
                <a:avLst/>
              </a:prstGeom>
              <a:solidFill>
                <a:srgbClr val="c06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Freeform 111"/>
            <p:cNvSpPr/>
            <p:nvPr/>
          </p:nvSpPr>
          <p:spPr>
            <a:xfrm flipH="1">
              <a:off x="7648920" y="4160520"/>
              <a:ext cx="244440" cy="54144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2"/>
          <p:cNvGrpSpPr/>
          <p:nvPr/>
        </p:nvGrpSpPr>
        <p:grpSpPr>
          <a:xfrm>
            <a:off x="6227640" y="5405400"/>
            <a:ext cx="2590920" cy="1452600"/>
            <a:chOff x="6227640" y="5405400"/>
            <a:chExt cx="2590920" cy="1452600"/>
          </a:xfrm>
        </p:grpSpPr>
        <p:pic>
          <p:nvPicPr>
            <p:cNvPr id="602" name="Picture 113" descr="BS00554_"/>
            <p:cNvPicPr/>
            <p:nvPr/>
          </p:nvPicPr>
          <p:blipFill>
            <a:blip r:embed="rId1"/>
            <a:stretch/>
          </p:blipFill>
          <p:spPr>
            <a:xfrm>
              <a:off x="7804080" y="5405400"/>
              <a:ext cx="101448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14" descr="BS00554_"/>
            <p:cNvPicPr/>
            <p:nvPr/>
          </p:nvPicPr>
          <p:blipFill>
            <a:blip r:embed="rId2"/>
            <a:stretch/>
          </p:blipFill>
          <p:spPr>
            <a:xfrm>
              <a:off x="6227640" y="5558040"/>
              <a:ext cx="101448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15" descr="BS00554_"/>
            <p:cNvPicPr/>
            <p:nvPr/>
          </p:nvPicPr>
          <p:blipFill>
            <a:blip r:embed="rId3"/>
            <a:stretch/>
          </p:blipFill>
          <p:spPr>
            <a:xfrm>
              <a:off x="7066080" y="5786640"/>
              <a:ext cx="1014120" cy="10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WordArt 117"/>
          <p:cNvSpPr txBox="1"/>
          <p:nvPr/>
        </p:nvSpPr>
        <p:spPr>
          <a:xfrm>
            <a:off x="1332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64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01a4e"/>
                </a:solidFill>
                <a:uFillTx/>
                <a:latin typeface="Times New Roman"/>
              </a:rPr>
              <a:t>Этапы 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1. Проверка  домашнего 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2. «Разминка» - тест и взаимопрове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3. «Математическая  эстафе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4.  Решение  задач с  помощью 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5.  Самостоятельная  работа</a:t>
            </a:r>
            <a:r>
              <a:rPr b="0" lang="en-US" sz="3200" spc="-1" strike="noStrike">
                <a:solidFill>
                  <a:srgbClr val="8dc6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c6ff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самопровер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6.  Подведение  итогов 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c6ff"/>
                </a:solidFill>
                <a:latin typeface="Times New Roman"/>
              </a:rPr>
              <a:t>7.  Домашнее 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c3c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7" descr="BD05969_"/>
          <p:cNvPicPr/>
          <p:nvPr/>
        </p:nvPicPr>
        <p:blipFill>
          <a:blip r:embed="rId1"/>
          <a:stretch/>
        </p:blipFill>
        <p:spPr>
          <a:xfrm>
            <a:off x="6877080" y="3860640"/>
            <a:ext cx="2266920" cy="2997360"/>
          </a:xfrm>
          <a:prstGeom prst="rect">
            <a:avLst/>
          </a:prstGeom>
          <a:ln w="0">
            <a:noFill/>
          </a:ln>
        </p:spPr>
      </p:pic>
      <p:sp>
        <p:nvSpPr>
          <p:cNvPr id="610" name="WordArt 58"/>
          <p:cNvSpPr txBox="1"/>
          <p:nvPr/>
        </p:nvSpPr>
        <p:spPr>
          <a:xfrm>
            <a:off x="1979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cc"/>
                </a:solidFill>
                <a:uFillTx/>
                <a:latin typeface="Times New Roman"/>
              </a:rPr>
              <a:t>Накопительная  оц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Максимум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-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1  б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от  37  до  41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 оценка   «5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Times New Roman"/>
              </a:rPr>
              <a:t>от  29  до  35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 оценка   «4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Times New Roman"/>
              </a:rPr>
              <a:t>от  20  до  28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 оценка   «3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нее  20  баллов</a:t>
            </a:r>
            <a:r>
              <a:rPr b="1" lang="ru-RU" sz="32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оценка  «2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j0305493"/>
          <p:cNvPicPr/>
          <p:nvPr/>
        </p:nvPicPr>
        <p:blipFill>
          <a:blip r:embed="rId1"/>
          <a:stretch/>
        </p:blipFill>
        <p:spPr>
          <a:xfrm>
            <a:off x="7667640" y="2997360"/>
            <a:ext cx="1295280" cy="936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j0286034"/>
          <p:cNvPicPr/>
          <p:nvPr/>
        </p:nvPicPr>
        <p:blipFill>
          <a:blip r:embed="rId2"/>
          <a:stretch/>
        </p:blipFill>
        <p:spPr>
          <a:xfrm>
            <a:off x="8028000" y="458136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6"/>
          <p:cNvSpPr/>
          <p:nvPr/>
        </p:nvSpPr>
        <p:spPr>
          <a:xfrm>
            <a:off x="7812000" y="1557360"/>
            <a:ext cx="1081080" cy="1008000"/>
          </a:xfrm>
          <a:prstGeom prst="smileyFace">
            <a:avLst>
              <a:gd name="adj" fmla="val 9282"/>
            </a:avLst>
          </a:prstGeom>
          <a:solidFill>
            <a:srgbClr val="e482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8820000" y="6524640"/>
            <a:ext cx="324000" cy="3333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12"/>
          <p:cNvSpPr txBox="1"/>
          <p:nvPr/>
        </p:nvSpPr>
        <p:spPr>
          <a:xfrm>
            <a:off x="205092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c09f7"/>
                </a:solidFill>
                <a:uFillTx/>
                <a:latin typeface="Times New Roman"/>
              </a:rPr>
              <a:t>ЭТАП №1.       Домашнее 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1.   Упростите  вы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  46а + 54а – а – 2а  =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97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  2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 – 14m + 48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1800" spc="-1" strike="noStrike">
                <a:solidFill>
                  <a:srgbClr val="3c09f7"/>
                </a:solidFill>
                <a:latin typeface="Times New Roman"/>
              </a:rPr>
              <a:t>9m + 48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  56в + 14в – 70в =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)    37х - 17х + 34х – 54х + 100 =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2.     Вычислите  рациональным 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 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 + 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4 + 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44 + 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444 + 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4444 =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2469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 26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25 - 2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24 + 2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23 - 2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22 + 2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1 - 2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 + 2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 - 19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8 + 18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16 + 16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 - 1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  =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2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3.      Решите  уравнение:</a:t>
            </a: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  15х + 26х – 14 = 68;                                        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х =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  48х – 19х = 145;                                              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х 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   (((12х + 3х) – 5х) – 2х + 10х = 54;                 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х =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4.   Решить  зада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е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+ 6 = 110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 = 8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09f7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3c09f7"/>
                </a:solidFill>
                <a:latin typeface="Times New Roman"/>
              </a:rPr>
              <a:t>Ответ:  </a:t>
            </a:r>
            <a:r>
              <a:rPr b="1" lang="en-US" sz="1800" spc="-1" strike="noStrike">
                <a:solidFill>
                  <a:srgbClr val="3c09f7"/>
                </a:solidFill>
                <a:latin typeface="Times New Roman"/>
              </a:rPr>
              <a:t>8 </a:t>
            </a:r>
            <a:r>
              <a:rPr b="1" lang="ru-RU" sz="1800" spc="-1" strike="noStrike">
                <a:solidFill>
                  <a:srgbClr val="3c09f7"/>
                </a:solidFill>
                <a:latin typeface="Times New Roman"/>
              </a:rPr>
              <a:t>лет,  16 лет,  40 лет,  4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-228600" y="3805200"/>
                <a:ext cx="914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5"/>
              <p:cNvSpPr txBox="1"/>
              <p:nvPr/>
            </p:nvSpPr>
            <p:spPr>
              <a:xfrm>
                <a:off x="-228600" y="402444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2" name="Rectangle 8"/>
          <p:cNvSpPr/>
          <p:nvPr/>
        </p:nvSpPr>
        <p:spPr>
          <a:xfrm>
            <a:off x="539640" y="5882760"/>
            <a:ext cx="20844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-227520" y="3529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228600" y="402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-228600" y="42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 flipV="1">
            <a:off x="8748720" y="6524640"/>
            <a:ext cx="395280" cy="333360"/>
          </a:xfrm>
          <a:prstGeom prst="rect">
            <a:avLst/>
          </a:prstGeom>
          <a:solidFill>
            <a:srgbClr val="a5b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5219640" y="378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7"/>
          <p:cNvGrpSpPr/>
          <p:nvPr/>
        </p:nvGrpSpPr>
        <p:grpSpPr>
          <a:xfrm>
            <a:off x="250920" y="4508640"/>
            <a:ext cx="2232720" cy="1988640"/>
            <a:chOff x="250920" y="4508640"/>
            <a:chExt cx="2232720" cy="1988640"/>
          </a:xfrm>
        </p:grpSpPr>
        <p:sp>
          <p:nvSpPr>
            <p:cNvPr id="629" name="Freeform 18"/>
            <p:cNvSpPr/>
            <p:nvPr/>
          </p:nvSpPr>
          <p:spPr>
            <a:xfrm>
              <a:off x="250920" y="4527000"/>
              <a:ext cx="884160" cy="5749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270360" y="5762160"/>
              <a:ext cx="2203920" cy="72828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260640" y="4508640"/>
              <a:ext cx="2223000" cy="19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2270520" y="5784840"/>
              <a:ext cx="188640" cy="548280"/>
            </a:xfrm>
            <a:prstGeom prst="pie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1454760" y="4550040"/>
              <a:ext cx="2872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1297080" y="4634280"/>
              <a:ext cx="587160" cy="472680"/>
            </a:xfrm>
            <a:prstGeom prst="pie">
              <a:avLst/>
            </a:prstGeom>
            <a:solidFill>
              <a:srgbClr val="ff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1528560" y="4684680"/>
              <a:ext cx="12744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277560" y="4760280"/>
              <a:ext cx="51840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779120" y="4780440"/>
              <a:ext cx="388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1592640" y="4760280"/>
              <a:ext cx="388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1704960" y="4839840"/>
              <a:ext cx="7128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1312200" y="4842000"/>
              <a:ext cx="388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267840" y="4910760"/>
              <a:ext cx="24768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596960" y="4962960"/>
              <a:ext cx="135360" cy="5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872640" y="5077080"/>
              <a:ext cx="3362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1538280" y="5134320"/>
              <a:ext cx="5400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882000" y="5196240"/>
              <a:ext cx="326880" cy="70200"/>
            </a:xfrm>
            <a:prstGeom prst="pi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1402920" y="5173200"/>
              <a:ext cx="370800" cy="287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948680" y="5193360"/>
              <a:ext cx="1476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7"/>
            <p:cNvSpPr/>
            <p:nvPr/>
          </p:nvSpPr>
          <p:spPr>
            <a:xfrm>
              <a:off x="1916640" y="5198040"/>
              <a:ext cx="46080" cy="2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8"/>
            <p:cNvSpPr/>
            <p:nvPr/>
          </p:nvSpPr>
          <p:spPr>
            <a:xfrm>
              <a:off x="882000" y="5232240"/>
              <a:ext cx="33624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9"/>
            <p:cNvSpPr/>
            <p:nvPr/>
          </p:nvSpPr>
          <p:spPr>
            <a:xfrm>
              <a:off x="1862640" y="5262480"/>
              <a:ext cx="7848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0"/>
            <p:cNvSpPr/>
            <p:nvPr/>
          </p:nvSpPr>
          <p:spPr>
            <a:xfrm>
              <a:off x="1734480" y="5285160"/>
              <a:ext cx="105840" cy="12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1"/>
            <p:cNvSpPr/>
            <p:nvPr/>
          </p:nvSpPr>
          <p:spPr>
            <a:xfrm>
              <a:off x="1567440" y="5296680"/>
              <a:ext cx="1792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2"/>
            <p:cNvSpPr/>
            <p:nvPr/>
          </p:nvSpPr>
          <p:spPr>
            <a:xfrm>
              <a:off x="1341720" y="5303160"/>
              <a:ext cx="110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3"/>
            <p:cNvSpPr/>
            <p:nvPr/>
          </p:nvSpPr>
          <p:spPr>
            <a:xfrm>
              <a:off x="884880" y="5316840"/>
              <a:ext cx="311760" cy="33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4"/>
            <p:cNvSpPr/>
            <p:nvPr/>
          </p:nvSpPr>
          <p:spPr>
            <a:xfrm>
              <a:off x="1051560" y="5321520"/>
              <a:ext cx="267840" cy="79668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5"/>
            <p:cNvSpPr/>
            <p:nvPr/>
          </p:nvSpPr>
          <p:spPr>
            <a:xfrm>
              <a:off x="1960920" y="5342040"/>
              <a:ext cx="957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6"/>
            <p:cNvSpPr/>
            <p:nvPr/>
          </p:nvSpPr>
          <p:spPr>
            <a:xfrm>
              <a:off x="1869840" y="5387760"/>
              <a:ext cx="85680" cy="9144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7"/>
            <p:cNvSpPr/>
            <p:nvPr/>
          </p:nvSpPr>
          <p:spPr>
            <a:xfrm>
              <a:off x="1113120" y="5424480"/>
              <a:ext cx="12744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"/>
            <p:cNvSpPr/>
            <p:nvPr/>
          </p:nvSpPr>
          <p:spPr>
            <a:xfrm>
              <a:off x="1720080" y="5436000"/>
              <a:ext cx="928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9"/>
            <p:cNvSpPr/>
            <p:nvPr/>
          </p:nvSpPr>
          <p:spPr>
            <a:xfrm>
              <a:off x="1155240" y="5463360"/>
              <a:ext cx="63360" cy="19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0"/>
            <p:cNvSpPr/>
            <p:nvPr/>
          </p:nvSpPr>
          <p:spPr>
            <a:xfrm>
              <a:off x="1464480" y="5465520"/>
              <a:ext cx="20880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1"/>
            <p:cNvSpPr/>
            <p:nvPr/>
          </p:nvSpPr>
          <p:spPr>
            <a:xfrm>
              <a:off x="1965960" y="5472000"/>
              <a:ext cx="7128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2"/>
            <p:cNvSpPr/>
            <p:nvPr/>
          </p:nvSpPr>
          <p:spPr>
            <a:xfrm>
              <a:off x="1808640" y="5499360"/>
              <a:ext cx="1447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3"/>
            <p:cNvSpPr/>
            <p:nvPr/>
          </p:nvSpPr>
          <p:spPr>
            <a:xfrm>
              <a:off x="1808640" y="551808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"/>
            <p:cNvSpPr/>
            <p:nvPr/>
          </p:nvSpPr>
          <p:spPr>
            <a:xfrm>
              <a:off x="1390680" y="5559120"/>
              <a:ext cx="422280" cy="44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5"/>
            <p:cNvSpPr/>
            <p:nvPr/>
          </p:nvSpPr>
          <p:spPr>
            <a:xfrm>
              <a:off x="1761840" y="5604480"/>
              <a:ext cx="6336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6"/>
            <p:cNvSpPr/>
            <p:nvPr/>
          </p:nvSpPr>
          <p:spPr>
            <a:xfrm>
              <a:off x="697680" y="5620680"/>
              <a:ext cx="349200" cy="56160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7"/>
            <p:cNvSpPr/>
            <p:nvPr/>
          </p:nvSpPr>
          <p:spPr>
            <a:xfrm>
              <a:off x="1555200" y="5625360"/>
              <a:ext cx="11556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8"/>
            <p:cNvSpPr/>
            <p:nvPr/>
          </p:nvSpPr>
          <p:spPr>
            <a:xfrm>
              <a:off x="1580040" y="5657400"/>
              <a:ext cx="6336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9"/>
            <p:cNvSpPr/>
            <p:nvPr/>
          </p:nvSpPr>
          <p:spPr>
            <a:xfrm>
              <a:off x="732240" y="5716440"/>
              <a:ext cx="252720" cy="24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60"/>
            <p:cNvSpPr/>
            <p:nvPr/>
          </p:nvSpPr>
          <p:spPr>
            <a:xfrm>
              <a:off x="2154600" y="5730480"/>
              <a:ext cx="149760" cy="64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61"/>
            <p:cNvSpPr/>
            <p:nvPr/>
          </p:nvSpPr>
          <p:spPr>
            <a:xfrm>
              <a:off x="786240" y="5773320"/>
              <a:ext cx="167040" cy="14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2"/>
            <p:cNvSpPr/>
            <p:nvPr/>
          </p:nvSpPr>
          <p:spPr>
            <a:xfrm>
              <a:off x="405720" y="6038640"/>
              <a:ext cx="27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3"/>
            <p:cNvSpPr/>
            <p:nvPr/>
          </p:nvSpPr>
          <p:spPr>
            <a:xfrm>
              <a:off x="1353960" y="6152400"/>
              <a:ext cx="257760" cy="20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4"/>
            <p:cNvSpPr/>
            <p:nvPr/>
          </p:nvSpPr>
          <p:spPr>
            <a:xfrm>
              <a:off x="1405080" y="6246000"/>
              <a:ext cx="468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5"/>
            <p:cNvSpPr/>
            <p:nvPr/>
          </p:nvSpPr>
          <p:spPr>
            <a:xfrm>
              <a:off x="1530720" y="6250680"/>
              <a:ext cx="6624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6"/>
            <p:cNvSpPr/>
            <p:nvPr/>
          </p:nvSpPr>
          <p:spPr>
            <a:xfrm>
              <a:off x="1948680" y="6321600"/>
              <a:ext cx="6120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7"/>
            <p:cNvSpPr/>
            <p:nvPr/>
          </p:nvSpPr>
          <p:spPr>
            <a:xfrm>
              <a:off x="427320" y="6406200"/>
              <a:ext cx="94608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8"/>
            <p:cNvSpPr/>
            <p:nvPr/>
          </p:nvSpPr>
          <p:spPr>
            <a:xfrm>
              <a:off x="2398320" y="6406200"/>
              <a:ext cx="342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WordArt 69"/>
          <p:cNvSpPr txBox="1"/>
          <p:nvPr/>
        </p:nvSpPr>
        <p:spPr>
          <a:xfrm>
            <a:off x="2556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1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01873 L 0.71285 -0.00832 E">
                                      <p:cBhvr>
                                        <p:cTn id="29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Этап №2.    «Разминка» - 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15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1" lang="ru-RU" sz="3600" spc="-1" strike="noStrike" u="sng">
                <a:solidFill>
                  <a:srgbClr val="3333cc"/>
                </a:solidFill>
                <a:uFillTx/>
                <a:latin typeface="Times New Roman"/>
              </a:rPr>
              <a:t>Задание  №1.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оедините  линиями  соответствующие  зак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мн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)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) Распредел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)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с = а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с)                       Б) Перемест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)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+ а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с = а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+ с)                   В) Сочет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f2a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2771640" y="3645000"/>
            <a:ext cx="2521080" cy="720720"/>
          </a:xfrm>
          <a:prstGeom prst="line">
            <a:avLst/>
          </a:prstGeom>
          <a:ln w="93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AutoShape 14"/>
          <p:cNvCxnSpPr>
            <a:stCxn id="682" idx="0"/>
            <a:endCxn id="682" idx="0"/>
          </p:cNvCxnSpPr>
          <p:nvPr/>
        </p:nvCxnSpPr>
        <p:spPr>
          <a:xfrm>
            <a:off x="4689000" y="1196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6" name="Line 16"/>
          <p:cNvSpPr/>
          <p:nvPr/>
        </p:nvSpPr>
        <p:spPr>
          <a:xfrm>
            <a:off x="4572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AutoShape 17"/>
          <p:cNvCxnSpPr>
            <a:stCxn id="682" idx="2"/>
            <a:endCxn id="682" idx="2"/>
          </p:cNvCxnSpPr>
          <p:nvPr/>
        </p:nvCxnSpPr>
        <p:spPr>
          <a:xfrm>
            <a:off x="4689000" y="6268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8" name="Line 20"/>
          <p:cNvSpPr/>
          <p:nvPr/>
        </p:nvSpPr>
        <p:spPr>
          <a:xfrm>
            <a:off x="3635280" y="4437000"/>
            <a:ext cx="1728720" cy="790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2"/>
          <p:cNvSpPr/>
          <p:nvPr/>
        </p:nvSpPr>
        <p:spPr>
          <a:xfrm flipH="1">
            <a:off x="4067280" y="3573360"/>
            <a:ext cx="12254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539640" y="3357720"/>
            <a:ext cx="2232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539640" y="4149720"/>
            <a:ext cx="3095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5"/>
          <p:cNvSpPr/>
          <p:nvPr/>
        </p:nvSpPr>
        <p:spPr>
          <a:xfrm>
            <a:off x="539640" y="4941720"/>
            <a:ext cx="352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WordArt 26"/>
          <p:cNvSpPr txBox="1"/>
          <p:nvPr/>
        </p:nvSpPr>
        <p:spPr>
          <a:xfrm>
            <a:off x="219564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def6f1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1" strike="noStrike">
              <a:ln w="9360">
                <a:solidFill>
                  <a:srgbClr val="def6f1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99ff"/>
                </a:solidFill>
                <a:uFillTx/>
                <a:latin typeface="Arial"/>
              </a:rPr>
              <a:t>Задание  №2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метить  знаком  «+»  верно  выполненные  выражения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)    37у + 62у – 31у = 68у;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)    108х – 28х – х = 80х;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)     39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 + 51m + 100 = 190m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;                           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)      4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 – 4k – 20 = 40k – 2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 flipH="1">
            <a:off x="8748720" y="6524640"/>
            <a:ext cx="395280" cy="333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c6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"/>
          <p:cNvSpPr/>
          <p:nvPr/>
        </p:nvSpPr>
        <p:spPr>
          <a:xfrm>
            <a:off x="6227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8"/>
          <p:cNvSpPr/>
          <p:nvPr/>
        </p:nvSpPr>
        <p:spPr>
          <a:xfrm flipV="1">
            <a:off x="5796000" y="2276640"/>
            <a:ext cx="0" cy="2087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9" descr="bd06652_"/>
          <p:cNvPicPr/>
          <p:nvPr/>
        </p:nvPicPr>
        <p:blipFill>
          <a:blip r:embed="rId1"/>
          <a:stretch/>
        </p:blipFill>
        <p:spPr>
          <a:xfrm>
            <a:off x="539640" y="4508640"/>
            <a:ext cx="1944720" cy="2349360"/>
          </a:xfrm>
          <a:prstGeom prst="rect">
            <a:avLst/>
          </a:prstGeom>
          <a:ln w="0">
            <a:noFill/>
          </a:ln>
        </p:spPr>
      </p:pic>
      <p:sp>
        <p:nvSpPr>
          <p:cNvPr id="700" name="WordArt 10"/>
          <p:cNvSpPr txBox="1"/>
          <p:nvPr/>
        </p:nvSpPr>
        <p:spPr>
          <a:xfrm>
            <a:off x="241128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18920" y="274680"/>
            <a:ext cx="5761080" cy="642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01a4e"/>
                </a:solidFill>
                <a:uFillTx/>
                <a:latin typeface="Times New Roman"/>
              </a:rPr>
              <a:t>Задание  №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608360"/>
          </a:xfrm>
          <a:prstGeom prst="rect">
            <a:avLst/>
          </a:prstGeom>
          <a:solidFill>
            <a:srgbClr val="eaeaea"/>
          </a:solidFill>
          <a:ln w="9360">
            <a:solidFill>
              <a:srgbClr val="3c09f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01a4e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Составьте  уравнение  к  задаче  и  решите 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Ученик  задумал  число,  умножил  его  на  8, затем  это  же  число  отдельно  умножил  на  15  и  результаты  сложил.  В  сумме  получилось  276.  Какое  число  задумал  уче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601a4e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Уравнение:   8х + 15х = 27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601a4e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01a4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х =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1a4e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601a4e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601a4e"/>
                </a:solidFill>
                <a:latin typeface="Times New Roman"/>
              </a:rPr>
              <a:t>Ответ: ученик  задумал  число 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8820000" y="6524640"/>
            <a:ext cx="324000" cy="339840"/>
          </a:xfrm>
          <a:prstGeom prst="rect">
            <a:avLst/>
          </a:prstGeom>
          <a:solidFill>
            <a:srgbClr val="6bd3eb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05d1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WordArt 159"/>
          <p:cNvSpPr txBox="1"/>
          <p:nvPr/>
        </p:nvSpPr>
        <p:spPr>
          <a:xfrm>
            <a:off x="1908000" y="6315120"/>
            <a:ext cx="4924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2:47:20Z</dcterms:created>
  <dc:creator>User</dc:creator>
  <dc:description/>
  <dc:language>en-US</dc:language>
  <cp:lastModifiedBy>Мария</cp:lastModifiedBy>
  <dcterms:modified xsi:type="dcterms:W3CDTF">2012-10-29T08:17:53Z</dcterms:modified>
  <cp:revision>40</cp:revision>
  <dc:subject/>
  <dc:title>Тема урок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