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AF8-AEE8-4CD3-B171-D5D47CED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9CD-8562-455C-9845-D915F05A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A18-24A5-4787-B875-12354DF9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E73-A8AF-4D89-8D16-045C4004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7CD8-06A0-4A55-8FD7-DE796EC4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17F-AF79-4FAF-9DBA-7C86710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5E0B-B1B4-4DD2-86F7-C4E6D40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9DE7-FED5-41BC-9D04-D25816A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8315-89CF-43CC-B90C-CEC46EBB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CC1E-FB0E-4663-9B02-3C68795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DC7-363B-4347-B9E3-A76CACE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028-A59C-4A84-AE72-E56F974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3465-B981-4E44-A0B2-39C603A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0173-A13B-4B71-9408-BCDC528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4BCC-86FF-4898-BFA5-2B21B00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BA4-D43C-47AE-ACDA-31B5AA49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212-D8B9-4845-ADC9-3F0A0481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FED7-DACC-4F8D-B517-E0531923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C418-D32A-412A-B18B-5D4F2898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7A46-79A2-413F-8366-EE44943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7A2C-A0DA-42FC-8104-1458C79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D861-5D5E-421F-B350-798C111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047-702F-4202-88BF-CF296014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1160-EAB7-48A3-95D1-ED8B66EB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CEA0-8FF0-4098-AA41-02970C8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1303-A45F-4620-901B-D543BF8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3CCA-5330-4F7C-9ABD-B70B4F8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9996-4720-485A-90A4-CD4212F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9520-DA4F-4BC7-81C8-CEF79BE5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4A14-7823-4D66-9BFF-FF7AF8D2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E439-4509-4E09-AB13-339C6168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32CB-07B9-44DC-959D-812E48E3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6B74-CD45-4685-B9DD-AEDEE7C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9F7-CD75-409F-BB4B-1C3C58D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0BB8-760A-4356-B1E8-411F0AB4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A170-C67F-4309-A93C-9732B0CB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0302-F0AC-43CB-AEAD-8494338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0C2F-7D75-4E14-83DB-657BA88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C4BC-5070-40BB-B034-F740C89C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5AC3-390C-4544-A5C2-A4DC223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79A7-6978-453D-BA51-4BFAE80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7148-FD92-44A3-A7FA-C0EB5EC4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5681-8E3B-4CED-897E-DC8E8B37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32D-7114-4900-A4FF-5E42924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973-3194-42C1-B3BC-D6F8A99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A62-DDA2-4D06-8EE7-3390225A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020-B1E8-4A7B-B9AE-0BF0028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114-669C-4D8F-9756-1FFB72A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6E8-CF05-40E2-B4D8-975520EC63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245-1641-4413-A1AC-CF7FCF4254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BD9-34EB-4CAC-99D0-C857065D18F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38E-06CC-4EB0-824D-C6C09F3254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3" descr="69485649_1295494839_Scan0003.jpg"/>
          <p:cNvPicPr/>
          <p:nvPr/>
        </p:nvPicPr>
        <p:blipFill>
          <a:blip r:embed="rId1"/>
          <a:stretch/>
        </p:blipFill>
        <p:spPr>
          <a:xfrm>
            <a:off x="2857680" y="357120"/>
            <a:ext cx="42861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69485649_1295494839_Scan0003.jpg"/>
          <p:cNvPicPr/>
          <p:nvPr/>
        </p:nvPicPr>
        <p:blipFill>
          <a:blip r:embed="rId1"/>
          <a:srcRect l="51672" t="10409" r="8328" b="71094"/>
          <a:stretch/>
        </p:blipFill>
        <p:spPr>
          <a:xfrm>
            <a:off x="1285920" y="714240"/>
            <a:ext cx="7358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69485649_1295494839_Scan0003.jpg"/>
          <p:cNvPicPr/>
          <p:nvPr/>
        </p:nvPicPr>
        <p:blipFill>
          <a:blip r:embed="rId1"/>
          <a:srcRect l="50016" t="28917" r="6672" b="50276"/>
          <a:stretch/>
        </p:blipFill>
        <p:spPr>
          <a:xfrm>
            <a:off x="1000080" y="714240"/>
            <a:ext cx="75009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69485649_1295494839_Scan0003.jpg"/>
          <p:cNvPicPr/>
          <p:nvPr/>
        </p:nvPicPr>
        <p:blipFill>
          <a:blip r:embed="rId1"/>
          <a:srcRect l="50016" t="48575" r="6672" b="31779"/>
          <a:stretch/>
        </p:blipFill>
        <p:spPr>
          <a:xfrm>
            <a:off x="714240" y="785880"/>
            <a:ext cx="775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69485649_1295494839_Scan0003.jpg"/>
          <p:cNvPicPr/>
          <p:nvPr/>
        </p:nvPicPr>
        <p:blipFill>
          <a:blip r:embed="rId1"/>
          <a:srcRect l="0" t="64763" r="46672" b="0"/>
          <a:stretch/>
        </p:blipFill>
        <p:spPr>
          <a:xfrm>
            <a:off x="2000160" y="785880"/>
            <a:ext cx="5518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69485649_1295494839_Scan0003.jpg"/>
          <p:cNvPicPr/>
          <p:nvPr/>
        </p:nvPicPr>
        <p:blipFill>
          <a:blip r:embed="rId1"/>
          <a:srcRect l="40000" t="64763" r="0" b="0"/>
          <a:stretch/>
        </p:blipFill>
        <p:spPr>
          <a:xfrm>
            <a:off x="1714680" y="1000080"/>
            <a:ext cx="62578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69485651_1295494868_Scan0004.jpg"/>
          <p:cNvPicPr/>
          <p:nvPr/>
        </p:nvPicPr>
        <p:blipFill>
          <a:blip r:embed="rId1"/>
          <a:stretch/>
        </p:blipFill>
        <p:spPr>
          <a:xfrm>
            <a:off x="2571840" y="142920"/>
            <a:ext cx="44910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69485651_1295494868_Scan0004.jpg"/>
          <p:cNvPicPr/>
          <p:nvPr/>
        </p:nvPicPr>
        <p:blipFill>
          <a:blip r:embed="rId1"/>
          <a:srcRect l="8573" t="41095" r="5731" b="33750"/>
          <a:stretch/>
        </p:blipFill>
        <p:spPr>
          <a:xfrm>
            <a:off x="142920" y="785880"/>
            <a:ext cx="8826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69485651_1295494868_Scan0004.jpg"/>
          <p:cNvPicPr/>
          <p:nvPr/>
        </p:nvPicPr>
        <p:blipFill>
          <a:blip r:embed="rId1"/>
          <a:srcRect l="0" t="66599" r="0" b="0"/>
          <a:stretch/>
        </p:blipFill>
        <p:spPr>
          <a:xfrm>
            <a:off x="714240" y="1071720"/>
            <a:ext cx="8193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2-11-28T04:47:56Z</dcterms:modified>
  <cp:revision>1</cp:revision>
  <dc:subject/>
  <dc:title>Слайд 1</dc:title>
</cp:coreProperties>
</file>