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DCF-24C2-4DC4-8949-39BE926A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B51-9D7E-4087-9765-D87B6320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378-77B4-4EF5-B316-56EAF40E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BEB-240C-4B11-A296-F729DF4B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26D8-F953-42D4-BD9F-B1E38700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F008-F1F3-42B3-AB9D-A1AE2FD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27E-E88C-4F90-A5D2-88DE6C2A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EAB9-70D1-43AB-8DEA-AE2F8EA0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A3A-3884-476F-81B8-5182A05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09BF-420D-482E-9CC9-0C80CF8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208-BB72-4F90-B253-6962B4B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A37-ABDF-4E8D-AC9B-14AE89E8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3755-16EB-4917-9AC3-D0771C7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99A5-2DBE-4D26-B2DF-EF9D412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7B7F-4BF9-4708-89E9-03B71A1A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F0EF-2F75-498C-BE95-A64A671B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C8F-8B55-4320-942C-FD3924F9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6EED-B9DD-4977-A38F-C2EBAF8A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B4EC-C4A3-4A0B-BCB1-2FC7DDC3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F203-5FEE-487F-9966-86288BB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4999-A4AF-4BBF-939D-7442F780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63FB-3A53-4336-9C3D-D53833E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F0E-552B-471C-BE98-0F1D57B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1987-6792-4F8D-A094-1A65D7E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4FBA-ED23-47CC-B6BA-5F483AC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5657-6D23-40C9-AE6D-936F23A8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7795-7CE8-44CF-9463-D32B076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6616-8BDD-4416-9AD1-C98CD444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8520-D888-4C36-B5B7-1E1806AF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CDDA-C8B0-459A-9984-5A5AE428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77E7-894F-4C87-8B72-BCE0430B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DD3B-4FF8-4D1E-A89B-36E6BC7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2469-5063-41E4-A64B-2683F43A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B87-FB48-46A9-99AB-A71B01D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B539-16A7-4101-9BC3-D67AE6D4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6722-432C-4231-AD95-B63B57F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95B0-0EAC-4AB1-9C4B-1E9872F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57DF-6B43-4538-BEC7-E8DCC92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39F9-3EC4-4DB2-919E-56F5D6C4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B0A1-F59F-44A8-918C-389F2B5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748D-C592-4528-B8F6-BBE4037A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FDF3-48B1-4318-99AB-9C99BFC4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6E06-7E0B-4E53-8B26-41409D43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980-B147-4BDE-8FA9-C161676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1E1-B0A3-4D75-9503-4B65BD7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8B4-788C-48DF-884A-95EDF38E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690-9AC9-4370-99F4-8334016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E6D-7DF6-4181-A64A-99CFC29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DC14-01B7-48CD-B0BB-550B68FB80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34D3-4C66-437F-B902-5A91EDAE3A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140-A0BD-4647-B392-E5FD1254DF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89B-0FDE-4C13-90C4-B77FC35E1E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3" descr="69485649_1295494839_Scan0003.jpg"/>
          <p:cNvPicPr/>
          <p:nvPr/>
        </p:nvPicPr>
        <p:blipFill>
          <a:blip r:embed="rId1"/>
          <a:stretch/>
        </p:blipFill>
        <p:spPr>
          <a:xfrm>
            <a:off x="2857680" y="357120"/>
            <a:ext cx="42861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69485649_1295494839_Scan0003.jpg"/>
          <p:cNvPicPr/>
          <p:nvPr/>
        </p:nvPicPr>
        <p:blipFill>
          <a:blip r:embed="rId1"/>
          <a:srcRect l="51672" t="10409" r="8328" b="71094"/>
          <a:stretch/>
        </p:blipFill>
        <p:spPr>
          <a:xfrm>
            <a:off x="1285920" y="714240"/>
            <a:ext cx="7358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69485649_1295494839_Scan0003.jpg"/>
          <p:cNvPicPr/>
          <p:nvPr/>
        </p:nvPicPr>
        <p:blipFill>
          <a:blip r:embed="rId1"/>
          <a:srcRect l="50016" t="28917" r="6672" b="50276"/>
          <a:stretch/>
        </p:blipFill>
        <p:spPr>
          <a:xfrm>
            <a:off x="1000080" y="714240"/>
            <a:ext cx="75009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69485649_1295494839_Scan0003.jpg"/>
          <p:cNvPicPr/>
          <p:nvPr/>
        </p:nvPicPr>
        <p:blipFill>
          <a:blip r:embed="rId1"/>
          <a:srcRect l="50016" t="48575" r="6672" b="31779"/>
          <a:stretch/>
        </p:blipFill>
        <p:spPr>
          <a:xfrm>
            <a:off x="714240" y="785880"/>
            <a:ext cx="775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69485649_1295494839_Scan0003.jpg"/>
          <p:cNvPicPr/>
          <p:nvPr/>
        </p:nvPicPr>
        <p:blipFill>
          <a:blip r:embed="rId1"/>
          <a:srcRect l="0" t="64763" r="46672" b="0"/>
          <a:stretch/>
        </p:blipFill>
        <p:spPr>
          <a:xfrm>
            <a:off x="2000160" y="785880"/>
            <a:ext cx="5518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69485649_1295494839_Scan0003.jpg"/>
          <p:cNvPicPr/>
          <p:nvPr/>
        </p:nvPicPr>
        <p:blipFill>
          <a:blip r:embed="rId1"/>
          <a:srcRect l="40000" t="64763" r="0" b="0"/>
          <a:stretch/>
        </p:blipFill>
        <p:spPr>
          <a:xfrm>
            <a:off x="1714680" y="1000080"/>
            <a:ext cx="62578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69485651_1295494868_Scan0004.jpg"/>
          <p:cNvPicPr/>
          <p:nvPr/>
        </p:nvPicPr>
        <p:blipFill>
          <a:blip r:embed="rId1"/>
          <a:stretch/>
        </p:blipFill>
        <p:spPr>
          <a:xfrm>
            <a:off x="2571840" y="142920"/>
            <a:ext cx="44910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69485651_1295494868_Scan0004.jpg"/>
          <p:cNvPicPr/>
          <p:nvPr/>
        </p:nvPicPr>
        <p:blipFill>
          <a:blip r:embed="rId1"/>
          <a:srcRect l="8573" t="41095" r="5731" b="33750"/>
          <a:stretch/>
        </p:blipFill>
        <p:spPr>
          <a:xfrm>
            <a:off x="142920" y="785880"/>
            <a:ext cx="8826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69485651_1295494868_Scan0004.jpg"/>
          <p:cNvPicPr/>
          <p:nvPr/>
        </p:nvPicPr>
        <p:blipFill>
          <a:blip r:embed="rId1"/>
          <a:srcRect l="0" t="66599" r="0" b="0"/>
          <a:stretch/>
        </p:blipFill>
        <p:spPr>
          <a:xfrm>
            <a:off x="714240" y="1071720"/>
            <a:ext cx="8193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2-11-28T04:47:56Z</dcterms:modified>
  <cp:revision>1</cp:revision>
  <dc:subject/>
  <dc:title>Слайд 1</dc:title>
</cp:coreProperties>
</file>