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384-3B3B-416E-A902-377E5E96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4E2-6531-4746-B7DE-E1EF7CC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79C-8B2C-405C-87AE-492F5140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6EB-45A7-4912-978C-5D67D395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3882-55A1-4913-A8DB-6D52C5EE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761B-B2F3-405B-A562-5A12A6E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8215-636A-4299-86AA-2A42377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5D04-E5AE-4E04-B680-17C94BEC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848E-0B59-4365-BB95-3D6F6CC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94CA-23DE-4730-A672-88F9D83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9595-5269-44C7-91F1-DEFBAF4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547-CC62-49DA-AC4F-6E3BB48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52B-A32C-45E7-9B86-5F11181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073-7D4F-4351-86EE-7B87D01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D15-61E5-46D2-8D7D-6400067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C36A-F6A7-4F94-874A-F67B6D65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C430-762F-48BD-A49A-CF91AB39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F35-3E60-4F92-88C4-EB52D70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086-FBD0-4499-A745-995E4F06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829-0EAE-4B7B-B29E-B27AE76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A86-A476-4468-99EA-703F1D52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D89-1CBA-42BC-901D-084C1E4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132-3F2D-4019-B0A7-23FF5FA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9E6-4F5A-4E42-B3A2-328C7B1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9FBA-1989-4E7F-8949-EF5CDB776C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DB57-E42B-45F8-B981-68BE065CD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Volosovogerb.gif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ru.wikipedia.org/wiki/&#1048;&#1079;&#1086;&#1073;&#1088;&#1072;&#1078;&#1077;&#1085;&#1080;&#1077;:Flag_of_Volosovo_%28Leningrad_oblast%29.png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ru.wikipedia.org/wiki/&#1048;&#1079;&#1086;&#1073;&#1088;&#1072;&#1078;&#1077;&#1085;&#1080;&#1077;:Gerb_volosovo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8580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окружающего мира в 4-а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26920" y="1700280"/>
            <a:ext cx="669780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мволы Росси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77920"/>
            <a:ext cx="8064360" cy="624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4764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рва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40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а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Алексей Федорович Льв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Василий Андреевич Жуковски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58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8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3 году по указанию императора Николая I Алексей Львов и Василий Жуковский написали гимн «Молитва русского на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3 году так же был написан ещё один гимн «Боже, Царя хра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же, Царя хран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ьный, державны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ствуй на славу на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ствуй на страх врага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ь православны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27280" y="260280"/>
            <a:ext cx="453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260280"/>
            <a:ext cx="8351640" cy="72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ый в 1833 году гимн просуществовал до Февральской революции 1917 года. Тогда в качестве гимна стали использовать мелодию "Марсельезы", главной песни Великой французской революции и гимна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мену ей пришел "Интернационал", использовавшийся в качестве гимна РСФСР и СССР до 1 января 1944 года. Гимн написан французским поэтом Эженом Потье, музыку гимна создал Пьер Дегей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ставай, проклятьем заклеймё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есь мир голодных и раб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ипит наш разум возмущ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 в смертный бой вести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Сергей Владимирович Михалк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00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Александр Александров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69600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0"/>
            <a:ext cx="8064360" cy="67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 января 1944 года,  прозвучал гимн Александрова на стихи Михалкова и Эль-Регистана, созданный еще в 1936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юз нерушимый республик свободных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лотила навеки великая Рус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 здравствует созданный волей народов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диный, могучий Советский Союз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авься, Отечество наше                         свободное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ружбы народов надежный оплот!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ртия Ленина - сила народна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 к торжеству коммунизма веде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20 декабря 2000 года мелодия Александрова вновь стала гимном Российской Федерации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773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00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42920" y="1916280"/>
            <a:ext cx="7129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сударственный гимн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я – священная наша держ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я – любимая наша страна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чая воля, великая слава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вься страна! Мы гордимся т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б Ленинградской области представляет собой изображение на геральдическом щите с отношением ширины к высоте 8:9 серебряного якоря, пересеченного золотым ключом на лазоревом (голубом) поле. В верхней части щита изображена серебряная зубчатая стена в перевязь на красн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189000"/>
            <a:ext cx="7805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ы Ленинградской обла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Герб Ленинградской области "/>
          <p:cNvPicPr/>
          <p:nvPr/>
        </p:nvPicPr>
        <p:blipFill>
          <a:blip r:embed="rId1"/>
          <a:stretch/>
        </p:blipFill>
        <p:spPr>
          <a:xfrm>
            <a:off x="5140440" y="1628640"/>
            <a:ext cx="3332160" cy="4469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260280"/>
            <a:ext cx="7561440" cy="54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.Д.Ушинский пис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«Много есть на свете и кроме России всяких хороших государств и земель, но одна у человека родная мать – одна у него и Родина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42609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г Ленинградской области представляет собой прямоугольное полотнище с отношением длины флага к его ширине 3:2. В верхней части флага расположено белое поле, занимающее 2/3 его ширины. На белом поле в центре изображен герб Ленинградской области. Габаритная ширина герба на флаге Ленинградской области должна составлять 2/9 длины полотнища. В нижней части флага по всей длине расположены красная волнистая полоса, а над ней - голубая волнистая полоса, разделенные пополам белой волнистой полосой, составляющей 1/60 ширины полотнища фла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 Флаг Ленинградской области"/>
          <p:cNvPicPr/>
          <p:nvPr/>
        </p:nvPicPr>
        <p:blipFill>
          <a:blip r:embed="rId1"/>
          <a:stretch/>
        </p:blipFill>
        <p:spPr>
          <a:xfrm>
            <a:off x="4716360" y="184464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4360" y="0"/>
            <a:ext cx="7704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имволы г. Волос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6" name="" descr="Гер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05360"/>
            <a:ext cx="3456000" cy="285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Флаг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00536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Герб Волосова до 2007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1268280"/>
            <a:ext cx="3600360" cy="266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2060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б г. Волосово до 200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352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Гимн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утра звонок весё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с приглашает в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зрослеем вместе со шко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крыт весь мир для н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м весело живё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 песенку поё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в песенке поё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том, как мы живё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ипе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сный цвет, жёлтый цв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ть и фиолетов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убой и си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ыбаюсь с ни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ранжевый, зелёный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т и радуга гот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равствуй, Радужная шко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82436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692360" y="333360"/>
            <a:ext cx="56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волы школ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03280" y="260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Михаил Пришв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773360"/>
            <a:ext cx="756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Рыбе вода, птице воздух, зверю лес, степь, горы. А человеку нужна Родин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557360"/>
            <a:ext cx="5400720" cy="489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88000" y="220500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рб Московского государств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68360" y="260280"/>
            <a:ext cx="496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б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качестве государственного герба двуглавый  орел появился на Руси в 147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оду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Герб Российской империи"/>
          <p:cNvPicPr/>
          <p:nvPr/>
        </p:nvPicPr>
        <p:blipFill>
          <a:blip r:embed="rId1"/>
          <a:stretch/>
        </p:blipFill>
        <p:spPr>
          <a:xfrm>
            <a:off x="1835280" y="1557360"/>
            <a:ext cx="5689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Герб РСФСР впервые описан в Конституции РСФСР 1918 года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Герб СССР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Орел увенчан двумя малыми коронами и - над ними - одной большой короной, соединенными лентой. В правой лапе орла - скипетр, в левой - держава. На груди орла, в красном щите, - серебряный всадник в синем плаще на серебряном коне, поражающий серебряным копьем черного опрокинутого навзничь и попранного конем драк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Государственный герб Российской Федерации"/>
          <p:cNvPicPr/>
          <p:nvPr/>
        </p:nvPicPr>
        <p:blipFill>
          <a:blip r:embed="rId1"/>
          <a:stretch/>
        </p:blipFill>
        <p:spPr>
          <a:xfrm>
            <a:off x="5072040" y="1628640"/>
            <a:ext cx="3603600" cy="446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03280" y="260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 ноября 1993 года президент Российской Федерации подписал указ о создании нового "Государственного  герба Российской Федерации. 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 1858 году царь Александр II учреждает  черно-желто-белый, флаг. Так называемый "монархический" флаг просуществовал до 1883 года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empire" descr="Монархический флаг"/>
          <p:cNvPicPr/>
          <p:nvPr/>
        </p:nvPicPr>
        <p:blipFill>
          <a:blip r:embed="rId1"/>
          <a:stretch/>
        </p:blipFill>
        <p:spPr>
          <a:xfrm>
            <a:off x="1187280" y="1700280"/>
            <a:ext cx="705672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 апреле 1918 года по предложению Якова Свердлова был учрежден красный флаг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rus_ussr" descr="Флаг СССР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871880" y="1599840"/>
            <a:ext cx="402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 из трех равновеликих горизонтальных полос: верхней - белого, средней - синего и нижней - красного цвета. Отношение ширины флага к его длине 2: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Государственный флаг Российской Федерации"/>
          <p:cNvPicPr/>
          <p:nvPr/>
        </p:nvPicPr>
        <p:blipFill>
          <a:blip r:embed="rId1"/>
          <a:stretch/>
        </p:blipFill>
        <p:spPr>
          <a:xfrm>
            <a:off x="179280" y="1628640"/>
            <a:ext cx="4753080" cy="439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260280"/>
            <a:ext cx="748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2 августа 1991 был поднят бело-сине-красный ф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27:38Z</dcterms:created>
  <dc:creator>ПАША</dc:creator>
  <dc:description/>
  <dc:language>en-US</dc:language>
  <cp:lastModifiedBy>Zver</cp:lastModifiedBy>
  <dcterms:modified xsi:type="dcterms:W3CDTF">2012-11-28T18:54:15Z</dcterms:modified>
  <cp:revision>15</cp:revision>
  <dc:subject/>
  <dc:title>Слайд 1</dc:title>
</cp:coreProperties>
</file>