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FCF-FA95-4FED-8A46-993DBFE8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ED2-E3CB-4378-B05B-CDB23C7F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587-D291-4CB6-8347-8ABA3188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DD6-7672-4F8C-9A50-F9A99C4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F718-DEEE-489E-8BF4-A0705CA5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CC8-AF82-40E7-AC8B-2E819A6B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84C-B152-4A9E-BFA8-4B155D38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AFE-6143-4705-86C1-EF1D9D0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C347-972A-4BF7-AE0C-CE12AAE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AFB-46F4-497D-B6B2-4253036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CC71-BF75-4338-B5C9-7E64FC2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26C-A9CE-4AC8-BA4B-5D31DB14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5E8-2CBE-4CEB-9C60-4ED8FB0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A034-C66F-4001-9ED1-08C3FD34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C123-1A2E-4D7D-B9D1-BD73298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0E71-0B5C-4948-BBF7-65921565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4E0A-DDF7-4FFD-A68C-EE3A2847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47D-C879-4694-92A7-D254DEC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834-75A0-4125-B60E-EE765F10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5E2-8137-4BC9-8A55-0D464BB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3CC-B636-4C4F-B763-7325256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724-7E08-498B-8701-AF7F6A7F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3A5-DDAC-4EF8-9C02-53BD0C2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581-7FBC-45C1-AF3E-14F756F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F06-B652-4413-A649-8A4B173846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008-D094-4C1D-828A-01F0C25850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Volosovogerb.gif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ru.wikipedia.org/wiki/&#1048;&#1079;&#1086;&#1073;&#1088;&#1072;&#1078;&#1077;&#1085;&#1080;&#1077;:Flag_of_Volosovo_%28Leningrad_oblast%29.pn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ru.wikipedia.org/wiki/&#1048;&#1079;&#1086;&#1073;&#1088;&#1072;&#1078;&#1077;&#1085;&#1080;&#1077;:Gerb_volosovo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8580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окружающего мира в 4-а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26920" y="1700280"/>
            <a:ext cx="669780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волы Росси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77920"/>
            <a:ext cx="8064360" cy="624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4764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рв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Алексей Федорович Льв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Василий Андреевич Жуковски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58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8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3 году по указанию императора Николая I Алексей Львов и Василий Жуковский написали гимн «Молитва русского на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3 году так же был написан ещё один гимн «Боже, Царя хра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же, Царя хран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ьный, державны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ствуй на славу н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ствуй на страх враг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ь православны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27280" y="260280"/>
            <a:ext cx="45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260280"/>
            <a:ext cx="8351640" cy="72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ый в 1833 году гимн просуществовал до Февральской революции 1917 года. Тогда в качестве гимна стали использовать мелодию "Марсельезы", главной песни Великой французской революции и гимна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ну ей пришел "Интернационал", использовавшийся в качестве гимна РСФСР и СССР до 1 января 1944 года. Гимн написан французским поэтом Эженом Потье, музыку гимна создал Пьер Дегей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ставай, проклятьем заклеймё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есь мир голодных и раб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ипит наш разум возмущ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 в смертный бой вести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Сергей Владимирович Михал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00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Александр Александров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696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0"/>
            <a:ext cx="8064360" cy="67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 января 1944 года,  прозвучал гимн Александрова на стихи Михалкова и Эль-Регистана, созданный еще в 1936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юз нерушимый республик свободных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лотила навеки великая Рус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 здравствует созданный волей народов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диный, могучий Советский Союз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авься, Отечество наше                         свободное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жбы народов надежный оплот!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тия Ленина - сила народна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 к торжеству коммунизма веде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20 декабря 2000 года мелодия Александрова вновь стала гимном Российской Федерации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773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42920" y="1916280"/>
            <a:ext cx="7129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сударственный гимн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я – священная наша держ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я – любимая наша стран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чая воля, великая слава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вься страна! Мы гордимся 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б Ленинградской области представляет собой изображение на геральдическом щите с отношением ширины к высоте 8:9 серебряного якоря, пересеченного золотым ключом на лазоревом (голубом) поле. В верхней части щита изображена серебряная зубчатая стена в перевязь на красн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189000"/>
            <a:ext cx="7805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ы Ленинградской обла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Герб Ленинградской области "/>
          <p:cNvPicPr/>
          <p:nvPr/>
        </p:nvPicPr>
        <p:blipFill>
          <a:blip r:embed="rId1"/>
          <a:stretch/>
        </p:blipFill>
        <p:spPr>
          <a:xfrm>
            <a:off x="5140440" y="1628640"/>
            <a:ext cx="333216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260280"/>
            <a:ext cx="7561440" cy="54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.Д.Ушинский пис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«Много есть на свете и кроме России всяких хороших государств и земель, но одна у человека родная мать – одна у него и Родин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42609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г Ленинградской области представляет собой прямоугольное полотнище с отношением длины флага к его ширине 3:2. В верхней части флага расположено белое поле, занимающее 2/3 его ширины. На белом поле в центре изображен герб Ленинградской области. Габаритная ширина герба на флаге Ленинградской области должна составлять 2/9 длины полотнища. В нижней части флага по всей длине расположены красная волнистая полоса, а над ней - голубая волнистая полоса, разделенные пополам белой волнистой полосой, составляющей 1/60 ширины полотнища фла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 Флаг Ленинградской области"/>
          <p:cNvPicPr/>
          <p:nvPr/>
        </p:nvPicPr>
        <p:blipFill>
          <a:blip r:embed="rId1"/>
          <a:stretch/>
        </p:blipFill>
        <p:spPr>
          <a:xfrm>
            <a:off x="4716360" y="184464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4360" y="0"/>
            <a:ext cx="770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имволы г. Волос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Гер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05360"/>
            <a:ext cx="345600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Флаг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05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Герб Волосова до 2007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1268280"/>
            <a:ext cx="3600360" cy="266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2060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б г. Волосово до 200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352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Гимн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утра звонок весё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 приглашает в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зрослеем вместе со шко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крыт весь мир для н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м весело живё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 песенку поё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в песенке поё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том, как мы жив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ный цвет, жёлтый цв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ть и фиолетов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убой и си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ыбаюсь с ни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ранжевый, зелёный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т и радуга гот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равствуй, Радужная шко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82436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692360" y="33336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ы школ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03280" y="26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Михаил Пришв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773360"/>
            <a:ext cx="756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Рыбе вода, птице воздух, зверю лес, степь, горы. А человеку нужна Родин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557360"/>
            <a:ext cx="5400720" cy="489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88000" y="220500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рб Московского государств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68360" y="260280"/>
            <a:ext cx="496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качестве государственного герба двуглавый  орел появился на Руси в 147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ду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Герб Российской империи"/>
          <p:cNvPicPr/>
          <p:nvPr/>
        </p:nvPicPr>
        <p:blipFill>
          <a:blip r:embed="rId1"/>
          <a:stretch/>
        </p:blipFill>
        <p:spPr>
          <a:xfrm>
            <a:off x="1835280" y="1557360"/>
            <a:ext cx="5689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Герб РСФСР впервые описан в Конституции РСФСР 1918 года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Герб СССР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Орел увенчан двумя малыми коронами и - над ними - одной большой короной, соединенными лентой. В правой лапе орла - скипетр, в левой - держава. На груди орла, в красном щите, - серебряный всадник в синем плаще на серебряном коне, поражающий серебряным копьем черного опрокинутого навзничь и попранного конем драк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Государственный герб Российской Федерации"/>
          <p:cNvPicPr/>
          <p:nvPr/>
        </p:nvPicPr>
        <p:blipFill>
          <a:blip r:embed="rId1"/>
          <a:stretch/>
        </p:blipFill>
        <p:spPr>
          <a:xfrm>
            <a:off x="5072040" y="1628640"/>
            <a:ext cx="3603600" cy="446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260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 ноября 1993 года президент Российской Федерации подписал указ о создании нового "Государственного  герба Российской Федерации. 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 1858 году царь Александр II учреждает  черно-желто-белый, флаг. Так называемый "монархический" флаг просуществовал до 1883 года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empire" descr="Монархический флаг"/>
          <p:cNvPicPr/>
          <p:nvPr/>
        </p:nvPicPr>
        <p:blipFill>
          <a:blip r:embed="rId1"/>
          <a:stretch/>
        </p:blipFill>
        <p:spPr>
          <a:xfrm>
            <a:off x="1187280" y="1700280"/>
            <a:ext cx="705672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 апреле 1918 года по предложению Якова Свердлова был учрежден красный флаг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rus_ussr" descr="Флаг СССР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871880" y="1599840"/>
            <a:ext cx="402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 из трех равновеликих горизонтальных полос: верхней - белого, средней - синего и нижней - красного цвета. Отношение ширины флага к его длине 2: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Государственный флаг Российской Федерации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439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260280"/>
            <a:ext cx="74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2 августа 1991 был поднят бело-сине-красный ф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27:38Z</dcterms:created>
  <dc:creator>ПАША</dc:creator>
  <dc:description/>
  <dc:language>en-US</dc:language>
  <cp:lastModifiedBy>Zver</cp:lastModifiedBy>
  <dcterms:modified xsi:type="dcterms:W3CDTF">2012-11-28T18:54:15Z</dcterms:modified>
  <cp:revision>15</cp:revision>
  <dc:subject/>
  <dc:title>Слайд 1</dc:title>
</cp:coreProperties>
</file>