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10.jpeg" ContentType="image/jpeg"/>
  <Override PartName="/ppt/media/image11.jpeg" ContentType="image/jpeg"/>
  <Override PartName="/ppt/media/image12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275C9-C983-4156-9489-EA6680F59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4F174-2437-4999-9D7A-83B2CF1BB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FF4E6D-BFDD-4AC7-935F-010910719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8ED6FF-2C0F-48CD-9C43-93ADC863D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62D028-4222-4998-B27F-F099D748B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294585-CF30-4980-9BC6-A89EB3158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E944DF-CC57-4B75-8B9A-1E9CF3286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BD82F8-07B5-4706-8162-78D2BDCCE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A2F808-4135-4E49-87A1-CF09B80FE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2275B6-DB19-451C-815B-941C763AD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8CE2EA-8F58-45D9-B369-27E4C5BAE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56BDB-1C90-488E-84DD-1F4B25208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68536-FFD4-49C8-A501-6B8AE9E19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C7931-9FC0-4797-B093-B6B47AE71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F4035-6A39-4263-997A-8AD0EB9E8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9D6F5-A73C-4E9A-9C03-3B04B363A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A8CB4-296B-481A-88B7-E9FAD8B36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576B4-E9B2-46AD-8325-40ADA2FEE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014DE-2280-43A5-B3F7-ABB7317C2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DA113-B9BD-413B-AD99-9E95350B4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C519E-CA93-4FFA-A241-1FBD7F0DA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B83D0-0A24-4599-92A7-A77361C87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0B6BA-1CB3-4BE7-AAD4-5DB8D50C2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820BC-C281-47E7-8C43-0CABCE5C1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0DDCD-9068-4D42-9934-7FACFCD80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96043-9F2D-4401-AD05-E5E1C244F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59539D-362B-4985-8542-979549CCE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CA7612-E166-4310-954C-DEA34BBAB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7C520F-C5D2-4ACB-A5B3-10FE6A0E3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3A1E79-8CFB-4FB6-98DE-4D0F4E3CE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C2BEA5-7F45-4E0A-AE77-5181CC2BE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DDE40-6DD5-4DF1-AE31-681A1C501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645118-D615-4230-AD49-A3D22475F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D6603B-FE45-43C6-8A90-438581B6D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0FFA2A-EF18-4266-9FB6-09994D642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4E82D3-597B-4D5F-BE2D-DB92712AE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D60B0E-1CC1-4668-AE86-7DB62C302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F50B49-993D-4B75-A6BF-52533D3B4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E3CA8E-E774-4F64-BF87-6F499B95C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648F4C-8D70-4C82-B05A-6DCBDC29C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458F18-486E-41BA-BB52-E53974DF9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401EEB-A7EC-44FE-8393-A094513CA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D9907-837E-47BB-8FF1-5E6A05CB3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9E81CD-03C2-48A9-851F-30C30911E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8E9C27-AD4E-49DD-B2F9-387715697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90BFBF-426D-4E96-9651-7122788BE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D1D033-2874-4412-95DE-119AE9BCB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B2D515-B68B-42D7-A136-7C95F9C1E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8D743B-8417-451F-AF79-EEE02B36E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71ED8F-A896-4669-BBAD-F68211239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A45456-6707-435E-B673-60D41319D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F8D0EB-5ED7-4483-BE21-4698ED0FF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368AAA-10AD-4CD9-B043-A36619ABA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51044-87FD-4357-BCAA-60862AA70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D9E546-CEAF-445A-A984-5FF90B146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7934D8-59F2-42BF-9C7F-FFB7622B1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5321FF-1898-4149-9615-997595358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135CEF-071A-4B25-ADEA-D03DF6F98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A73506-0EEB-49AE-A8B5-5B03DE8E8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F1F1E2-A0F3-4D92-8E79-5D480A3C0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3A0181-1D6D-4B91-8879-6309FDED0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63528D-476E-4653-9EBD-D356E93BC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F31A63-9A2B-4525-8F8C-906311A39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DC3B81-9764-46B6-B944-01C2F311D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35D64-7B93-4CDE-8554-72E6070E9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BA359E-47D5-4E6F-B061-4C00013D7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BE1561-F2AE-4C84-82BA-1532CF506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C9BD78-595C-4362-AAA7-CD1B71CEE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C57513-3E8C-4F63-9764-CF45DADAD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B0BAA6-1984-400C-A4D1-043D9FE8A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CAD85B-5DDE-459A-BEB1-0B097A9D4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DDF920-B883-4DD6-8D9E-F950A488D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B95BB8-1420-4C7E-A75F-D9B76AE4F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680EF1-5A41-4A4C-B6F2-A928A9ED6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169D26-B7B0-40EF-834C-207864E48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ED926-3872-4E88-AD00-9B5520AC1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9688AE-50CC-430E-A3FA-6FB2176F0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01538C-9376-454F-A397-3B9C691A3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E4A1D0-AEF4-46D5-B1F4-3706A3050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6C0A42-B083-44D4-88FF-0861DA8FB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8FCFE8-999E-43A1-85E6-FE1BCDA13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B330DC-8930-4FC3-AF2D-384C7BEA7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0A0AB4-C342-4891-B395-87854C92C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011CBE-A1A4-4377-AB6E-32BEE0C7E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3BBE60-6795-4187-B92D-F199E5195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86C1BD-C397-46FC-A7CC-BAA491473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2B206-1A91-471A-91EE-1DA264014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BE8F63-6B72-4A7F-B606-946815260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A9387F-F136-454C-8C33-8A1CFAE4F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D4729B-A14D-475D-AB56-BD1DB4FBF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C9D614-DF68-4465-BCDE-02DA6A008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EC10B1-CE15-4C4C-A3D3-6EE1AE161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7B68592-869B-4D5B-839F-25BDD48C6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8AB98FA-26E2-43D6-982C-7FA4384BA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F7A4A97-8BBB-450E-B027-AC52E35F4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A6A93E8-B9A6-4A27-A2B5-539DECC70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738D634-AD18-4490-AD78-9C7EA415F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FAC2B-4B87-4778-B5BC-D30C37941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47651AD-DE25-45D5-9E35-46C7F78D5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53A9943-AF0F-4D04-B636-CD650116F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3FE76E2-7B67-491F-94B9-F6E36927F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1C0B8AF-6AB2-4301-89D2-F51C02234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703406A-FFA9-4AB9-B93E-CE987D9D9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84D67AD-BC42-4D0E-BF4A-46A27157D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7A5262A-6124-4487-9951-A681877BA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E1B20A-7EE9-4D21-B1FB-77C292B7E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53123D-E6E5-4E85-83D3-1749EA814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C3B81E-042F-4D69-B067-BAF5F20B5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3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4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6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7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11AEA-85DB-4BD0-9C6D-EAC04CE888AA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B9BE7-AE75-4A86-84FC-0DCE7F044710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9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9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ftr" idx="8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sldNum" idx="9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EF597-8532-4828-8C8D-A09808880141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1B4DF-7977-492A-8FFA-12A53AA09B9D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9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180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8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1D888-7F9D-401C-A39F-D2321D4DA4E5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675AB-091D-45B0-9362-6E90429B02C0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A2E81-8DDB-43DA-8466-AEC1F51D3266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306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ftr" idx="2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sldNum" idx="2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4E802-92C7-4735-9D25-8D0B91069897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dt" idx="2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8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369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dt" idx="25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 type="sldNum" idx="2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D02CE-FDFC-491F-9491-189E3D088B33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8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684360" y="620640"/>
            <a:ext cx="7559640" cy="38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  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О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АЛЕНЬКА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  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ОДИН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900000" y="5516640"/>
            <a:ext cx="640872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9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ыполнил: Лаптев Артём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0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541440" y="776160"/>
            <a:ext cx="80611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8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4786200" y="571680"/>
            <a:ext cx="3857760" cy="46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436" name="Рисунок 3" descr="DSC01586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7" name="Прямоугольник 4"/>
          <p:cNvSpPr/>
          <p:nvPr/>
        </p:nvSpPr>
        <p:spPr>
          <a:xfrm>
            <a:off x="285840" y="5041800"/>
            <a:ext cx="85010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В восемнадцати километрах от города Вольска, у истоков речки Чернавки широко раскинулось русское село Верхняя Чернавка, возникшее в 1740 году.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1" dur="2000"/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439" name="Прямоугольник 6"/>
          <p:cNvSpPr/>
          <p:nvPr/>
        </p:nvSpPr>
        <p:spPr>
          <a:xfrm>
            <a:off x="428760" y="714240"/>
            <a:ext cx="8286480" cy="5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40" name="Содержимое 11" descr="001330040157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1" name="Прямоугольник 12"/>
          <p:cNvSpPr/>
          <p:nvPr/>
        </p:nvSpPr>
        <p:spPr>
          <a:xfrm>
            <a:off x="0" y="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Первыми поселенцами села были выходцы из села Гусиная Лапа, ныне Большая Гусиха Базарно-Карбулакского района Саратовской области. 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2" name="Прямоугольник 5"/>
          <p:cNvSpPr/>
          <p:nvPr/>
        </p:nvSpPr>
        <p:spPr>
          <a:xfrm>
            <a:off x="428760" y="2000160"/>
            <a:ext cx="82864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До революции село делилось на три общины. Первую общину составляли крепостные крестьяне графа Орлова-Денисова. Самая маленькая вторая община, состояла из удельных крестьян. 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3" name="Прямоугольник 7"/>
          <p:cNvSpPr/>
          <p:nvPr/>
        </p:nvSpPr>
        <p:spPr>
          <a:xfrm>
            <a:off x="571680" y="4500720"/>
            <a:ext cx="7929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Третьим обществом был хутор мещан города Вольска. До сих пор одна из улиц этого бывшего хутора называется «Хуторами».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" dur="2000"/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3" dur="500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7" dur="500"/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000"/>
                            </p:stCondLst>
                            <p:childTnLst>
                              <p:par>
                                <p:cTn id="40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1" dur="500"/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5" name="Прямоугольник 4"/>
          <p:cNvSpPr/>
          <p:nvPr/>
        </p:nvSpPr>
        <p:spPr>
          <a:xfrm>
            <a:off x="2286000" y="1166760"/>
            <a:ext cx="4572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46" name="Содержимое 9" descr="lu-kampolyany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27760"/>
          </a:xfrm>
          <a:prstGeom prst="rect">
            <a:avLst/>
          </a:prstGeom>
          <a:ln w="0">
            <a:noFill/>
          </a:ln>
        </p:spPr>
      </p:pic>
      <p:sp>
        <p:nvSpPr>
          <p:cNvPr id="447" name="Прямоугольник 10"/>
          <p:cNvSpPr/>
          <p:nvPr/>
        </p:nvSpPr>
        <p:spPr>
          <a:xfrm>
            <a:off x="0" y="2643120"/>
            <a:ext cx="9144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Century Gothic"/>
              </a:rPr>
              <a:t>Село Верхняя Чернавка упоминается с конца 18 века как принадлежащее Дворцовому Ведомству. В конце 18 столетия Императрицей Екатериной Второй было пожаловано Государственному казначею графу Алексею Васильеву, от которого перешло к его наследнику. В записи 1834 года село значится принадлежащим зятю Васильева графу Орлову-Денисову. Супругой Васильева графини  Варвары Сергеевны в 1809 году в Верхней Чернавке была построена каменная церковь во имя Святых бессребников и чудотворцев Косьмы и Домиана.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2000"/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3" dur="2000"/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pic>
        <p:nvPicPr>
          <p:cNvPr id="449" name="Содержимое 4" descr="6130p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0" name="Прямоугольник 5"/>
          <p:cNvSpPr/>
          <p:nvPr/>
        </p:nvSpPr>
        <p:spPr>
          <a:xfrm>
            <a:off x="0" y="0"/>
            <a:ext cx="9144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entury Gothic"/>
              </a:rPr>
              <a:t>Ведущей отраслью экономики села было земледелие, сеяли рожь, пшеницу, овёс и др. занимались огородничеством. Землю пахали конным плугом или сохой. Сеяли вручную, хлеб жали серпами.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3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3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6" dur="2000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2000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pic>
        <p:nvPicPr>
          <p:cNvPr id="452" name="Содержимое 3" descr="39691220_206944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3" name="Прямоугольник 4"/>
          <p:cNvSpPr/>
          <p:nvPr/>
        </p:nvSpPr>
        <p:spPr>
          <a:xfrm>
            <a:off x="0" y="454968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В селе было 6 мукомольных мельниц. Находилось пять бакалейных лавок, одна винная. На 1889 год насчитывалось мужчин-1271, женщин-1660. Профессий в селе было много: извозчики, батраки, поденщики, овчинники, жницы, пастухи, плотники, пильщики, караульщики, портные.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pic>
        <p:nvPicPr>
          <p:cNvPr id="455" name="Содержимое 3" descr="767858768.bmp"/>
          <p:cNvPicPr/>
          <p:nvPr/>
        </p:nvPicPr>
        <p:blipFill>
          <a:blip r:embed="rId2"/>
          <a:stretch/>
        </p:blipFill>
        <p:spPr>
          <a:xfrm>
            <a:off x="0" y="0"/>
            <a:ext cx="9144000" cy="5146560"/>
          </a:xfrm>
          <a:prstGeom prst="rect">
            <a:avLst/>
          </a:prstGeom>
          <a:ln w="0">
            <a:noFill/>
          </a:ln>
        </p:spPr>
      </p:pic>
      <p:sp>
        <p:nvSpPr>
          <p:cNvPr id="456" name="Прямоугольник 4"/>
          <p:cNvSpPr/>
          <p:nvPr/>
        </p:nvSpPr>
        <p:spPr>
          <a:xfrm>
            <a:off x="0" y="5041800"/>
            <a:ext cx="9144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Престижная профессия была извозчик. Из всего района в наше село приезжали нанимать извозчиков, которые перевозили зерно из Вольска в Саратов.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 txBox="1"/>
          <p:nvPr/>
        </p:nvSpPr>
        <p:spPr>
          <a:xfrm rot="21256200">
            <a:off x="610920" y="1988640"/>
            <a:ext cx="7705800" cy="24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ерхней Чернавке - 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70 лет!!!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9T15:22:58Z</dcterms:created>
  <dc:creator>-демянчука-</dc:creator>
  <dc:description/>
  <dc:language>en-US</dc:language>
  <cp:lastModifiedBy>Андрей</cp:lastModifiedBy>
  <dcterms:modified xsi:type="dcterms:W3CDTF">2012-11-28T15:53:45Z</dcterms:modified>
  <cp:revision>42</cp:revision>
  <dc:subject/>
  <dc:title>Слайд 1</dc:title>
</cp:coreProperties>
</file>