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C04-91D0-4AB4-8BF6-5E8F4F92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77C-E1A9-419F-BCD6-B4C83B9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95F4-3DA0-4F49-AD12-6A3F9F8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D96D-A4CB-4282-B3EE-D57A3F4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86346-D112-44C7-ABE2-23178B4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57F3-884E-45CE-B598-814ECFEC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D839-E976-4CA2-A808-BE4BC70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BBEB6-9406-407A-AEDD-465F65D2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032EC-A911-40D9-BE5B-FB51A0E7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F6C2F-07EE-4E57-85B5-11F44E00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AF7F-7E19-4C4E-A6E4-F62A545C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231-22B5-4BD3-8758-04C9FB2C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283-62C2-4885-8F7C-2B1F885C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5C01-4618-4FB2-BE90-D918883F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AC12-D020-46F7-AA48-9082EA4F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EB97-4025-496F-B423-760C1BF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CDCB-AFC5-4CDB-B43C-9754927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A558-8EA6-4CEE-8121-3090B6A8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7D3-4CA6-4A5B-B144-0FDA0EA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CC4-C637-4B0B-A432-8D46EEA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4F0-01B6-4939-8CDD-4CE68BD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22C-F75B-4613-81EB-9C41F84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B176-1046-450F-BE49-190844F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B1C-BD31-474C-9ED7-78044AD4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863-5E51-48C3-8B7C-5FA4EA90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8BB7-E0F8-4960-9458-83D37B44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07D7-6167-4FA6-A034-4ACAABE7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FEEA-324B-4288-9923-31AD0AA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182A-CA66-48E7-9B85-5E128C5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532C-ED36-4887-8CE2-AEEFEC5F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6BC3-F565-4A51-9256-E57E53D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95B-B43B-43EF-B379-309330FF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2AC2-50B5-43FF-B554-BE0695C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37F1-EB91-493B-8FB2-44AA63C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1708-6ED7-46DD-998C-63D0B63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AAE5-C20A-4E81-B97C-34B8DA7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E1D5-6780-4E8D-8F92-E948EF0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975A-DBF4-40C4-8E97-50746C8F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EF7E-2ED6-40FA-AB9C-F341C9F2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7328-A8E8-4493-BC6A-905B4AD2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2D43-ED4E-4656-BB0F-143AE1A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0EB0-0435-43A8-A2C2-C3F8842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E96-7D17-443A-82A0-8A1E78F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2684-EDE5-4105-ACFC-D6F1435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9195-BA51-4EAF-95F6-23BD80B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0B0A-77B6-48D4-8520-A21D257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0FBF-7B45-400B-8834-48DB08B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3B4B-AC9A-4D59-AA36-541D4D0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9865-4AEA-48B9-8EC5-28D8BD1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E6F5-3DE8-4CAB-840A-5307DF9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AA3E-A353-449B-8554-CC4D716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0E52-F52C-4656-9129-38C77AF8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A60C-90A1-4DC1-9F9F-39898CF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4FB-3EF0-4EE7-BA22-CF4E6A8E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5B45-65F3-4F47-B368-BA9907F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5789-E0CF-4277-9F7C-925A9E12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E2AB-DE6C-49F7-A7FB-DA8A6B3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ABDB-CBA0-45A6-A13B-0130A8A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E83F-A23A-4D43-9BF7-D52A3BFE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2080-B86B-4F53-934C-06FFF5C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F5519-F4D1-45E2-AAF4-BBB4C11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5E11-230A-4572-9D1A-4C9912D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F373-495F-4317-BC3E-2672B81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9331-A757-4AF2-82CB-B93078C5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F65-FB5D-4498-882C-7A32AE2C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2A97-BE9D-4C41-B760-43E02EDE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A574-4FB6-4661-B23B-0F0A2F7F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DF72-4030-4320-98FD-8362EB15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CD29-0A46-428D-8C82-6F8F18B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1716-5761-4A2C-90A1-78B74E2F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2FA0-DF08-4556-A2F3-7A356A7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9706-74D1-4985-8AF4-E2045E0C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2D8A-8EBA-4CAE-9343-B96BE6F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A643-97F4-4013-BB53-79F56CA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DF48-8DF9-4528-B9C2-B2B35D9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EA9-A158-41A8-94A8-018D2A0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5817-D465-4CDC-8688-B86432A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8389B-E841-4B92-BD84-C83CCC1F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4588D-F3BE-4189-996B-B91CF0BC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83B3-2015-4D39-B13B-AC2E78F4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8A0D-B502-4B66-9B45-4BA3B73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514B9-A42A-441D-BAF1-FEAEEAEA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E8CC-24BC-4CF0-9344-760897C5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61834-59C1-4ECF-8A7E-016A57A9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7C52-DBA2-4E23-A995-FC03D76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5E28D-D182-4458-98F4-1AA2BCA2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0B3-07A0-44AF-9419-1F37B94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F581-F388-4C51-BB2F-64E3F9E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A9A30-5EAE-463B-B6F0-419847C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F386-EFA7-4086-A814-06FE8D9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DEE1E-FE2E-4D18-9EB0-0A07D92E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3F4B-D63B-4A89-9192-A62EA77D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B07F5-6CFB-46A4-A8F9-3F95EE8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B2FFE9-0851-42C6-B0A2-31B6C062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2FA807-DC6E-478C-8CC4-17FAAD4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EB581-4F0D-4CC0-AB5C-ED93759F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9D6E8-37FD-4A46-B387-8F136A0B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76D-5CDD-462B-9F6D-744622D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C0C6D-5C26-48F6-870C-966F998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5BBB6-BF1C-49A6-909F-6B1EC0C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26BFF-FCBA-4271-AA84-59F970A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24688D-E48D-4F9B-89C8-7CD7144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03A60-CDC1-449D-B2F7-F4DD993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1CAFD-8E1E-4A27-BA7F-A93CAF03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3AD61-09DF-43DC-8948-926B70DC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3C91E-AAD2-435C-A592-81659C0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32124-275D-4FD8-B843-F5268D20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96565-C73F-4374-B33B-92B86DE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579-C7C4-45D9-B61A-7E22DA8E1C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C60-80C1-42E2-A678-719AB2B3CE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05C3-BDE1-4ECE-9998-E76D7C06C7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E0FA-649A-41AF-A32A-33D3BC77B0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11A-CC4F-4786-A959-7305FACAB0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2006-1521-4CFC-B8AD-A25D1A6EB0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751F-20F9-4F68-B5CB-2D2F8BEDD8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4FB0-BA76-48DC-9667-5B71470BAF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6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F671-B987-41FB-B6DA-FD65015A25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360" y="620640"/>
            <a:ext cx="7559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ЕНЬ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00000" y="5516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: Лаптев Артё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786200" y="571680"/>
            <a:ext cx="385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36" name="Рисунок 3" descr="DSC0158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4"/>
          <p:cNvSpPr/>
          <p:nvPr/>
        </p:nvSpPr>
        <p:spPr>
          <a:xfrm>
            <a:off x="285840" y="50418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восемнадцати километрах от города Вольска, у истоков речки Чернавки широко раскинулось русское село Верхняя Чернавка, возникшее в 1740 году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428760" y="714240"/>
            <a:ext cx="8286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0" name="Содержимое 11" descr="00133004015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1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ервыми поселенцами села были выходцы из села Гусиная Лапа, ныне Большая Гусиха Базарно-Карбулакского района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5"/>
          <p:cNvSpPr/>
          <p:nvPr/>
        </p:nvSpPr>
        <p:spPr>
          <a:xfrm>
            <a:off x="428760" y="200016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До революции село делилось на три общины. Первую общину составляли крепостные крестьяне графа Орлова-Денисова. Самая маленькая вторая община, состояла из удельных крестьян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571680" y="450072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етьим обществом был хутор мещан города Вольска. До сих пор одна из улиц этого бывшего хутора называется «Хуторами»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2286000" y="11667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Содержимое 9" descr="lu-kampolyany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10"/>
          <p:cNvSpPr/>
          <p:nvPr/>
        </p:nvSpPr>
        <p:spPr>
          <a:xfrm>
            <a:off x="0" y="2643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Село Верхняя Чернавка упоминается с конца 18 века как принадлежащее Дворцовому Ведомству. В конце 18 столетия Императрицей Екатериной Второй было пожаловано Государственному казначею графу Алексею Васильеву, от которого перешло к его наследнику. В записи 1834 года село значится принадлежащим зятю Васильева графу Орлову-Денисову. Супругой Васильева графини  Варвары Сергеевны в 1809 году в Верхней Чернавке была построена каменная церковь во имя Святых бессребников и чудотворцев Косьмы и Домиана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9" name="Содержимое 4" descr="6130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Ведущей отраслью экономики села было земледелие, сеяли рожь, пшеницу, овёс и др. занимались огородничеством. Землю пахали конным плугом или сохой. Сеяли вручную, хлеб жали серпам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pic>
        <p:nvPicPr>
          <p:cNvPr id="452" name="Содержимое 3" descr="39691220_20694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4"/>
          <p:cNvSpPr/>
          <p:nvPr/>
        </p:nvSpPr>
        <p:spPr>
          <a:xfrm>
            <a:off x="0" y="454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В селе было 6 мукомольных мельниц. Находилось пять бакалейных лавок, одна винная. На 1889 год насчитывалось мужчин-1271, женщин-1660. Профессий в селе было много: извозчики, батраки, поденщики, овчинники, жницы, пастухи, плотники, пильщики, караульщики, портные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5" name="Содержимое 3" descr="767858768.bmp"/>
          <p:cNvPicPr/>
          <p:nvPr/>
        </p:nvPicPr>
        <p:blipFill>
          <a:blip r:embed="rId2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4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стижная профессия была извозчик. Из всего района в наше село приезжали нанимать извозчиков, которые перевозили зерно из Вольска в Саратов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 rot="21256200">
            <a:off x="610920" y="1988640"/>
            <a:ext cx="7705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хней Чернавке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0 лет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22:58Z</dcterms:created>
  <dc:creator>-демянчука-</dc:creator>
  <dc:description/>
  <dc:language>en-US</dc:language>
  <cp:lastModifiedBy>Андрей</cp:lastModifiedBy>
  <dcterms:modified xsi:type="dcterms:W3CDTF">2012-11-28T15:53:45Z</dcterms:modified>
  <cp:revision>42</cp:revision>
  <dc:subject/>
  <dc:title>Слайд 1</dc:title>
</cp:coreProperties>
</file>