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F09-682C-4EC7-90AC-1B1A9C31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AB5-AAFE-4144-A609-DF5B9F4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11F-EB74-4BB3-A4AB-B7F87E90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162-5537-4648-A080-08ABEA68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529-A108-4CE3-AE89-95E891FD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209-F6DC-4E58-A930-D5046F8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15E-2340-4EC7-AF33-0F7DDAD6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AAF-32FB-49F5-A64B-0154AD8B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02D-10EA-4F72-9A09-096DFE0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EF6-8997-46D6-9544-A7E01FE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869-8B4A-4068-9676-924A9F83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5C5-1347-491A-A7C4-FA3A46E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7536-C5CD-473D-B38C-6B87953EA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6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Игра «Молча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ченик показывает картинки с изображением словарных 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чащиеся записывают эти слова  себе в тетр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бъяснение правописания словарных слов учащими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 груп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теро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п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озец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50:49Z</dcterms:created>
  <dc:creator>Дмитрий</dc:creator>
  <dc:description/>
  <dc:language>en-US</dc:language>
  <cp:lastModifiedBy>Дмитрий</cp:lastModifiedBy>
  <dcterms:modified xsi:type="dcterms:W3CDTF">2012-11-18T17:05:49Z</dcterms:modified>
  <cp:revision>2</cp:revision>
  <dc:subject/>
  <dc:title>Игра «Молчанка»</dc:title>
</cp:coreProperties>
</file>