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4CC-A70F-49E5-8305-3B591877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B20-BF4C-445C-9288-7D973325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DE2-3F73-4483-BBBE-4D2F1851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57B-3B4B-4C52-97BE-E1A27A01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78F-5746-4A06-86F9-9DAF53BA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82D-6001-493C-A0AA-DCC4686F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3BB-0F87-469F-94A3-D527B279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5B8-543B-4439-8518-E981FF4F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A08-438D-4E11-8CF4-6B19506D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8E1-6DD1-4E96-86C7-EA12C324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709-98B5-4BAC-BB18-FB49100D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925-CBAB-4451-A5CA-55AD778F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0AC5-EBB3-47D8-8705-CA57BDBC2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6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Игра «Молча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ченик показывает картинки с изображением словарных 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чащиеся записывают эти слова  себе в тетр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бъяснение правописания словарных слов учащими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 групп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терок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п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озец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6:50:49Z</dcterms:created>
  <dc:creator>Дмитрий</dc:creator>
  <dc:description/>
  <dc:language>en-US</dc:language>
  <cp:lastModifiedBy>Дмитрий</cp:lastModifiedBy>
  <dcterms:modified xsi:type="dcterms:W3CDTF">2012-11-18T17:05:49Z</dcterms:modified>
  <cp:revision>2</cp:revision>
  <dc:subject/>
  <dc:title>Игра «Молчанка»</dc:title>
</cp:coreProperties>
</file>