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836-BFB4-4357-9C5F-7CF15989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689-49E7-4BD0-ABD9-41364414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3D9-4240-4539-8655-F6073975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0CC-5F1B-463E-BE6D-53988031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1DA6-3AAF-44D1-AB7E-25314763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430E-BDB3-42ED-BAFB-41B64D02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C5E3-22B4-4983-8D29-7096AB85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CFC5-8128-4AA4-8ED3-6D14F3F8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5894-C581-466E-BC37-DC5BA37F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CDF9-AD2C-436A-BCF6-E64737CF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E5D9-39E4-4DFF-93C3-B65F9D0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930-FE50-4CD5-B863-731F6476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D1B4-9CDA-4F35-A871-4C85287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6683-4B42-429A-8DB1-A91C6912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DD8D-54C4-4DCB-B6CB-1682F830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6FB5-298D-4348-BB74-C8964AB7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BCE2-00F7-4D78-85E8-C5E936EE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593-2806-4513-8B01-8B39EC1F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851-D308-4F69-B800-8D1716E3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767-9B0B-46BE-89AE-CB28911B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DDE-6278-42C6-8F36-63BEC9FD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CAF-F501-408A-85A8-C7C65AD4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6CF-273C-4F40-BB03-9BFD767C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5E5-B6BA-4158-AE02-A05591E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E6EB-4536-43F7-8CAE-540F716B7F4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Заголовок 21"/>
          <p:cNvSpPr/>
          <p:nvPr/>
        </p:nvSpPr>
        <p:spPr>
          <a:xfrm>
            <a:off x="4572000" y="341280"/>
            <a:ext cx="4197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1"/>
          <p:cNvSpPr/>
          <p:nvPr/>
        </p:nvSpPr>
        <p:spPr>
          <a:xfrm>
            <a:off x="4572000" y="341280"/>
            <a:ext cx="4197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379A-0306-441E-9FE8-8B7193D3D92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Garamond"/>
              </a:rPr>
              <a:t>Тест</a:t>
            </a:r>
            <a:br>
              <a:rPr sz="5000"/>
            </a:br>
            <a:r>
              <a:rPr b="1" lang="ru-RU" sz="5000" spc="-1" strike="noStrike">
                <a:solidFill>
                  <a:srgbClr val="cc0000"/>
                </a:solidFill>
                <a:latin typeface="Garamond"/>
              </a:rPr>
              <a:t>по теме:</a:t>
            </a:r>
            <a:endParaRPr b="1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лова. 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0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дано верное определение «окончани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9"/>
          <p:cNvSpPr/>
          <p:nvPr/>
        </p:nvSpPr>
        <p:spPr>
          <a:xfrm>
            <a:off x="1560600" y="32655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т после корня и служит для образования нов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3"/>
          <p:cNvSpPr/>
          <p:nvPr/>
        </p:nvSpPr>
        <p:spPr>
          <a:xfrm>
            <a:off x="1560600" y="39704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ая часть однокоренных с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2"/>
          <p:cNvSpPr/>
          <p:nvPr/>
        </p:nvSpPr>
        <p:spPr>
          <a:xfrm>
            <a:off x="1560600" y="2563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емая часть слова, служит для связи слов в предложен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1571760" y="4714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т перед корнем и служит для связи слов в предло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1"/>
          <p:cNvSpPr/>
          <p:nvPr/>
        </p:nvSpPr>
        <p:spPr>
          <a:xfrm>
            <a:off x="1560600" y="25639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1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опрос №1.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0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ряду перечислены части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9"/>
          <p:cNvSpPr/>
          <p:nvPr/>
        </p:nvSpPr>
        <p:spPr>
          <a:xfrm>
            <a:off x="1560600" y="32655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ествительное, прилагательное, глагол, пред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3"/>
          <p:cNvSpPr/>
          <p:nvPr/>
        </p:nvSpPr>
        <p:spPr>
          <a:xfrm>
            <a:off x="1560600" y="39704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ставка, корень, суффикс, оконч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2"/>
          <p:cNvSpPr/>
          <p:nvPr/>
        </p:nvSpPr>
        <p:spPr>
          <a:xfrm>
            <a:off x="1560600" y="2563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ествительное, прилагательное,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571760" y="4714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лежащее, сказуемое, второстепенные чл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1"/>
          <p:cNvSpPr/>
          <p:nvPr/>
        </p:nvSpPr>
        <p:spPr>
          <a:xfrm>
            <a:off x="1560600" y="25639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1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опрос №2.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0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аписаны однокоре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9"/>
          <p:cNvSpPr/>
          <p:nvPr/>
        </p:nvSpPr>
        <p:spPr>
          <a:xfrm>
            <a:off x="1560600" y="32655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ар, сварка, ва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3"/>
          <p:cNvSpPr/>
          <p:nvPr/>
        </p:nvSpPr>
        <p:spPr>
          <a:xfrm>
            <a:off x="1560600" y="39704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, у леса, к лесу, о ле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2"/>
          <p:cNvSpPr/>
          <p:nvPr/>
        </p:nvSpPr>
        <p:spPr>
          <a:xfrm>
            <a:off x="1560600" y="2563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, водолаз, 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1571760" y="4714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а, пригорок, пригорюн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1"/>
          <p:cNvSpPr/>
          <p:nvPr/>
        </p:nvSpPr>
        <p:spPr>
          <a:xfrm>
            <a:off x="1560600" y="25639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1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опрос №3.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0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аду слово соответствует схеме ∩^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9"/>
          <p:cNvSpPr/>
          <p:nvPr/>
        </p:nvSpPr>
        <p:spPr>
          <a:xfrm>
            <a:off x="1560600" y="32655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3"/>
          <p:cNvSpPr/>
          <p:nvPr/>
        </p:nvSpPr>
        <p:spPr>
          <a:xfrm>
            <a:off x="1560600" y="39704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2"/>
          <p:cNvSpPr/>
          <p:nvPr/>
        </p:nvSpPr>
        <p:spPr>
          <a:xfrm>
            <a:off x="1560600" y="2563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1571760" y="4714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0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1"/>
          <p:cNvSpPr/>
          <p:nvPr/>
        </p:nvSpPr>
        <p:spPr>
          <a:xfrm>
            <a:off x="1560600" y="25639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1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опрос №4.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0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все слова образованы с помощью суффик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9"/>
          <p:cNvSpPr/>
          <p:nvPr/>
        </p:nvSpPr>
        <p:spPr>
          <a:xfrm>
            <a:off x="1560600" y="32655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конник, отлёт, пов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3"/>
          <p:cNvSpPr/>
          <p:nvPr/>
        </p:nvSpPr>
        <p:spPr>
          <a:xfrm>
            <a:off x="1571760" y="400068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, дерево, кни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2"/>
          <p:cNvSpPr/>
          <p:nvPr/>
        </p:nvSpPr>
        <p:spPr>
          <a:xfrm>
            <a:off x="1643040" y="26431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, запуски, с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1571760" y="4714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ик, грядка, ваз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1"/>
          <p:cNvSpPr/>
          <p:nvPr/>
        </p:nvSpPr>
        <p:spPr>
          <a:xfrm>
            <a:off x="1560600" y="25639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1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опрос №5.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002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дана верная характеристика предложения: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ка, полей цвет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9"/>
          <p:cNvSpPr/>
          <p:nvPr/>
        </p:nvSpPr>
        <p:spPr>
          <a:xfrm>
            <a:off x="1560600" y="32655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удительное, восклицательн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3"/>
          <p:cNvSpPr/>
          <p:nvPr/>
        </p:nvSpPr>
        <p:spPr>
          <a:xfrm>
            <a:off x="1571760" y="400068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удительное, невосклиц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2"/>
          <p:cNvSpPr/>
          <p:nvPr/>
        </p:nvSpPr>
        <p:spPr>
          <a:xfrm>
            <a:off x="1560600" y="2563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вовательное, восклиц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1571760" y="47149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ствовательное, невосклиц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1"/>
          <p:cNvSpPr/>
          <p:nvPr/>
        </p:nvSpPr>
        <p:spPr>
          <a:xfrm>
            <a:off x="1560600" y="25639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1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опрос №6.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Результаты теста</a:t>
            </a:r>
            <a:endParaRPr b="1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000" y="1773360"/>
            <a:ext cx="58323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33480" indent="-720">
              <a:lnSpc>
                <a:spcPct val="70000"/>
              </a:lnSpc>
              <a:spcBef>
                <a:spcPts val="5000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834696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го вопро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" indent="-720">
              <a:lnSpc>
                <a:spcPct val="70000"/>
              </a:lnSpc>
              <a:spcBef>
                <a:spcPts val="45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834696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ьных отве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80" indent="-720">
              <a:lnSpc>
                <a:spcPct val="70000"/>
              </a:lnSpc>
              <a:spcBef>
                <a:spcPts val="45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834696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цент правильных отве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80" indent="-720">
              <a:lnSpc>
                <a:spcPct val="70000"/>
              </a:lnSpc>
              <a:spcBef>
                <a:spcPts val="4501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834696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9:38:13Z</dcterms:created>
  <dc:creator>KEM</dc:creator>
  <dc:description/>
  <dc:language>en-US</dc:language>
  <cp:lastModifiedBy>Пользователь</cp:lastModifiedBy>
  <dcterms:modified xsi:type="dcterms:W3CDTF">2012-11-28T12:23:29Z</dcterms:modified>
  <cp:revision>72</cp:revision>
  <dc:subject/>
  <dc:title>Слайд 1</dc:title>
</cp:coreProperties>
</file>