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7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9.jpeg" ContentType="image/jpeg"/>
  <Override PartName="/ppt/media/image6.wmf" ContentType="image/x-wmf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414-C361-41B6-BEF4-841C819338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D9F-1D93-496B-9891-DCF3B2AD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DE2-32F1-4B41-9150-C258FE5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FFE-E720-4409-B9C1-52D91BB4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1E3-54AF-4D13-9AF3-2F869CAD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1F4-4ABA-4052-94E5-7860E4D4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055-495B-4083-BCF1-9CF2E38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23-EBC4-4FE4-B54A-202B319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CAC-7623-42FF-A90C-81C5FF70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9D8-02DA-4AD8-B1C5-FB44B90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458-EE15-4C7B-8F71-E271D13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F60-2D88-4C0C-A4C2-A1136A7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CD-48F3-4577-A84A-8392FE8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BC3A-5FB6-4836-854C-49B7057D0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907920"/>
            <a:ext cx="7372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Ви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изобразитель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искусст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79680" y="4292640"/>
            <a:ext cx="6238800" cy="204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боту выполнила  учи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МКОУ «Бережковская осно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Байкова В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606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33520"/>
            <a:ext cx="6781680" cy="16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ф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000" y="2743200"/>
            <a:ext cx="84636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66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фика –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это изображение (рисунок), выполн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художником на бумаге или картоне с помощью карандаш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ера, угля, кисти, а также рисунок, воспроизведенный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мощью специальных приспособлений и маш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зволяющих печатать его в большом количестве экземпля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71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086600" y="4800600"/>
            <a:ext cx="175104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590920"/>
            <a:ext cx="6172200" cy="121896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971800" y="3048120"/>
            <a:ext cx="35812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аф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609480"/>
            <a:ext cx="2819160" cy="76212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рису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04920"/>
            <a:ext cx="2819160" cy="83808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бро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685800"/>
            <a:ext cx="2514600" cy="685800"/>
          </a:xfrm>
          <a:prstGeom prst="flowChartPredefined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зарис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962520"/>
            <a:ext cx="2819520" cy="914400"/>
          </a:xfrm>
          <a:prstGeom prst="flowChartPredefined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равю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5181480"/>
            <a:ext cx="2819160" cy="1371600"/>
          </a:xfrm>
          <a:prstGeom prst="flowChartPredefined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азе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журн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рик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962520"/>
            <a:ext cx="2819520" cy="838080"/>
          </a:xfrm>
          <a:prstGeom prst="flowChartPredefined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этик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676520"/>
            <a:ext cx="2819520" cy="761760"/>
          </a:xfrm>
          <a:prstGeom prst="flowChartPredefinedProcess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фиш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676520"/>
            <a:ext cx="2514600" cy="685800"/>
          </a:xfrm>
          <a:prstGeom prst="flowChartPredefinedProcess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лак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181480"/>
            <a:ext cx="2819160" cy="1371600"/>
          </a:xfrm>
          <a:prstGeom prst="flowChartPredefined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ниж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ллюст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952880"/>
            <a:ext cx="2514600" cy="1067040"/>
          </a:xfrm>
          <a:prstGeom prst="flowChartPredefined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шриф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для кн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>
            <a:lum contrast="6000"/>
          </a:blip>
          <a:srcRect l="54107" t="53887" r="1478" b="0"/>
          <a:stretch/>
        </p:blipFill>
        <p:spPr>
          <a:xfrm>
            <a:off x="5183280" y="0"/>
            <a:ext cx="3960720" cy="51148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525480" y="5884920"/>
            <a:ext cx="160884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Лиот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Шоколадни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Пас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7200" y="4876920"/>
            <a:ext cx="225792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.Ват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Голова молод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женщины в профи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анг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50350" t="0" r="0" b="0"/>
          <a:stretch/>
        </p:blipFill>
        <p:spPr>
          <a:xfrm>
            <a:off x="324000" y="380880"/>
            <a:ext cx="2720880" cy="3276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76720" y="685800"/>
            <a:ext cx="2971800" cy="48769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1428" t="0" r="56428" b="0"/>
          <a:stretch/>
        </p:blipFill>
        <p:spPr>
          <a:xfrm>
            <a:off x="6553080" y="380880"/>
            <a:ext cx="2286000" cy="31244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280320" y="5867280"/>
            <a:ext cx="3488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.Серов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Портрет Ф.И.Шаляп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3809880"/>
            <a:ext cx="22860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Отдых. Этю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Каранда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8880" y="3886200"/>
            <a:ext cx="2689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.Реп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ртрет И.С.Остроухо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Уг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1428" t="55168" r="52143" b="1518"/>
          <a:stretch/>
        </p:blipFill>
        <p:spPr>
          <a:xfrm>
            <a:off x="5486400" y="0"/>
            <a:ext cx="3657600" cy="52578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506" r="3571" b="54661"/>
          <a:stretch/>
        </p:blipFill>
        <p:spPr>
          <a:xfrm>
            <a:off x="0" y="685800"/>
            <a:ext cx="5257800" cy="42670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60800" y="5257800"/>
            <a:ext cx="328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. Шевченко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Киеве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ф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5410080"/>
            <a:ext cx="35812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арбут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люстрация к сказке В.А. Жуковского «Как мыши кота хоронил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ушь, пе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3352680"/>
            <a:ext cx="3886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танк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3352680"/>
            <a:ext cx="3886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онумент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5200" y="4941720"/>
            <a:ext cx="25974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ортр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жанровые сц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60440" y="4876920"/>
            <a:ext cx="379512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амятн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декоративная скульпту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 садах и пар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емориальные ансамб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4495680"/>
            <a:ext cx="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209680"/>
            <a:ext cx="990360" cy="838440"/>
          </a:xfrm>
          <a:custGeom>
            <a:avLst/>
            <a:gdLst>
              <a:gd name="textAreaLeft" fmla="*/ 132480 w 990360"/>
              <a:gd name="textAreaRight" fmla="*/ 857880 w 99036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2286000"/>
            <a:ext cx="761760" cy="838080"/>
          </a:xfrm>
          <a:custGeom>
            <a:avLst/>
            <a:gdLst>
              <a:gd name="textAreaLeft" fmla="*/ 101880 w 761760"/>
              <a:gd name="textAreaRight" fmla="*/ 659880 w 76176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04920"/>
            <a:ext cx="8534160" cy="228600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996633"/>
            </a:solidFill>
            <a:miter/>
          </a:ln>
          <a:effectLst>
            <a:outerShdw dist="153753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838080"/>
            <a:ext cx="670572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b2b2b2"/>
                  </a:outerShdw>
                </a:effectLst>
                <a:latin typeface="Arial"/>
              </a:rPr>
              <a:t>Скульптура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b2b2b2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rcRect l="45319" t="0" r="4346" b="2009"/>
          <a:stretch/>
        </p:blipFill>
        <p:spPr>
          <a:xfrm>
            <a:off x="457200" y="457200"/>
            <a:ext cx="4038480" cy="447516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2483" t="2009" r="50913" b="2009"/>
          <a:stretch/>
        </p:blipFill>
        <p:spPr>
          <a:xfrm>
            <a:off x="5029200" y="457200"/>
            <a:ext cx="3657600" cy="449568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764280" y="5181480"/>
            <a:ext cx="25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рьз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Женский портр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760" y="5146560"/>
            <a:ext cx="25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.Чиж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рестьянин в б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Брон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9360" y="5661000"/>
            <a:ext cx="3435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Р.Б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амятник А.С.Пушк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Бронза, гран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44548" t="506" r="2121" b="60735"/>
          <a:stretch/>
        </p:blipFill>
        <p:spPr>
          <a:xfrm>
            <a:off x="3635280" y="2349360"/>
            <a:ext cx="3024360" cy="3375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1414" t="43021" r="45255" b="506"/>
          <a:stretch/>
        </p:blipFill>
        <p:spPr>
          <a:xfrm>
            <a:off x="304920" y="304920"/>
            <a:ext cx="3043080" cy="4203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796000" y="260280"/>
            <a:ext cx="2592360" cy="34164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6732360" y="386064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С.Лебеде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Девочка с бабоч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Бронза, гран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360" y="573408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П.Трубецк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Девочка с собачкой. Друз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Г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4200" y="453384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Ф.Каменск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Молодой скульпто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Мрам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90720" y="533520"/>
            <a:ext cx="7391160" cy="15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Декоративно-прикладно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скусств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514600"/>
            <a:ext cx="8153280" cy="36576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коративно-прикладное искусств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это художествен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формленные предметы, которые человек использ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быту (посуда, мебель, ткани,орудия труда, оруж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дежда, ювелирные изделия, витраж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декоративно-прикладном искусстве ярко отраж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адиции народного искус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457200"/>
            <a:ext cx="731520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66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Виды изобразительного искус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981080"/>
            <a:ext cx="7162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572000"/>
            <a:ext cx="2666880" cy="1752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666880"/>
            <a:ext cx="2361960" cy="175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666880"/>
            <a:ext cx="2057400" cy="175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572000"/>
            <a:ext cx="2362320" cy="1752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0"/>
            <a:ext cx="2361960" cy="1752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Декоратив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риклад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228600" cy="2438640"/>
          </a:xfrm>
          <a:prstGeom prst="downArrow">
            <a:avLst>
              <a:gd name="adj1" fmla="val 50000"/>
              <a:gd name="adj2" fmla="val 2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9810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920" y="1981080"/>
            <a:ext cx="228600" cy="2514600"/>
          </a:xfrm>
          <a:prstGeom prst="downArrow">
            <a:avLst>
              <a:gd name="adj1" fmla="val 50000"/>
              <a:gd name="adj2" fmla="val 2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981080"/>
            <a:ext cx="228600" cy="2514600"/>
          </a:xfrm>
          <a:prstGeom prst="downArrow">
            <a:avLst>
              <a:gd name="adj1" fmla="val 50000"/>
              <a:gd name="adj2" fmla="val 2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9810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29528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rcRect l="59883" t="68505" r="1443" b="1427"/>
          <a:stretch/>
        </p:blipFill>
        <p:spPr>
          <a:xfrm>
            <a:off x="5764320" y="4235400"/>
            <a:ext cx="2617560" cy="1860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721" t="1427" r="46177" b="30681"/>
          <a:stretch/>
        </p:blipFill>
        <p:spPr>
          <a:xfrm>
            <a:off x="533520" y="304920"/>
            <a:ext cx="3392280" cy="4876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4"/>
          <a:srcRect l="58440" t="1427" r="1443" b="42811"/>
          <a:stretch/>
        </p:blipFill>
        <p:spPr>
          <a:xfrm>
            <a:off x="5638680" y="304920"/>
            <a:ext cx="2743200" cy="3200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517680" y="545148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Решетка Летне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 Санкт-Петербур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7520" y="36576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Витр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00960" y="62136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еб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59162" t="55149" r="721" b="6565"/>
          <a:stretch/>
        </p:blipFill>
        <p:spPr>
          <a:xfrm>
            <a:off x="6172200" y="304920"/>
            <a:ext cx="2595600" cy="40384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721" t="0" r="28863" b="74846"/>
          <a:stretch/>
        </p:blipFill>
        <p:spPr>
          <a:xfrm>
            <a:off x="685800" y="304920"/>
            <a:ext cx="3886200" cy="2055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0" t="27137" r="45455" b="49897"/>
          <a:stretch/>
        </p:blipFill>
        <p:spPr>
          <a:xfrm>
            <a:off x="609480" y="2743200"/>
            <a:ext cx="3886200" cy="2590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5"/>
          <a:srcRect l="0" t="56025" r="46177" b="26262"/>
          <a:stretch/>
        </p:blipFill>
        <p:spPr>
          <a:xfrm>
            <a:off x="2514600" y="5638680"/>
            <a:ext cx="1981080" cy="9032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rcRect l="0" t="79665" r="46177" b="6128"/>
          <a:stretch/>
        </p:blipFill>
        <p:spPr>
          <a:xfrm>
            <a:off x="5715000" y="4876920"/>
            <a:ext cx="3048120" cy="14475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633200" y="4190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Резь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 дерев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0440" y="4457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рял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0560" y="37720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81640" y="5829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2240" y="64911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Пос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95280" y="685800"/>
            <a:ext cx="571500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рхитекту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(зодческтво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2276640"/>
            <a:ext cx="762120" cy="9903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357720"/>
            <a:ext cx="7010640" cy="168480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Это здания и сооружения, ансамбли сооруж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площадей и проспектов, парки и стади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9320" y="533520"/>
            <a:ext cx="6400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иды архитектур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4419720"/>
            <a:ext cx="2743200" cy="1218960"/>
          </a:xfrm>
          <a:prstGeom prst="flowChartPredefined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Ландшаф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архите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2362320"/>
            <a:ext cx="3810240" cy="1295280"/>
          </a:xfrm>
          <a:prstGeom prst="flowChartPredefined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Градострои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3886200" cy="1371600"/>
          </a:xfrm>
          <a:prstGeom prst="flowChartPredefined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Объем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соору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43200" y="1676520"/>
            <a:ext cx="83808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600200"/>
            <a:ext cx="8380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676520"/>
            <a:ext cx="0" cy="25905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434040" cy="453852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79" name="" descr=""/>
          <p:cNvPicPr/>
          <p:nvPr/>
        </p:nvPicPr>
        <p:blipFill>
          <a:blip r:embed="rId3"/>
          <a:srcRect l="0" t="0" r="2070" b="55111"/>
          <a:stretch/>
        </p:blipFill>
        <p:spPr>
          <a:xfrm>
            <a:off x="5334120" y="304920"/>
            <a:ext cx="3382920" cy="227628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657600" y="3352680"/>
            <a:ext cx="2438280" cy="281952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81" name="" descr=""/>
          <p:cNvPicPr/>
          <p:nvPr/>
        </p:nvPicPr>
        <p:blipFill>
          <a:blip r:embed="rId5"/>
          <a:srcRect l="22770" t="47333" r="3105" b="1413"/>
          <a:stretch/>
        </p:blipFill>
        <p:spPr>
          <a:xfrm>
            <a:off x="6583320" y="3352680"/>
            <a:ext cx="2332080" cy="274968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82" name=""/>
          <p:cNvSpPr/>
          <p:nvPr/>
        </p:nvSpPr>
        <p:spPr>
          <a:xfrm>
            <a:off x="287280" y="499104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Главное здание Москов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государственного университ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7840" y="26668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Новый Арб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6040" y="61722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Церковь Покрова на Нер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66560" y="61340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Аллея фонт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3720" y="457200"/>
            <a:ext cx="5181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вопис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3320" y="2362320"/>
            <a:ext cx="8136000" cy="3934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Живопис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– один из наиболее ярких и распростран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идов изобразительного искусства, передающий п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омощи красок предметы и явления окружа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Живопис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– это художественные образы в цве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464600" y="0"/>
            <a:ext cx="16794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60680" cy="1920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781680" y="5029200"/>
            <a:ext cx="1855800" cy="137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914400" y="5181480"/>
            <a:ext cx="169848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666880"/>
            <a:ext cx="617220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8120" y="304812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вопис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85800"/>
            <a:ext cx="2819160" cy="137160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685800"/>
            <a:ext cx="2743200" cy="1371600"/>
          </a:xfrm>
          <a:prstGeom prst="flowChartPredefined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емп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952880"/>
            <a:ext cx="2286000" cy="1067040"/>
          </a:xfrm>
          <a:prstGeom prst="flowChartPredefined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Аквар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952880"/>
            <a:ext cx="2286000" cy="1067040"/>
          </a:xfrm>
          <a:prstGeom prst="flowChartPredefined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Гуа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4876920"/>
            <a:ext cx="2286000" cy="1066680"/>
          </a:xfrm>
          <a:prstGeom prst="flowChartPredefined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Фре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285640" y="2133360"/>
            <a:ext cx="685800" cy="6094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057040"/>
            <a:ext cx="990720" cy="6094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447920" y="3962520"/>
            <a:ext cx="1218960" cy="9144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4114800"/>
            <a:ext cx="0" cy="8380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038480"/>
            <a:ext cx="914400" cy="8384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8380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асля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80" y="304920"/>
            <a:ext cx="91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Масляная живопис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снована на растертых на расти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маслах красках, которые после высыхания передают цв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 не смываются, крепко присыхая к холсту, дереву или карто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5454360" cy="4805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21920" y="4648320"/>
            <a:ext cx="24818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. Ю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скрытое ок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ас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80880"/>
            <a:ext cx="83059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емпер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– живопись краской, растертой на яич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желтке или на других клеящих веществ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емпера разводится водой и после высыхания не смы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410080" cy="4013280"/>
          </a:xfrm>
          <a:prstGeom prst="rect">
            <a:avLst/>
          </a:prstGeom>
          <a:ln w="57240">
            <a:solidFill>
              <a:srgbClr val="996633"/>
            </a:solidFill>
            <a:miter/>
          </a:ln>
          <a:effectLst>
            <a:outerShdw dist="107932" dir="8100000" blurRad="0" rotWithShape="0">
              <a:srgbClr val="ffffcc"/>
            </a:outerShdw>
          </a:effectLst>
        </p:spPr>
      </p:pic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840" y="270000"/>
            <a:ext cx="78861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Акварел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– это живопись водяными краска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растертыми на легко растворяемых водой прозрач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леях. Акварель легко смывается во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12000"/>
          </a:blip>
          <a:srcRect l="0" t="3087" r="1544" b="58606"/>
          <a:stretch/>
        </p:blipFill>
        <p:spPr>
          <a:xfrm>
            <a:off x="755640" y="1628640"/>
            <a:ext cx="7488360" cy="4824720"/>
          </a:xfrm>
          <a:prstGeom prst="rect">
            <a:avLst/>
          </a:prstGeom>
          <a:ln w="9360">
            <a:solidFill>
              <a:srgbClr val="9966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"/>
          <p:cNvSpPr/>
          <p:nvPr/>
        </p:nvSpPr>
        <p:spPr>
          <a:xfrm>
            <a:off x="45360" y="5956200"/>
            <a:ext cx="1927080" cy="824040"/>
          </a:xfrm>
          <a:prstGeom prst="rect">
            <a:avLst/>
          </a:prstGeom>
          <a:solidFill>
            <a:srgbClr val="ffffcc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.Сур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Минусинская степ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Аквар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1868" t="45311" r="28986" b="4158"/>
          <a:stretch/>
        </p:blipFill>
        <p:spPr>
          <a:xfrm>
            <a:off x="2484360" y="1700280"/>
            <a:ext cx="6048360" cy="4824360"/>
          </a:xfrm>
          <a:prstGeom prst="rect">
            <a:avLst/>
          </a:prstGeom>
          <a:ln w="57240">
            <a:solidFill>
              <a:srgbClr val="9966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Гуашь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– живопись водяными непрозрачными краска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меющими матовую поверхность. В состав кажд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уашевой краски входят бели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040" y="5334120"/>
            <a:ext cx="17442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А. Гераси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рем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утафья баш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Гуаш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04920"/>
            <a:ext cx="2971800" cy="2654280"/>
          </a:xfrm>
          <a:prstGeom prst="rect">
            <a:avLst/>
          </a:prstGeom>
          <a:solidFill>
            <a:srgbClr val="ffffcc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Фреск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– живопись водяными краска-ми на сырой шту-катурке, применя-ется для росписи потолков и стен з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04920" y="4645080"/>
            <a:ext cx="2895480" cy="14655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.Васнецов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Богоматерь с Младенц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Роспись Владимир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обора в Кие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Фре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00:16Z</dcterms:created>
  <dc:creator>user</dc:creator>
  <dc:description/>
  <dc:language>en-US</dc:language>
  <cp:lastModifiedBy>WIN7XP</cp:lastModifiedBy>
  <dcterms:modified xsi:type="dcterms:W3CDTF">2012-11-28T15:34:38Z</dcterms:modified>
  <cp:revision>12</cp:revision>
  <dc:subject/>
  <dc:title>Презентация PowerPoint</dc:title>
</cp:coreProperties>
</file>