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C4A-3E02-4BC7-84C0-CDEEC363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5FF-45C9-441B-B7DC-BD3FBA17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E45-52D5-445E-A1C8-78E0BD75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634-6B1D-4376-9119-8EFE8116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E4D-0A8C-4447-9F37-7D47D125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D02A-32BC-4F1A-8FC3-305E8A3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66A7-B606-4089-BC54-FFBFF7C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B1F-D841-4684-B566-2E99DB56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510-E299-407E-909C-F96EAB7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25A3-A668-4903-A13E-C5D49A7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0B3-4322-43CC-9AE7-894E47E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52C-8D33-4FB6-9273-24181DC9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26D-E954-4C29-9E71-F8E3076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3DE-76FF-4EBA-8F41-5B664507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1993-323A-497E-BC57-808D9D8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D79-0AE3-48C6-8DBE-F1838F0A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6985-ECFA-4A91-97B6-755585DB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98B-38AC-4960-98B7-384783F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284-277D-4155-8504-0B3C164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1C7-592F-48A2-9D04-F7C1388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347-743E-4EBA-A211-C4800ABE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FB4-4E65-4C93-98F5-AFCC153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199-73A8-4827-B068-E1F07808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841-4B3C-492E-90E2-480890B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EB5-B925-4DFA-B8A1-9B54E66B5CC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65E0-36DE-429C-B97B-9A65AB37CA1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7.jpeg"/><Relationship Id="rId4" Type="http://schemas.openxmlformats.org/officeDocument/2006/relationships/slide" Target="slide18.xml"/><Relationship Id="rId5" Type="http://schemas.openxmlformats.org/officeDocument/2006/relationships/image" Target="../media/image8.jpeg"/><Relationship Id="rId6" Type="http://schemas.openxmlformats.org/officeDocument/2006/relationships/slide" Target="slide7.xml"/><Relationship Id="rId7" Type="http://schemas.openxmlformats.org/officeDocument/2006/relationships/image" Target="../media/image9.jpeg"/><Relationship Id="rId8" Type="http://schemas.openxmlformats.org/officeDocument/2006/relationships/slide" Target="slide2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04920" y="380880"/>
            <a:ext cx="6248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дающиеся худож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ца XIX ве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rcRect l="1741" t="1189" r="1741" b="2378"/>
          <a:stretch/>
        </p:blipFill>
        <p:spPr>
          <a:xfrm>
            <a:off x="3276720" y="2438280"/>
            <a:ext cx="1984320" cy="29005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7" name="" descr="">
            <a:hlinkClick r:id="rId4" action="ppaction://hlinksldjump"/>
          </p:cNvPr>
          <p:cNvPicPr/>
          <p:nvPr/>
        </p:nvPicPr>
        <p:blipFill>
          <a:blip r:embed="rId5"/>
          <a:srcRect l="1741" t="1979" r="5223" b="3957"/>
          <a:stretch/>
        </p:blipFill>
        <p:spPr>
          <a:xfrm>
            <a:off x="5867280" y="3657600"/>
            <a:ext cx="1913040" cy="16984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0080" y="2187720"/>
            <a:ext cx="1816200" cy="25588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762840" y="487692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.Суриков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Автопортрет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480" y="54100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Крамской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ртрет И.И.Шишкин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0280" y="54864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.Серов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ртрет Исаака Ильича Левитан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2" name="" descr="">
            <a:hlinkClick r:id="rId8" action="ppaction://hlinksldjump"/>
          </p:cNvPr>
          <p:cNvPicPr/>
          <p:nvPr/>
        </p:nvPicPr>
        <p:blipFill>
          <a:blip r:embed="rId9"/>
          <a:srcRect l="0" t="0" r="1830" b="1518"/>
          <a:stretch/>
        </p:blipFill>
        <p:spPr>
          <a:xfrm>
            <a:off x="6934320" y="533520"/>
            <a:ext cx="1919160" cy="231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6858720" y="29718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Автопортрет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3000" y="6156360"/>
            <a:ext cx="703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втор работы: Байкова В.А.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МКОУ «Бережковская ООШ»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5943600" cy="6794640"/>
          </a:xfrm>
          <a:prstGeom prst="rect">
            <a:avLst/>
          </a:prstGeom>
          <a:ln w="9360">
            <a:solidFill>
              <a:srgbClr val="cc9900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6115320" y="914400"/>
            <a:ext cx="296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.Суриков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сещение царевно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женского монастыря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Фрагмен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061120" cy="447336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522360" y="55278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.Суриков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Взятие снежного городк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10800"/>
                </a:moveTo>
                <a:lnTo>
                  <a:pt x="19023" y="3794"/>
                </a:lnTo>
                <a:lnTo>
                  <a:pt x="19023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295280"/>
            <a:ext cx="3724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тво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вана Шишкина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1741" t="1189" r="1741" b="2378"/>
          <a:stretch/>
        </p:blipFill>
        <p:spPr>
          <a:xfrm>
            <a:off x="4648320" y="304920"/>
            <a:ext cx="4038480" cy="62481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ransition spd="med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22280" y="415800"/>
            <a:ext cx="8213760" cy="62370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8100000"/>
          </a:gra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Русский художник Иван Шишкин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автор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замечательных картин-пейзажей, посвященны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зображению родной природы и написанных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так выразительно и талантливо, что мы ощущае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ее величие, красоту и вместе с художником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любуемся просторами полей, лугов, исполинами деревьями 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щью сказочно-загадочных дремучих лесов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астерство этого живописца неизменно вызывает чувств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осхищения, но И.Шишкин еще и превосходно владел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андашом, а также другими графическими материалам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1741" t="1189" r="1741" b="2378"/>
          <a:stretch/>
        </p:blipFill>
        <p:spPr>
          <a:xfrm>
            <a:off x="7086600" y="457200"/>
            <a:ext cx="1527120" cy="2286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797b7"/>
            </a:outerShdw>
          </a:effectLst>
        </p:spPr>
      </p:pic>
    </p:spTree>
  </p:cSld>
  <p:transition spd="med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534160" cy="48765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176160" y="563868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Шишки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Рож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5638680"/>
          </a:xfrm>
          <a:prstGeom prst="rect">
            <a:avLst/>
          </a:prstGeom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</p:pic>
      <p:sp>
        <p:nvSpPr>
          <p:cNvPr id="180" name=""/>
          <p:cNvSpPr/>
          <p:nvPr/>
        </p:nvSpPr>
        <p:spPr>
          <a:xfrm>
            <a:off x="0" y="5791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Шишкин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голок заброшенного сада.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Этюд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5638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9900"/>
            </a:outerShdw>
          </a:effectLst>
        </p:spPr>
      </p:pic>
      <p:sp>
        <p:nvSpPr>
          <p:cNvPr id="182" name=""/>
          <p:cNvSpPr/>
          <p:nvPr/>
        </p:nvSpPr>
        <p:spPr>
          <a:xfrm>
            <a:off x="5334120" y="5867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Шишкин. Д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бы. Э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тюд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381880" cy="5410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715720" y="61722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Шишкин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Перед грозой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8458200" cy="55627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983240" y="6400800"/>
            <a:ext cx="61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Шишкин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пушка лиственного леса.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Этю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914400"/>
            <a:ext cx="3429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тво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аака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витана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1741" t="1979" r="5223" b="3957"/>
          <a:stretch/>
        </p:blipFill>
        <p:spPr>
          <a:xfrm>
            <a:off x="3962520" y="836640"/>
            <a:ext cx="5181480" cy="4897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ransition spd="med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685800"/>
            <a:ext cx="8397720" cy="52131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cc"/>
              </a:gs>
            </a:gsLst>
            <a:lin ang="8100000"/>
          </a:gra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Этот проникновенный художник с огромно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любовью и теплотой писал нашу скромную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сполненную тихой прелести русскую природу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мело используя цвет, рисунок, композицию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евитан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мастерски передает настроения, которые рождают в нас картины природы осенней, летней и весенней порой. Его кисть тщательно прорисовывает направления ветвей деревьев, листьев, убегающих вдаль речушек, деревенских дорог, а его палитра  дарит нам все разноцветье родной природы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1741" t="1979" r="5223" b="3957"/>
          <a:stretch/>
        </p:blipFill>
        <p:spPr>
          <a:xfrm>
            <a:off x="6705720" y="685800"/>
            <a:ext cx="1981080" cy="1981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797b7"/>
            </a:outerShdw>
          </a:effectLst>
        </p:spPr>
      </p:pic>
    </p:spTree>
  </p:cSld>
  <p:transition spd="med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rcRect l="0" t="0" r="1830" b="1518"/>
          <a:stretch/>
        </p:blipFill>
        <p:spPr>
          <a:xfrm>
            <a:off x="4938840" y="762120"/>
            <a:ext cx="4205160" cy="5486400"/>
          </a:xfrm>
          <a:prstGeom prst="rect">
            <a:avLst/>
          </a:prstGeom>
          <a:ln w="76320">
            <a:solidFill>
              <a:srgbClr val="cc9900"/>
            </a:solidFill>
            <a:miter/>
          </a:ln>
          <a:effectLst>
            <a:outerShdw dist="107932" dir="18900000" blurRad="0" rotWithShape="0">
              <a:srgbClr val="9797b7"/>
            </a:outerShdw>
          </a:effectLst>
        </p:spPr>
      </p:pic>
      <p:sp>
        <p:nvSpPr>
          <p:cNvPr id="146" name=""/>
          <p:cNvSpPr txBox="1"/>
          <p:nvPr/>
        </p:nvSpPr>
        <p:spPr>
          <a:xfrm>
            <a:off x="457200" y="1676520"/>
            <a:ext cx="3809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тво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ьи Репина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3000" cy="6858000"/>
          </a:xfrm>
          <a:prstGeom prst="rect">
            <a:avLst/>
          </a:prstGeom>
          <a:ln w="0">
            <a:noFill/>
          </a:ln>
          <a:effectLst>
            <a:outerShdw dist="152800" dir="283800" blurRad="0" rotWithShape="0">
              <a:srgbClr val="996633"/>
            </a:outerShdw>
          </a:effectLst>
        </p:spPr>
      </p:pic>
      <p:sp>
        <p:nvSpPr>
          <p:cNvPr id="193" name=""/>
          <p:cNvSpPr/>
          <p:nvPr/>
        </p:nvSpPr>
        <p:spPr>
          <a:xfrm>
            <a:off x="6995880" y="4689360"/>
            <a:ext cx="21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Левитан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Луг на опушк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лес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rcRect l="29324" t="0" r="1107" b="64937"/>
          <a:stretch/>
        </p:blipFill>
        <p:spPr>
          <a:xfrm>
            <a:off x="609480" y="762120"/>
            <a:ext cx="7772400" cy="5057640"/>
          </a:xfrm>
          <a:prstGeom prst="rect">
            <a:avLst/>
          </a:prstGeom>
          <a:ln w="76320">
            <a:solidFill>
              <a:srgbClr val="996633"/>
            </a:solidFill>
            <a:miter/>
          </a:ln>
          <a:effectLst>
            <a:outerShdw dist="71785" dir="2700000" blurRad="0" rotWithShape="0">
              <a:srgbClr val="9797b7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4726080" y="579132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Левита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Золотая осен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1107" t="39733" r="0" b="0"/>
          <a:stretch/>
        </p:blipFill>
        <p:spPr>
          <a:xfrm>
            <a:off x="533520" y="685800"/>
            <a:ext cx="8229600" cy="5430960"/>
          </a:xfrm>
          <a:prstGeom prst="rect">
            <a:avLst/>
          </a:prstGeom>
          <a:ln w="76320">
            <a:solidFill>
              <a:srgbClr val="9797b7"/>
            </a:solidFill>
            <a:miter/>
          </a:ln>
          <a:effectLst>
            <a:outerShdw dist="71785" dir="2700000" blurRad="0" rotWithShape="0">
              <a:srgbClr val="9797b7"/>
            </a:outerShdw>
          </a:effectLst>
        </p:spPr>
      </p:pic>
      <p:sp>
        <p:nvSpPr>
          <p:cNvPr id="197" name=""/>
          <p:cNvSpPr/>
          <p:nvPr/>
        </p:nvSpPr>
        <p:spPr>
          <a:xfrm>
            <a:off x="6174000" y="64008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Левитан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Мар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8001000" cy="5181480"/>
          </a:xfrm>
          <a:prstGeom prst="rect">
            <a:avLst/>
          </a:prstGeom>
          <a:ln w="76320">
            <a:solidFill>
              <a:srgbClr val="996633"/>
            </a:solidFill>
            <a:miter/>
          </a:ln>
          <a:effectLst>
            <a:outerShdw dist="71785" dir="2700000" blurRad="0" rotWithShape="0">
              <a:srgbClr val="9797b7"/>
            </a:outerShdw>
          </a:effectLst>
        </p:spPr>
      </p:pic>
      <p:sp>
        <p:nvSpPr>
          <p:cNvPr id="199" name=""/>
          <p:cNvSpPr/>
          <p:nvPr/>
        </p:nvSpPr>
        <p:spPr>
          <a:xfrm>
            <a:off x="3780720" y="6237360"/>
            <a:ext cx="38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Левита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Березовая рощ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10965"/>
                </a:moveTo>
                <a:lnTo>
                  <a:pt x="17806" y="3959"/>
                </a:lnTo>
                <a:lnTo>
                  <a:pt x="17806" y="17972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88880" y="838080"/>
            <a:ext cx="8170920" cy="52131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81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дин из самых прославленных русски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художников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лья Репин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известен как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живописец и прекрасный рисовальщик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еобычайная четкость рисунка, яркость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 гармоничность красок, мастерств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омпозиции – таковы отличительные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собенности произведений И.Репина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Его шедевры украшают многие художественные музеи мира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0" t="0" r="1830" b="3037"/>
          <a:stretch/>
        </p:blipFill>
        <p:spPr>
          <a:xfrm>
            <a:off x="6019920" y="838080"/>
            <a:ext cx="2590560" cy="3451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797b7"/>
            </a:outerShdw>
          </a:effectLst>
        </p:spPr>
      </p:pic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6796080"/>
          </a:xfrm>
          <a:prstGeom prst="rect">
            <a:avLst/>
          </a:prstGeom>
          <a:ln w="0">
            <a:noFill/>
          </a:ln>
          <a:effectLst>
            <a:outerShdw dist="170334" dir="1597152" blurRad="0" rotWithShape="0">
              <a:srgbClr val="9797b7"/>
            </a:outerShdw>
          </a:effectLst>
        </p:spPr>
      </p:pic>
      <p:sp>
        <p:nvSpPr>
          <p:cNvPr id="150" name=""/>
          <p:cNvSpPr/>
          <p:nvPr/>
        </p:nvSpPr>
        <p:spPr>
          <a:xfrm>
            <a:off x="5260680" y="525780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ртрет Л.Н.Толстог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50000" t="0" r="2143" b="0"/>
          <a:stretch/>
        </p:blipFill>
        <p:spPr>
          <a:xfrm>
            <a:off x="6248520" y="762120"/>
            <a:ext cx="2514600" cy="31240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171480" y="3886200"/>
            <a:ext cx="26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ртрет И.С.Остроухова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Уголь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rcRect l="38542" t="1200" r="1264" b="16797"/>
          <a:stretch/>
        </p:blipFill>
        <p:spPr>
          <a:xfrm>
            <a:off x="0" y="0"/>
            <a:ext cx="3409920" cy="5029200"/>
          </a:xfrm>
          <a:prstGeom prst="rect">
            <a:avLst/>
          </a:prstGeom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</p:pic>
      <p:sp>
        <p:nvSpPr>
          <p:cNvPr id="154" name=""/>
          <p:cNvSpPr/>
          <p:nvPr/>
        </p:nvSpPr>
        <p:spPr>
          <a:xfrm>
            <a:off x="308160" y="502920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трекоза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ртрет дочери художник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6633"/>
            </a:outerShdw>
          </a:effectLst>
        </p:spPr>
      </p:pic>
      <p:sp>
        <p:nvSpPr>
          <p:cNvPr id="156" name=""/>
          <p:cNvSpPr/>
          <p:nvPr/>
        </p:nvSpPr>
        <p:spPr>
          <a:xfrm>
            <a:off x="4116960" y="762120"/>
            <a:ext cx="14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сенни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буке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1428" t="0" r="56428" b="0"/>
          <a:stretch/>
        </p:blipFill>
        <p:spPr>
          <a:xfrm>
            <a:off x="5486400" y="762120"/>
            <a:ext cx="3200400" cy="4800600"/>
          </a:xfrm>
          <a:prstGeom prst="rect">
            <a:avLst/>
          </a:prstGeom>
          <a:ln w="76320">
            <a:solidFill>
              <a:srgbClr val="000066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</p:pic>
      <p:sp>
        <p:nvSpPr>
          <p:cNvPr id="158" name=""/>
          <p:cNvSpPr/>
          <p:nvPr/>
        </p:nvSpPr>
        <p:spPr>
          <a:xfrm>
            <a:off x="5486400" y="5562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Отдых. Этюд.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Карандаш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rcRect l="0" t="43797" r="65717" b="1800"/>
          <a:stretch/>
        </p:blipFill>
        <p:spPr>
          <a:xfrm>
            <a:off x="457200" y="762120"/>
            <a:ext cx="3429000" cy="4876560"/>
          </a:xfrm>
          <a:prstGeom prst="rect">
            <a:avLst/>
          </a:prstGeom>
          <a:ln w="76320">
            <a:solidFill>
              <a:srgbClr val="000066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</p:pic>
      <p:sp>
        <p:nvSpPr>
          <p:cNvPr id="160" name=""/>
          <p:cNvSpPr/>
          <p:nvPr/>
        </p:nvSpPr>
        <p:spPr>
          <a:xfrm>
            <a:off x="534240" y="56386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Девочка Ад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10965"/>
                </a:moveTo>
                <a:lnTo>
                  <a:pt x="17806" y="3959"/>
                </a:lnTo>
                <a:lnTo>
                  <a:pt x="17806" y="17972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8600" y="1447920"/>
            <a:ext cx="3429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ество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силия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урикова</a:t>
            </a:r>
            <a:endParaRPr b="0" lang="en-US" sz="24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1785" t="3822" r="1785" b="382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38160">
            <a:solidFill>
              <a:srgbClr val="cc9900"/>
            </a:solidFill>
            <a:miter/>
          </a:ln>
          <a:effectLst>
            <a:outerShdw dist="107932" dir="13500000" blurRad="0" rotWithShape="0">
              <a:srgbClr val="9797b7"/>
            </a:outerShdw>
          </a:effectLst>
        </p:spPr>
      </p:pic>
    </p:spTree>
  </p:cSld>
  <p:transition spd="med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63520"/>
            <a:ext cx="8458200" cy="6237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lin ang="8100000"/>
          </a:gra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асилий Суриков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автор многих знамениты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тин на темы нашей российской истории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 прекрасных портретов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тины Сурикова отличаются общим холодным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голубовато-серебристо-синим цветовым тоном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 яркими переливами золота на различны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крашениях, старинной одежде, предметах быта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Гордость русского искусства русской культуры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тины В.Сурикова хранятся в Государственно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Третьяковской галерее и в Государственном русском музее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1785" t="3822" r="1785" b="3822"/>
          <a:stretch/>
        </p:blipFill>
        <p:spPr>
          <a:xfrm>
            <a:off x="7010280" y="304920"/>
            <a:ext cx="1752840" cy="23619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797b7"/>
            </a:outerShdw>
          </a:effectLst>
        </p:spPr>
      </p:pic>
    </p:spTree>
  </p:cSld>
  <p:transition spd="med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4038840" cy="6858000"/>
          </a:xfrm>
          <a:prstGeom prst="rect">
            <a:avLst/>
          </a:prstGeom>
          <a:ln w="9360">
            <a:solidFill>
              <a:srgbClr val="cc9900"/>
            </a:solidFill>
            <a:miter/>
          </a:ln>
          <a:effectLst>
            <a:outerShdw dist="148236" dir="19740743" blurRad="0" rotWithShape="0">
              <a:srgbClr val="996633"/>
            </a:outerShdw>
          </a:effectLst>
        </p:spPr>
      </p:pic>
      <p:sp>
        <p:nvSpPr>
          <p:cNvPr id="167" name=""/>
          <p:cNvSpPr/>
          <p:nvPr/>
        </p:nvSpPr>
        <p:spPr>
          <a:xfrm>
            <a:off x="5642280" y="914400"/>
            <a:ext cx="218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.Суриков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ртре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.В.Суриково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 детств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29:27Z</dcterms:created>
  <dc:creator>user</dc:creator>
  <dc:description/>
  <dc:language>en-US</dc:language>
  <cp:lastModifiedBy>WIN7XP</cp:lastModifiedBy>
  <dcterms:modified xsi:type="dcterms:W3CDTF">2012-11-28T14:42:40Z</dcterms:modified>
  <cp:revision>8</cp:revision>
  <dc:subject/>
  <dc:title>Презентация PowerPoint</dc:title>
</cp:coreProperties>
</file>