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1CD-EEAB-4940-B509-061007F5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9FE-22DB-43D5-AB6F-CA98F97D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770-E1E6-4A90-BD2F-A34D4636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B81-8FEE-40FD-B6FF-30656249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004D-DA35-4678-8CDF-1A895E5D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2AAD-E9B1-44F3-AC36-A35C4AFD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B0BF-1DE5-4382-B456-454A839A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C0F0-C83C-4A96-B711-852CB221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BBB4-EDEE-41B3-B05B-9C405C83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8160-AC9C-4FDE-B307-ECF2F3DF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B161-F92A-484B-B0DC-3004C90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C3B-849A-4806-9BE0-4C159A97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1AD6-5DE6-435E-BEBF-C330034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0A67-EE0E-4C75-94A8-6F16C31A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4A14-A617-4DB2-9B68-9B7D266D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FDB-7680-4575-B709-1891C328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DB8E-B019-423B-93B9-2577C86F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BDC-E3BE-41EE-B09F-7C8F8F0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9FC-A00E-4CD0-94B7-1AE191F7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7D8-9210-4B0E-B494-1FAA11A9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702-1774-47E1-AE29-922C2644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D48-25B1-4BB5-8256-5457135D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B5A-036D-47AB-BEA0-B45AC488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66F-995D-4F62-9AD5-67DD1B0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15F4-6872-45BA-97A6-6413F3A8C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98FE-D8C7-4CBA-9BEC-4E4A27B14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boutmari.com/wiki/&#1071;&#1085;&#1099;&#1096;_&#1071;&#1083;&#1082;&#1072;&#1081;&#1085;" TargetMode="External"/><Relationship Id="rId2" Type="http://schemas.openxmlformats.org/officeDocument/2006/relationships/hyperlink" Target="http://aboutmari.com/wiki/&#1071;&#1085;&#1099;&#1096;_&#1071;&#1083;&#1082;&#1072;&#1081;&#1085;" TargetMode="External"/><Relationship Id="rId3" Type="http://schemas.openxmlformats.org/officeDocument/2006/relationships/hyperlink" Target="http://aboutmari.com/wiki/&#1071;&#1085;&#1099;&#1096;_&#1071;&#1083;&#1082;&#1072;&#1081;&#1085;" TargetMode="External"/><Relationship Id="rId4" Type="http://schemas.openxmlformats.org/officeDocument/2006/relationships/hyperlink" Target="http://aboutmari.com/wiki/&#1071;&#1085;&#1099;&#1096;_&#1071;&#1083;&#1082;&#1072;&#1081;&#1085;" TargetMode="External"/><Relationship Id="rId5" Type="http://schemas.openxmlformats.org/officeDocument/2006/relationships/hyperlink" Target="http://aboutmari.com/wiki/&#1071;&#1085;&#1099;&#1096;_&#1071;&#1083;&#1082;&#1072;&#1081;&#1085;" TargetMode="External"/><Relationship Id="rId6" Type="http://schemas.openxmlformats.org/officeDocument/2006/relationships/hyperlink" Target="http://aboutmari.com/wiki/&#1071;&#1085;&#1099;&#1096;_&#1071;&#1083;&#1082;&#1072;&#1081;&#1085;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5640" y="1828800"/>
            <a:ext cx="44625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ныш Ялкайн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427280" y="3886200"/>
            <a:ext cx="3344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06-193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039840" cy="410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6680" y="5734080"/>
            <a:ext cx="428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р презентации – Байгузина Т. В.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лиала ООО МБОУ СОШ с. Бахтыбаево, с. Новокульчубае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ирского района Р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итературная премия им. Яныша Ялкай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реждена в 1998 году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редители — башкирское отделение Всероссийского образовательного фонда «Магрифат», общественное объединение «Марий ушем» в республике Башкортостан, администрации Мишкинского и Калтасинского районов республи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ль премии — развитие национальной марийской литературы, марийской культуры, укрепления дружбы между народами, проживающими на территории Башкирской республ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мия вручается писателям, публицистам, драматургам за произведения, внесшие вклад в развитие национальных традиций, высокое художественное мастерств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ый год присуждается две премии. Кроме творческих работников, премия может быть вручена также государственным и общественным деятелям, педагогам, деятелям нау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учение премии происходит в деревне Чораево, где родил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. Ялкайн в день рождения пис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56000" y="277560"/>
            <a:ext cx="43308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 разные годы Я.Ялкайн печатался под псевдонимами </a:t>
            </a: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Пÿрöвелын, Пÿрмар, Пÿрын, Вичын, Вичемарий, Аркан, Куэр, Ян, Яльян, Ялын, Я.Янович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8040" y="2062080"/>
            <a:ext cx="2957400" cy="3672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Стихи поэт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431964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Mый  адак тый дeнeт, caй тaнeм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ыш тöp oйыpa, шoнeн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Tыйым yжын тeтлa ялт oм керт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Maнынам   oйгыpeн мый туна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Mый адaк тый дeнeт, caй танем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Bÿчкалтет да шортат, воштылат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yпшaлaт, тyлет дeн йÿлaлтeт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ÿмырeм пyэнaм мый тылaт,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Mый тылaт, Myзa, Myзa, чeвepeм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Mый тылaт, y пoэзий—тaнeм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38 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872720"/>
            <a:ext cx="3672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й, Пoшкыpт эл, кeчaн элeм, yлaт , пeш ямл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Kиндaн, шöpтнян, нeфтян — чылa yлaн!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Южeт яндap, пaмaш вÿд rанe тaмл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aвoд йÿкeт шoктa чылa эллa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Tый, opдeнaн элeм, лÿмeт пeш дaнлe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Kopнeт кyмдa, мoтop, шÿмeт тyлa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öлтaлын  кÿшкö yэмдeт y ялым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yкeмдaлaт oлaн, кoлxoзын мaлжы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Oйлaлшe тÿpлö йылмe дeнe кaлык-влак пырл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ÿдaт, чoнат, таптат, кÿнчaт, тyнeмы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Beт нyнылaн пеш раш мo лийшaшaт эpл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ычaл кyчeн лeктaш эл вepчын ямдe yлы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Coвeт кeчeш тый пaтыp гae лийынa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ий-шöpтньö эл, тый шyынaт-ыc чoт кyгемы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yктам   чиктен  тылат, элемже, пöрыка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ypжyй тÿшкa oк кepт-ыc oжco ceмы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ый, Пoшкыpт эл, кeчaн элeм, yлaт пeш ямл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eм илышeт, нужналыкет шyкepтe йoмы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лат  виян, улат тый эрыкан, улан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Йывыpтeнa чылa шÿм дeн тыгaй эллa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134136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oшкыpт э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340000" y="83664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ихи поэ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74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Töргым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368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Töpгым вÿдым мокто, муро,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Maныт мылaмa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Kызыт oгым: Töpгым вoзы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й дeн лeвeдaл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Baшкe кeчe йÿштö лyмы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Йÿын пытap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Kынeлeш вÿд,вичкынчaлын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Kÿзгo1  гaй  чap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oлшo шöp гaй лeктын cep гыч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Mлaндым чывылт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öр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ЫM   OЛЫK,   Т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öр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ЫM   OЛЫ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Kyмылым нöлт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aп кeнeжыш тaйнымeк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yдo, тeнызл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Kынeлaлын, тoлкынaлтын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yын мoдылд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Oлыкышкo кoлxoзeм гы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eктыт шyдo ыштaш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Boт тyнaм мый y мypeмы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мдe пeш мypaш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Töpгым вÿдшö, Töprым oлы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ижыч шÿмeшe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 виян кoлxoзын кaлык —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Mыйын caй eшeм!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931 и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76280"/>
            <a:ext cx="388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OГEШ KУЛ OЙГ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Kyнaм шyмeт йyлaш кыpш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Oнeтым йocын тeмдaлaлы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Tyнaм oнчaл шинчaшке caйы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yмeт гыч вoчшо шeм чapшa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Tyнaм oйлaл мылaм oйгeтым,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Tы нeлым нyмaлaш мoлa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Oгeш кyл oйro pвeзe гoд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Oгeш кyл йoгo шoнгылa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сточник — Интерне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http://aboutmari.com/wiki/%D0%AF%D0%BD%D1%8B%D1%88_%D0%AF%D0%BB%D0%BA%D0%B0%D0%B9%D0%BD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иограф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ныш Ялкай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лкаев Яныш Ялкаевич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(25 октября 1906 - 17 сентября 1938) Родился в селе Чураево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Чора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ныне Мишкинского района Республики Башкортостан в крестьянской семье. После окончания начальной школы около двух лет служил помощником писаря в местной волостной земской управе. С 1919 года учился в Мишкинском двухклассном училище. Затем его направили в Николо-Березовский педтехникум, а в 1924 году перевели в Бирск. В 1929-1931 годах Я.Ялкаев учился на историко-филологическом факультете Московского государственного университета, после окончания которого некоторое время работал в Марийском областном краеведческом музее. Позже стал научным сотрудником Института антропологии и этнографии Академии наук СССР, членом редколлегии журнала «Советская этнография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651280" y="1125000"/>
            <a:ext cx="3035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Яныш Ялкайн с супругой Надеждой (Ялта, 1934 год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5040360" cy="33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67280" y="2492280"/>
            <a:ext cx="2819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дежда Ялкай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043520" cy="4530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Я.Ялкайн неоднократно встречался с А.М.Горьким, вел с ним переписку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295272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 из 18464"/>
          <p:cNvPicPr/>
          <p:nvPr/>
        </p:nvPicPr>
        <p:blipFill>
          <a:blip r:embed="rId2"/>
          <a:stretch/>
        </p:blipFill>
        <p:spPr>
          <a:xfrm>
            <a:off x="755640" y="2421000"/>
            <a:ext cx="2952720" cy="3809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43280" y="277560"/>
            <a:ext cx="404352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втобиографическая трилогия, состоящая из повестей «Андрий Толкын», «Ужар жап» («Юность»), «Ола» (Город»), сразу же стала вершиной марийской прозы. В этих повестях автор отобразил жизнь и судьбы простых людей в смутные времена периода империалистической и гражданской войн и последующих не менее трудных лет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6716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03600" y="1599840"/>
            <a:ext cx="4183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его родном селе Чураево в 1966 году ему открыт памятник. Бюст из мрамора изготовили мастера из Йошкар-Олы. Есть в селе и музей Яныша Ялкайн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752640" cy="5305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дак пырля. Пошкырт Эл. Яныш Ялкай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4048200" cy="3038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Основные произвед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3008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Йошкарлу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повесть//У вий. 1933. № 5. С. 8-18 ; № 6. С.21-29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ндрий Толкы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повесть. М., 1934. 136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Эле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почеламут-влак, поэма [Страна моя: стихи, поэма]. М., 1934.56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Кечан кече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 : ойырен налме произведений-влак [Солнечный день: избр. произведения]. М., 1935.156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повесть [Город]. М., 1936.216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жаржап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повесть [Юность]. Йошкар-Ола, 1936. 136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Эрге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поэма [Сын]. Йошкар-Ола, 1936. 48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ҥ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роман [Круг]. М., 1937. 368 с.; Йошкар-Ола, 1958.272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Кечан кече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ойырен налме произведений-влак [Солнечный день: избр. произведения]. Йошкар-Ола, 1959.188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жаржап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повесть [Юность]. Йошкар-Ола, 1960. 124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повесть [Город]. Йошкар-Ола, 1967. 172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челамут ден поэма-вла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[Стихи и поэмы]. Йошкар-Ола, 1972. 144 с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Чумырен лукмо ойп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: кок том дене лектеш [Собрание сочинений]. Йошкар-Ола. 1-ше том: почеламут, поэме, повесть, ойлымаш. 2005. 656 с.; 2-шо том: роман, шарнымаш, статья, серыш. 2006.464 с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точник — «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aboutmari.com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wiki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/%D0%AF%D0%BD%D1%8B%D1%88_%D0%AF%D0%BB%D0%BA%D0%B0%D0%B9%D0%BD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тегория: Персонал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6:32:32Z</dcterms:created>
  <dc:creator> </dc:creator>
  <dc:description/>
  <dc:language>en-US</dc:language>
  <cp:lastModifiedBy>Евгений</cp:lastModifiedBy>
  <dcterms:modified xsi:type="dcterms:W3CDTF">2012-11-27T15:15:00Z</dcterms:modified>
  <cp:revision>33</cp:revision>
  <dc:subject/>
  <dc:title>Яныш Ялкайн</dc:title>
</cp:coreProperties>
</file>