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32B-A1DC-48ED-8A91-DBE20F2C9A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421-23B8-421F-852E-384C1179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BD4-6D61-4EEA-B11F-683073E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5B5-D829-4D50-8DA3-BBCA6595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66D-2886-446C-83E1-627D7705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D04-B1B6-43F6-9933-AFF8DB70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1EE-9FD2-4ABF-B2F1-1D2207FB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E79-798E-4084-9F46-FEA0565D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6FA-DB49-46A8-BCB1-775662E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DDB-CB81-4C1F-B3EB-26301793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8B5-CEFF-4417-B416-2C2BD6D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67F-5AF3-4478-A31C-B954297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3AF-35FE-47E0-B92B-11C66891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B2B-7F2E-41EA-AEAE-D0581A67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620640"/>
            <a:ext cx="7854840" cy="24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4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вопись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 ее жанр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5013360"/>
            <a:ext cx="5445360" cy="1313640"/>
          </a:xfrm>
          <a:prstGeom prst="rect">
            <a:avLst/>
          </a:prstGeom>
          <a:solidFill>
            <a:srgbClr val="ffcccc"/>
          </a:solidFill>
          <a:ln w="57240">
            <a:solidFill>
              <a:srgbClr val="cc9900"/>
            </a:solidFill>
            <a:miter/>
          </a:ln>
          <a:effectLst>
            <a:outerShdw dist="929162" dir="234603" blurRad="0" rotWithShape="0">
              <a:srgbClr val="ff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Автор презентации: учитель начальных классов МКОУ «Бережковская основна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5486400"/>
          </a:xfrm>
          <a:prstGeom prst="rect">
            <a:avLst/>
          </a:prstGeom>
          <a:ln w="7632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74" name=""/>
          <p:cNvSpPr/>
          <p:nvPr/>
        </p:nvSpPr>
        <p:spPr>
          <a:xfrm>
            <a:off x="4112640" y="6019920"/>
            <a:ext cx="4403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53753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.Юон.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нец зимы. Пол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6680" y="762120"/>
            <a:ext cx="8058240" cy="5762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Натюрморт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– это картина, на которой изображ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бычные предметы повседневной жизни – домашня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утварь, плоды, дичь, дары моря и другие. Натюрмор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озданные художниками прошлых веков, рассказыв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м о быте тех времен. Среди них немало и таки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 которых художники стремились просто запечатл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кружающую их кра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844" r="42498" b="67121"/>
          <a:stretch/>
        </p:blipFill>
        <p:spPr>
          <a:xfrm>
            <a:off x="5867280" y="4724280"/>
            <a:ext cx="2819520" cy="1708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 spd="slow">
    <p:split dir="in" orient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36252" r="0" b="0"/>
          <a:stretch/>
        </p:blipFill>
        <p:spPr>
          <a:xfrm>
            <a:off x="830160" y="260280"/>
            <a:ext cx="7677360" cy="599112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8" name=""/>
          <p:cNvSpPr/>
          <p:nvPr/>
        </p:nvSpPr>
        <p:spPr>
          <a:xfrm>
            <a:off x="4116600" y="617220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Машков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Ананасы и бан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85880" y="304920"/>
            <a:ext cx="6199200" cy="6289560"/>
          </a:xfrm>
          <a:prstGeom prst="rect">
            <a:avLst/>
          </a:prstGeom>
          <a:ln w="57240">
            <a:solidFill>
              <a:srgbClr val="808080"/>
            </a:solidFill>
            <a:miter/>
          </a:ln>
          <a:effectLst>
            <a:outerShdw dist="234128" dir="19165643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216360" y="4994280"/>
            <a:ext cx="21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. Герасим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атюрмор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левые цв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6880" y="203040"/>
            <a:ext cx="773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Бытовой жан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– картины о различных событи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жизни людей, веселых и печаль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contrast="6000"/>
          </a:blip>
          <a:srcRect l="0" t="0" r="0" b="751"/>
          <a:stretch/>
        </p:blipFill>
        <p:spPr>
          <a:xfrm>
            <a:off x="533520" y="1828800"/>
            <a:ext cx="6413400" cy="4726080"/>
          </a:xfrm>
          <a:prstGeom prst="rect">
            <a:avLst/>
          </a:prstGeom>
          <a:ln w="5724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7091640" y="4343400"/>
            <a:ext cx="20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. Кустоди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Ярма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152" t="1502" r="0" b="2253"/>
          <a:stretch/>
        </p:blipFill>
        <p:spPr>
          <a:xfrm>
            <a:off x="609480" y="457200"/>
            <a:ext cx="7925040" cy="5721480"/>
          </a:xfrm>
          <a:prstGeom prst="rect">
            <a:avLst/>
          </a:prstGeom>
          <a:ln w="7632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4574880" y="64008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.Кустодие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Крестовый 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09480" y="762120"/>
            <a:ext cx="7925040" cy="4876560"/>
          </a:xfrm>
          <a:prstGeom prst="rect">
            <a:avLst/>
          </a:prstGeom>
          <a:ln w="7632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87" name=""/>
          <p:cNvSpPr/>
          <p:nvPr/>
        </p:nvSpPr>
        <p:spPr>
          <a:xfrm>
            <a:off x="5030280" y="586728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.Кустодиев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Масл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473800"/>
          </a:xfrm>
          <a:prstGeom prst="rect">
            <a:avLst/>
          </a:prstGeom>
          <a:ln w="7632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4498560" y="609588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.Кустодиев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Пасхальны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1066680"/>
            <a:ext cx="8458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Жанр - это несколько особенных признаков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исущих произведениям искусства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 которым мы отличаем одни из них от других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457200"/>
            <a:ext cx="662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Impact"/>
              </a:rPr>
              <a:t>Жанры живопис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514600"/>
            <a:ext cx="3276720" cy="12193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2438280"/>
            <a:ext cx="3276360" cy="12193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ейз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191120"/>
            <a:ext cx="3276720" cy="121896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тюрм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191120"/>
            <a:ext cx="3276720" cy="121896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ытовой жан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38280" y="1600200"/>
            <a:ext cx="45720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1600200"/>
            <a:ext cx="685800" cy="609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4960" y="1600200"/>
            <a:ext cx="990360" cy="24382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600200"/>
            <a:ext cx="761760" cy="24382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077320" cy="63115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99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Портрет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– это прежде всего человеческое лицо, изображенное художником так, как он его видит. Художник не просто передает внешнее сходство, но и свое понимание характера, духовного мира человека. Чтобы достичь этого, он тщательно, продуманно подбирает ф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760" t="2490" r="760" b="1660"/>
          <a:stretch/>
        </p:blipFill>
        <p:spPr>
          <a:xfrm>
            <a:off x="2895480" y="3505320"/>
            <a:ext cx="3063960" cy="3022560"/>
          </a:xfrm>
          <a:prstGeom prst="rect">
            <a:avLst/>
          </a:prstGeom>
          <a:ln w="38160">
            <a:solidFill>
              <a:srgbClr val="808080"/>
            </a:solidFill>
            <a:miter/>
          </a:ln>
          <a:effectLst>
            <a:outerShdw dist="165581" dir="12748845" blurRad="0" rotWithShape="0">
              <a:srgbClr val="b2b2b2"/>
            </a:outerShdw>
          </a:effectLst>
        </p:spPr>
      </p:pic>
      <p:sp>
        <p:nvSpPr>
          <p:cNvPr id="62" name=""/>
          <p:cNvSpPr/>
          <p:nvPr/>
        </p:nvSpPr>
        <p:spPr>
          <a:xfrm>
            <a:off x="6098040" y="502920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.С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ика Моро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5682960" cy="6105600"/>
          </a:xfrm>
          <a:prstGeom prst="rect">
            <a:avLst/>
          </a:prstGeom>
          <a:ln w="57240">
            <a:solidFill>
              <a:srgbClr val="cc9900"/>
            </a:solidFill>
            <a:miter/>
          </a:ln>
          <a:effectLst>
            <a:outerShdw dist="137587" dir="18221405" blurRad="0" rotWithShape="0">
              <a:srgbClr val="80808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762840" y="5105520"/>
            <a:ext cx="178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.С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Дев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 перс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010640" cy="4935240"/>
          </a:xfrm>
          <a:prstGeom prst="rect">
            <a:avLst/>
          </a:prstGeom>
          <a:ln w="572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4652280" y="586728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.Кустодиев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Автопортр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1560" y="5694480"/>
            <a:ext cx="7297920" cy="764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Пейзаж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– это изображение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7960" y="4952880"/>
            <a:ext cx="2413440" cy="8254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53753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Грабар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артовский сн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4120920" cy="52754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p:transition spd="slow">
    <p:split dir="in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873840" cy="4627440"/>
          </a:xfrm>
          <a:prstGeom prst="rect">
            <a:avLst/>
          </a:prstGeom>
          <a:ln w="7632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72" name=""/>
          <p:cNvSpPr/>
          <p:nvPr/>
        </p:nvSpPr>
        <p:spPr>
          <a:xfrm>
            <a:off x="4956120" y="5943600"/>
            <a:ext cx="36813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53753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Шишкин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Перед гроз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6:52:24Z</dcterms:created>
  <dc:creator>user</dc:creator>
  <dc:description/>
  <dc:language>en-US</dc:language>
  <cp:lastModifiedBy>WIN7XP</cp:lastModifiedBy>
  <dcterms:modified xsi:type="dcterms:W3CDTF">2012-11-28T16:07:08Z</dcterms:modified>
  <cp:revision>5</cp:revision>
  <dc:subject/>
  <dc:title>Презентация PowerPoint</dc:title>
</cp:coreProperties>
</file>