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F11-7BDA-4621-B1BF-D345F829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AE4-4F03-432B-9FFA-5513F6DC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FF5-68AA-49E4-8A71-236D7DF4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8DB-4C2C-4AAB-89C4-BFEC504A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3482-A0DF-4D6C-B489-751F1DD7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E6DC-E5E1-43DC-9E98-3A8B4850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0A66-1B34-43ED-91F0-33EA6810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1E5D-0255-4151-BCDF-FFCC8363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837-ECF6-4309-843F-335E084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76B1-64A6-46D0-8CCE-A65B3989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DAAB-0CA1-42E3-B7A4-DD51E95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4B4-787E-43DE-984E-9098F29E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12CE-27B7-478E-A4B7-7CA1A87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D421-89D0-44F2-BECA-CF778FF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4181-E9FA-4B85-A8B2-EFCD272B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69B8-066A-423D-A30A-161175D2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02B-6EE6-44DB-839B-019377AA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AB4-3F5E-424E-A3DA-931CF725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9B9-8397-4A17-9F1B-633933D8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059-68D7-487C-B8A0-71B6D34B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24D-5D5E-4D2C-B6D5-75D0D5B8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BDB-73F3-475C-9C68-F2D87EE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087-D04B-41F5-BD52-5D282AF8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422-EF35-419D-96E0-A3CC4599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0D0E-CC6D-477D-B70E-90AE4E86622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0EEF-4D37-4751-9D92-FF3370EC601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вёздный ча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9080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 спорт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03640" y="3143160"/>
            <a:ext cx="4105080" cy="24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 спорт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слушайте и определите о чём идёт речь в текстах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-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otba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- baseba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- basketba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- crick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- che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6- softba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ставить длинное слово из бук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ставьте буквы в правильном порядк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rccs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erac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ongx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eeer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ktracer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gsurf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oscaeb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icomtipe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etonturn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rinucto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6:54:41Z</dcterms:created>
  <dc:creator>User</dc:creator>
  <dc:description/>
  <dc:language>en-US</dc:language>
  <cp:lastModifiedBy>User</cp:lastModifiedBy>
  <dcterms:modified xsi:type="dcterms:W3CDTF">2008-02-24T17:25:29Z</dcterms:modified>
  <cp:revision>2</cp:revision>
  <dc:subject/>
  <dc:title>Звёздный ча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