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6F3-8F55-4887-9BDF-1E0CDFDE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4E0-CB6A-4D62-83A0-26E38593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3BB-5071-4592-B644-19643BAB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B31-DF64-4571-8D77-58B1E002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FA2-3684-491A-B6D9-88D22A80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56D-C59B-45E6-A474-20698261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3FD-D0F3-430D-AE83-40CCAA9C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A71-2DF5-4B05-95A9-4A31FFDE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79F-F1F5-4643-981B-D7F9CC55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3A8-37D1-4AB0-BBCF-61152579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160-23B9-4801-90BB-24E20094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50D-1A04-4FEB-9ADB-87B1FF3C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2E12-8E75-40A9-9C7E-1B2AFD567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асписное яйцо на подстав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62040" y="19080"/>
            <a:ext cx="60199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9600" y="19080"/>
            <a:ext cx="61848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2600"/>
            <a:ext cx="59054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6680" y="19080"/>
            <a:ext cx="59306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31880" y="19080"/>
            <a:ext cx="58802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31880" y="19080"/>
            <a:ext cx="58802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81120" y="12600"/>
            <a:ext cx="59817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62040" y="19080"/>
            <a:ext cx="60199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09T18:15:03Z</dcterms:modified>
  <cp:revision>7</cp:revision>
  <dc:subject/>
  <dc:title>Слайд 1</dc:title>
</cp:coreProperties>
</file>