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F9A-2213-45EE-95CE-84A69212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3925-CDC2-44CD-A112-FB536EC9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FA2-6E99-437E-A58B-55D7D488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7D86-3582-4431-9B6C-C972E13E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DD93-665C-438A-8F13-7392A8C9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E69C-8CBB-41A3-82A2-322FD64C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748-1DB8-45C8-975B-BD8EE749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A2F5-8DF3-44C6-BE2E-2F5A1BE3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7E17-5D82-4533-A2A5-9D3A5BDB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A0DF-81CF-43B2-AA56-675E1220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ECCC-A39B-40D7-883B-A78A3983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C24-61B1-4B13-91BC-544F35B6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52DA-F898-4D64-A266-D58774CA9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Расписное яйцо на подстав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62040" y="19080"/>
            <a:ext cx="60199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9600" y="19080"/>
            <a:ext cx="61848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12600"/>
            <a:ext cx="59054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06680" y="19080"/>
            <a:ext cx="59306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31880" y="19080"/>
            <a:ext cx="58802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31880" y="19080"/>
            <a:ext cx="58802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81120" y="12600"/>
            <a:ext cx="59817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62040" y="19080"/>
            <a:ext cx="60199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sk</cp:lastModifiedBy>
  <dcterms:modified xsi:type="dcterms:W3CDTF">2010-03-09T18:15:03Z</dcterms:modified>
  <cp:revision>7</cp:revision>
  <dc:subject/>
  <dc:title>Слайд 1</dc:title>
</cp:coreProperties>
</file>