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559-E087-4859-B868-5D8B4266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738-6106-4711-87E1-42498BB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98F-0A4C-43E1-AB21-7BC7CDED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8D8-0100-4B9B-A150-42096F67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DF93-9DB5-483B-924B-EC5F86D3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E057-C991-4F87-A55A-3331495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9477-4687-4303-9FE0-D8863539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DCCA-2CFE-4BA5-8E20-2C6E9F0D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F578-092C-48A7-9F1E-258C3008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FF65-8CAB-4431-AAE8-E21DFFE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846A-22E8-4746-82CB-219B5A5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1B8-53D2-4AC9-B2F5-501682A1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F734-B02D-41AF-9CBA-7DF62B9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3D7-A5C2-433F-955B-274DDEB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D0A-9D42-4975-BA48-54D0FF56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30FF-72C8-4583-B2BE-E104BC23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F07-7EAB-459F-BC82-613CD58F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8DA-01FB-4256-9ED9-B1F91CBD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B05-976A-4631-B3FB-D386A40B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395-28EB-4987-9C77-2D43C08E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69F-4BD5-4ED2-9D7D-4BE7D8B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F0D-1FFA-4BA4-8FEA-BB91C652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4C1-08EC-4129-B79A-472D064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3AA-60DB-4FF3-B8A9-D4CCAF1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41C2-B8AF-43C0-B866-DE588AB8B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9581-8BD1-4777-B1C6-BC68B85A0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Что такое математи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матик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родилась 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-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до н.э. в Древней Греции. Затем она появилась у арабов, а несколько позже дошла до европейцев. Термин «математика» произошел от греческого слов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что означает - наука, учение, знание. Эта наука занимается изучением чисел и величин, отношений и характеристик элементов множества, их сходствами и отличиями. Изучая математику, мы находим ответы на многие вопросы, объясняем форму и объём предметов, находим способы решения задач с помощью действий. Математика включает в себя различные разделы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лгебру, геометрию, арифметику, логику и многие друг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Цифры  Кит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то мы знаем о нашей системе исчис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фры, которые мы используем в повседневной жизни, называются арабскими. Они переняты арабами у индийцев. Расцвет науки в мусульманском мире произошёл 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I – X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., когда мусульмане имели тесные связи с азиатской и с европейской культурами, заимствуя у них всё самое лучшее. Индийскую систему записи впервые применил арабский учёный Мухаммед ибн Муса аль – Хорезми, который написал Китаб аль – Джебрва – ль – Мукабаля – книгу, от названия которой произошло слово «алгебра». Современные цифры не очень похожи на индийский, так как арабы их видоизменили и приспособили к своему письму, к тому же, со старыми арабскими цифрами у них мало общего. Возможно это было из-за экономии места, поэтому арабские цифры изображались боком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Арабские циф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496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дготовил ученик 6 класса МБОУ «Большекалмыкская СОШ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итюцкий Андр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Что такое цифры и числа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фры – одно из древнейших изобретений. Из таких цифр как 0, 1, 2, 3, 4, 5, 6, 7, 8 и 9 складываются числа большие, например, 171 и очень большие, как 258589. Мы всё время пользуемся числами, сталкиваясь с ними на каждом шагу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купке и продаже, при необходимости позвонить кому – то, измерить, сосчитать, написать, купить, продать и т.д. Древние люди, чтобы показать какое – то количество чего – либо, пользовались пальцами рук и но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ак появились циф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вые написанные цифры (о которых нам известно), появились в Египте и Месопотамии около 5000 лет назад. Обычно, они представляли собой засечки на дереве или камне. Жрецы Египта писали на папирусе, а жители Месопотамии – на мягкой глине. Первые цифры представляли собой чёрточки (для единиц) и разнообразные метки (для десятков и сотен), и у каждой культуры они были свои. Постепенно знаки становились всё сложнее и всё понятн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такое египетские циф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мерно 5 тысяч лет назад на севере Африки появилась древняя египетская цивилизация. Там был изобретён папирус, всевозможные системы письма, а также получили развитие геометрия и арифметика. Египтяне писали иероглифами, используя рисунки для изображения какого – либо объекта. Иероглифами изображали и цифры, при этом у каждой цифры от 1 до 10 был свой знак. Также специальными значками-иероглифами обозначались десятки, сотни, тысячи и миллио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такое римские циф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древнем Риме была изобретена своя система исчисления. Чтобы изобразить цифры, римляне пользовались буквами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означала число 1;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5;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 – 10; L – 50; C – 100; D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50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 M – 1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овали определённые правила, по которым должны были записываться числ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если меньшая цифра находится слева от большей, то она вычитается, если справа – то прибавляется. Например, если поставить цифру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(1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слом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 (5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получится цифр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V ( 4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 если ту же самую единичку поставить после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получитс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6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все буквы должны писаться слева направо, начиная с самого большого значения ( например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I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это 12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CIX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это 99, 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CMLXXXVI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это 1987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букв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, X, C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гут повторяться подряд три раза ( например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это 3, 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30), а букв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, L, D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е повторяют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горизонтальная линия над буквой увеличивает значение числа в 1000 раз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мские цифры использовались довольно долго, а сейчас их применяют там, где удобно: в литературе ( нумерация глав), в оформлении документов и в декоративных целях, например, на циферблате час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Римские  циф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95360" y="1795320"/>
            <a:ext cx="6353280" cy="414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ми были цифры народов майя и ацте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емена майя использовали лишь три знака: точку, линию и эллипс. Под точкой понималась единица, под линией – цифра пять, а эллипс увеличивал написанное в 20 ра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личные комбинации из точек и линий позволяли написать любое число до 19. У ацтеков было четыре знака: точка обозначала цифру один, букв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20, перо – 400, а мешок, полный зерна – 8000.  Эта система исчисления была очень неудобной: цифры приходилось повторять много раз, в результате чего их ряды были похожи на настоящие иероглиф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Календарь майя и ацте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616360" cy="47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ак выглядели китайские цифр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онц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а земледельцы откопали много черепашьих панцирей и костей животных, которые были исписаны знаками древней китайской  системы исчисления. Эта система была придумана очень давно, примерно в 1500 – 1200 гг. до нашей эры. Цифры от одного до девяти обозначали палочками из слоновой кости или бамбука. Одна вертикальная палочка обозначала единицу, пять палочек – пятёрку, у цифр от 6 до 9 сверху ещё добавлялась горизонтальная палочка. В этой системе число зависело от того, какое место занимала цифра в ряду. Если, например, хотели написать 1867, то просто подряд ставили цифры 1, 8, 6 и 7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52:57Z</dcterms:created>
  <dc:creator>Инфо</dc:creator>
  <dc:description/>
  <dc:language>en-US</dc:language>
  <cp:lastModifiedBy>Инфо</cp:lastModifiedBy>
  <dcterms:modified xsi:type="dcterms:W3CDTF">2011-11-21T07:24:52Z</dcterms:modified>
  <cp:revision>6</cp:revision>
  <dc:subject/>
  <dc:title>Что такое математика</dc:title>
</cp:coreProperties>
</file>