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F439-DE2E-4EB5-85AF-AD3EBD0753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74F-41C6-4B45-8A93-75EF30BE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22A-F9E1-4313-8295-76727D39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DEE-1CD9-4AC0-8309-FC4207F8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835-3B29-4286-9B89-7DFBB074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E1DA-0C8B-4021-A4EA-9810B30F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CA1B-EAB1-4B31-8BAF-E85B0AB0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7126-FF66-4E62-94DD-D42E9A6F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6675-6994-4569-B5FB-155CF250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F4E3-9E30-4162-A469-039A5DD7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EEFE-57FB-4D44-9AA6-9F181DC4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3D25-A226-4AFB-BF32-A4DA1B31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E02-4841-4B12-A8DD-6BF55527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BD84-F381-4793-8E74-1FB6F42B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0DE4-98EC-43DA-B3F0-C2229B6F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7987-9161-4E16-A691-8C66B75C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8437-B2E1-4DEF-A900-E7A77B57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B8A7-E70B-411B-AA3C-3FA8E33D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A1C9B-544B-481E-9A83-361E0445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0F291-D3F5-440B-94F4-4A0B9567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2D5BA-951E-4DFD-A054-7A9BFBC9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D94F2-693C-47A5-8CA7-5FAC9A58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596F-A639-4417-90FB-D4C26E18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A40-8052-4380-9933-530568B4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5AB4F-9175-4D4C-8421-AE7A277B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ECCC9-447C-48D4-BB18-4404F768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D0B1A-3191-4A00-A409-391C3E8A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7811F-4C4D-4FE8-9DCD-B17D364B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843A4-6B20-4E54-8C4E-F5E8D619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1B6D2-13A1-4922-9BF5-B6951086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9E6BD-A5B4-49B3-8BF4-3219D729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B5934-8BE1-45E0-94DE-681D1467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C9F75-4444-4CF8-894D-C2F5B4FB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0D88F-E864-4C49-8646-B6B37844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CBE-F5BC-4714-96B1-1FF49F40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75A88-91DE-4D14-A464-F255C577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55F02-3044-4D6B-BDF4-83255B09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FF516-0E9E-4C9E-8A1F-BBAFCF5A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AB8A5-FACF-49BE-9D11-32984E2A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D8D0D-0054-480E-9A1D-EA6A75A0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A5A98-A885-48D9-AAE7-9F23D3B3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ACC4A-5397-431E-9F1C-446E33E6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96DF8-FAE1-4C24-8289-82BD8A36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F1435-B373-4789-96B5-790C444A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204E1-47C2-465D-B7EB-080588AB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4FD-FD14-4EFD-861A-1516F389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84F7A-C21A-4E23-BF39-1E0008BA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5BF7A-15A2-4E7E-8751-6C1533FD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46B4A-D29C-453D-A944-977C5CD6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EC4C2-6706-42DD-ABD8-255C4603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46B56-71A7-48A6-828C-F8789397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16BA8-91EA-4E91-98AD-DB278CDF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BEECA-3456-47B9-8B0F-D215F724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1423A-948D-4A86-9451-BBF3A14F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CC998-D38B-41E4-B44B-986FDFB0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39E61-C9E1-42B2-B6D4-98878B80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604-25F6-4ED5-BCE3-8092803E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6288E-C1D4-4D42-B283-1D5556E3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6F430-B7E8-4EC1-AEEF-301A0B89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67DAB-6D36-4B77-8CF9-7826D999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BD11D-83B9-4E54-93BD-C74C3803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32163-E195-4565-9CBC-BD7D58A9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58959-B2DF-47FC-AD07-9CD46100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7DC21-DCA9-47DB-BF7E-5CBFC90E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F6FAC-0A28-47A3-9EC6-7C6C9CA7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29C40-24D4-4431-9020-455ACEEF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9B41F-465C-4D84-916B-26FA999E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845-31F0-434E-B577-8A875320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4A061-BC46-4548-8060-853BEE89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9A617-CDB4-4867-94F1-4B1587BE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7F879-666B-4CBC-AB67-80C49E50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1427A-27FD-4896-90FB-44EA2316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3521C-6A34-4ED3-A0E5-407324BD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F121B-6945-4C63-9471-9843D56B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E7F11-B27D-461E-8183-B3834FCB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81C20-FC42-40C1-9455-33CE0208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1DAF4-C88C-4CD5-9EF7-17332E46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87DCA-36D2-42AE-BE5A-80F07EA7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07C-81F6-4F7C-9BA8-C7CEC1A5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1B331-DCF6-4DD3-A428-9632D06E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F6951-CA19-4E97-9E5B-9CC6F06C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75151-E508-4ACA-8C06-1F24707E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8E6C1-DC12-4D81-BF97-B362A5A9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72DF2-5DF5-418D-9D3C-420D722F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E1DE0-48B5-4445-84A9-463ECBEF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E1A7E-F580-4748-B8B0-55B0E095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9B1B4-95F3-4A5F-BBC1-BCDADC80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87D4F-E647-49C8-9D15-AD613811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DD564-1EC1-42CE-B550-B7F82283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702-9DE9-4B9E-B843-CA050467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C28B4-46C3-4E57-9DBE-0840E7DE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C0E09-3996-4F40-A237-15905B46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0E94F-92CC-4F12-8B7F-ED2A2ECD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4366F-7641-4559-BF1A-54F56AC8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27BB9-8B28-4485-8267-5E12C41C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DE6E3-0B5A-4789-9F7A-DA6FFA21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63FD1-7D06-4334-9C33-4FD6136E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ECEE-7DDB-4AFC-8840-85D5E59AC7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B15B-FD4F-41FD-861C-E5D56284192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4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21D1-30C5-4B6B-A9B6-B66EABC5715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28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2C11-D4E4-4145-B258-BD2E0CB5A86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1644-0400-4AC1-B9D2-5F67B34D80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62D2-5BF7-4150-8047-7D893AF620B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206A-0D83-4B2C-9A83-BA9F36FDF79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769B-4D12-44F5-B02C-A1B40DA14E5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medinfo.ru/img/news/b_krov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506520"/>
            <a:ext cx="7772400" cy="173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ahoma"/>
              </a:rPr>
              <a:t>Тема урока: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 Эритроциты и лейк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1371600" y="2625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ahoma"/>
              </a:rPr>
              <a:t>Цель урока: </a:t>
            </a:r>
            <a:r>
              <a:rPr b="1" i="1" lang="en-US" sz="3200" spc="-1" strike="noStrike">
                <a:solidFill>
                  <a:srgbClr val="003366"/>
                </a:solidFill>
                <a:latin typeface="Tahoma"/>
              </a:rPr>
              <a:t>Выяснить взаимосвязь строения и функций эритроцитов и лейкоци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На основании изученного материала сделайте вывод: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1. Как эритроциты приспособлены к выполнению газовой ( дыхательной) функ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2. Чья кровь – человека или лягушки переносит больше кислорода? 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9900"/>
                </a:solidFill>
                <a:latin typeface="Garamond"/>
              </a:rPr>
              <a:t>Эритроциты человека вмещают больше гемоглобина, поэтому переносят больше кислород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5600" cy="453060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обенности строен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Отсутствие яд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Двояковогнутый диск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Малые размер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Большое количество в единице объе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b_krov" descr="Картинка 17 из 30">
            <a:hlinkClick r:id="rId2"/>
          </p:cNvPr>
          <p:cNvPicPr/>
          <p:nvPr/>
        </p:nvPicPr>
        <p:blipFill>
          <a:blip r:embed="rId3">
            <a:lum bright="-12000"/>
          </a:blip>
          <a:stretch/>
        </p:blipFill>
        <p:spPr>
          <a:xfrm rot="16200000">
            <a:off x="-76680" y="1587960"/>
            <a:ext cx="5048280" cy="43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Tahoma"/>
              </a:rPr>
              <a:t>Малокровие (анемия) – состояние организма, при котором уменьшается количество эритроцитов в крови, либо содержание в них гемоглобина</a:t>
            </a:r>
            <a:endParaRPr b="0" lang="en-US" sz="2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имптомы анем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1. Бледность кожных покров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2. Синюшность губ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3. Сухость кож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4. Ломкость волос и ног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5. Вялость, чувство устал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6. Сниженный аппетит и т. 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дукты, богаты железо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1. Хурма, гранат, персики, абрико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2. Зелень петрушки, тыква, репчатый лук, зеленые овощ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3. Рожь, греч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4. Мяс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5. Горький шокола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6. Сушеные гриб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Алгоритм изучения лейкоцитов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Двигая препарат крови человека, найдите лейкоц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Обратите внимание на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форму, цвет и наличие яд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Зарисуйте лейкоц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Ответьте на вопрос: в чем причина приспособленности лейкоцитов к выполняемой ими функц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1" name="" descr="White blood cells"/>
          <p:cNvPicPr/>
          <p:nvPr/>
        </p:nvPicPr>
        <p:blipFill>
          <a:blip r:embed="rId1">
            <a:lum contrast="30000"/>
          </a:blip>
          <a:stretch/>
        </p:blipFill>
        <p:spPr>
          <a:xfrm rot="1440000">
            <a:off x="-484200" y="2547720"/>
            <a:ext cx="583560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Фагоцитоз –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 это процесс поглощения и переваривания лейкоцитами микробо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2643120" cy="315288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Картинка 3 из 17"/>
          <p:cNvPicPr/>
          <p:nvPr/>
        </p:nvPicPr>
        <p:blipFill>
          <a:blip r:embed="rId3"/>
          <a:stretch/>
        </p:blipFill>
        <p:spPr>
          <a:xfrm>
            <a:off x="3276720" y="1773360"/>
            <a:ext cx="568800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95280" y="4873680"/>
            <a:ext cx="8229600" cy="19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. И. Мечников ( 1845 – 1916)- Нобелевский лауреат – основатель фагоцитарной теории иммунит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ahoma"/>
              </a:rPr>
              <a:t>Воспаление – защитная реакция организма против инфекций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640720" cy="54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ды лейкоцитов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179280" y="1628640"/>
            <a:ext cx="4248360" cy="4537080"/>
          </a:xfrm>
          <a:prstGeom prst="rect">
            <a:avLst/>
          </a:prstGeom>
          <a:ln w="0">
            <a:noFill/>
          </a:ln>
        </p:spPr>
      </p:pic>
      <p:grpSp>
        <p:nvGrpSpPr>
          <p:cNvPr id="690" name=""/>
          <p:cNvGrpSpPr/>
          <p:nvPr/>
        </p:nvGrpSpPr>
        <p:grpSpPr>
          <a:xfrm>
            <a:off x="4572000" y="2019600"/>
            <a:ext cx="4392720" cy="2297520"/>
            <a:chOff x="4572000" y="2019600"/>
            <a:chExt cx="4392720" cy="2297520"/>
          </a:xfrm>
        </p:grpSpPr>
        <p:cxnSp>
          <p:nvCxnSpPr>
            <p:cNvPr id="691" name="_s565254"/>
            <p:cNvCxnSpPr>
              <a:stCxn id="692" idx="0"/>
              <a:endCxn id="693" idx="2"/>
            </p:cNvCxnSpPr>
            <p:nvPr/>
          </p:nvCxnSpPr>
          <p:spPr>
            <a:xfrm flipV="1" rot="16200000">
              <a:off x="6172560" y="3146760"/>
              <a:ext cx="287640" cy="90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694" name="_s565255"/>
            <p:cNvCxnSpPr>
              <a:stCxn id="695" idx="0"/>
              <a:endCxn id="693" idx="2"/>
            </p:cNvCxnSpPr>
            <p:nvPr/>
          </p:nvCxnSpPr>
          <p:spPr>
            <a:xfrm flipV="1">
              <a:off x="5865120" y="3454920"/>
              <a:ext cx="1440" cy="28764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696" name="_s565256"/>
            <p:cNvCxnSpPr>
              <a:stCxn id="697" idx="0"/>
              <a:endCxn id="693" idx="2"/>
            </p:cNvCxnSpPr>
            <p:nvPr/>
          </p:nvCxnSpPr>
          <p:spPr>
            <a:xfrm flipH="1" flipV="1" rot="5400000">
              <a:off x="5268600" y="3146040"/>
              <a:ext cx="287640" cy="905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698" name="_s565257"/>
            <p:cNvCxnSpPr>
              <a:stCxn id="699" idx="0"/>
              <a:endCxn id="700" idx="2"/>
            </p:cNvCxnSpPr>
            <p:nvPr/>
          </p:nvCxnSpPr>
          <p:spPr>
            <a:xfrm flipV="1" rot="16200000">
              <a:off x="8206560" y="3372480"/>
              <a:ext cx="287640" cy="45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01" name="_s565258"/>
            <p:cNvCxnSpPr>
              <a:stCxn id="702" idx="0"/>
              <a:endCxn id="700" idx="2"/>
            </p:cNvCxnSpPr>
            <p:nvPr/>
          </p:nvCxnSpPr>
          <p:spPr>
            <a:xfrm flipH="1" flipV="1" rot="5400000">
              <a:off x="7755120" y="3372840"/>
              <a:ext cx="287640" cy="45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03" name="_s565259"/>
            <p:cNvCxnSpPr>
              <a:stCxn id="700" idx="0"/>
              <a:endCxn id="704" idx="2"/>
            </p:cNvCxnSpPr>
            <p:nvPr/>
          </p:nvCxnSpPr>
          <p:spPr>
            <a:xfrm flipV="1" rot="16200000">
              <a:off x="7302600" y="2058840"/>
              <a:ext cx="287640" cy="1356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05" name="_s565260"/>
            <p:cNvCxnSpPr>
              <a:stCxn id="693" idx="0"/>
              <a:endCxn id="704" idx="2"/>
            </p:cNvCxnSpPr>
            <p:nvPr/>
          </p:nvCxnSpPr>
          <p:spPr>
            <a:xfrm flipH="1" flipV="1" rot="5400000">
              <a:off x="6172920" y="2285280"/>
              <a:ext cx="287640" cy="90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04" name="_s565261"/>
            <p:cNvSpPr/>
            <p:nvPr/>
          </p:nvSpPr>
          <p:spPr>
            <a:xfrm>
              <a:off x="6376320" y="2019600"/>
              <a:ext cx="783000" cy="574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ccff"/>
              </a:solidFill>
              <a:miter/>
            </a:ln>
            <a:effectLst>
              <a:outerShdw dist="63504" dir="19383909" blurRad="0" rotWithShape="0">
                <a:srgbClr val="00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лейкоциты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_s565262"/>
            <p:cNvSpPr/>
            <p:nvPr/>
          </p:nvSpPr>
          <p:spPr>
            <a:xfrm>
              <a:off x="5358600" y="2881440"/>
              <a:ext cx="1009440" cy="574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cc00"/>
              </a:solidFill>
              <a:miter/>
            </a:ln>
            <a:effectLst>
              <a:outerShdw dist="63504" dir="19383909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зернисты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_s565263"/>
            <p:cNvSpPr/>
            <p:nvPr/>
          </p:nvSpPr>
          <p:spPr>
            <a:xfrm>
              <a:off x="7620120" y="2881440"/>
              <a:ext cx="1009080" cy="574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cc00"/>
              </a:solidFill>
              <a:miter/>
            </a:ln>
            <a:effectLst>
              <a:outerShdw dist="63504" dir="19383909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незернисты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_s565264"/>
            <p:cNvSpPr/>
            <p:nvPr/>
          </p:nvSpPr>
          <p:spPr>
            <a:xfrm>
              <a:off x="7285320" y="3742920"/>
              <a:ext cx="774720" cy="574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9240" rIns="3924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лимфоциты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_s565265"/>
            <p:cNvSpPr/>
            <p:nvPr/>
          </p:nvSpPr>
          <p:spPr>
            <a:xfrm>
              <a:off x="8189640" y="3742920"/>
              <a:ext cx="775080" cy="574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9240" rIns="3924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моноциты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_s565266"/>
            <p:cNvSpPr/>
            <p:nvPr/>
          </p:nvSpPr>
          <p:spPr>
            <a:xfrm>
              <a:off x="4572000" y="3742920"/>
              <a:ext cx="775080" cy="574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нейтрофилы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_s565267"/>
            <p:cNvSpPr/>
            <p:nvPr/>
          </p:nvSpPr>
          <p:spPr>
            <a:xfrm>
              <a:off x="5476320" y="3742920"/>
              <a:ext cx="774720" cy="574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базофилы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_s565268"/>
            <p:cNvSpPr/>
            <p:nvPr/>
          </p:nvSpPr>
          <p:spPr>
            <a:xfrm>
              <a:off x="6380640" y="3742920"/>
              <a:ext cx="775080" cy="5742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эозинофилы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эритроцит заполнен гемоглобино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753080" cy="286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9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3933720"/>
            <a:ext cx="4968720" cy="27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932000" y="1600200"/>
            <a:ext cx="403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. Гемоглобин состоит из четырех белковых ните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. К каждой нити прикреплен один гем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. Гем содержит атом железа и способен удерживать одну молекулу кислород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cc"/>
                </a:solidFill>
                <a:latin typeface="Tahoma"/>
              </a:rPr>
              <a:t>Главная функция эритроцитов и гемоглобина – перенос кислорода от легких к другим органам. Присоединяя кислород, гемоглобин из синеватого становится алым. Поэтому кровь, в которой много кислорода, имеет алую окраску.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24000" y="1628640"/>
            <a:ext cx="8496000" cy="50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Лабораторная рабо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258920" y="2349360"/>
            <a:ext cx="636912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33480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4800" spc="-1" strike="noStrike">
                <a:solidFill>
                  <a:srgbClr val="ff9900"/>
                </a:solidFill>
                <a:latin typeface="Tahoma"/>
              </a:rPr>
              <a:t>Тема: Изучение крови человека и лягушки под микроскопом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Цель лабораторной работы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ыявить особенности строения эритроцитов в связи с выполняемыми функц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ыявить особенности строения лейкоцитов в связи с выполняемыми функци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авила пользования микроскопом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1. Вращая зеркальце, добейся полного освещения поля зрения на маленьком увеличен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2. Помести готовый микропрепарат на предметный столик и закрепи е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3. Глядя на предмет сбоку, осторожно опусти тубус на расстояние 1- 2 мм от объек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4. Глядя в окуляр, при помощи винта поднимай тубус, пока не появится четкое изображ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Алгоритм изучения эритроцитов человека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1496880" y="1600200"/>
          <a:ext cx="195264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1600200"/>
                    <a:ext cx="195264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859280" y="1600200"/>
            <a:ext cx="428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следуйте микропрепарат «Кровь человека» под микроскоп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Обратите внимание на: 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форму, цвет, отсутствие ядра, размеры и количество эритроцитов (в поле зре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Зарисуйте 2 -3 эритроци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4859280" cy="424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Алгоритм изучения эритроцитов лягушк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654080" y="1600200"/>
            <a:ext cx="403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1. Исследуйте микропрепарат   «Кровь лягушки» под микроскопом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2. Обратите внимание на: </a:t>
            </a:r>
            <a:r>
              <a:rPr b="0" lang="en-US" sz="2500" spc="-1" strike="noStrike">
                <a:solidFill>
                  <a:srgbClr val="ffcc66"/>
                </a:solidFill>
                <a:latin typeface="Tahoma"/>
              </a:rPr>
              <a:t>форму, цвет, наличие ядра, размеры и количество эритроцитов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3. Зарисовать 2 – 3 эритроцит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6" name="6" descr="Микропрепарат «Кровь лягушки»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08000" y="1341360"/>
            <a:ext cx="4535280" cy="48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Сравните эритроциты человека и лягушки, заполнив таблицу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395280" y="1484280"/>
          <a:ext cx="8209080" cy="4319640"/>
        </p:xfrm>
        <a:graphic>
          <a:graphicData uri="http://schemas.openxmlformats.org/drawingml/2006/table">
            <a:tbl>
              <a:tblPr/>
              <a:tblGrid>
                <a:gridCol w="2806560"/>
                <a:gridCol w="2806920"/>
                <a:gridCol w="2595600"/>
              </a:tblGrid>
              <a:tr h="12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наки сравн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ритроциты челове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ритроциты лягуш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a3c145"/>
                          </a:solidFill>
                          <a:latin typeface="Tahoma"/>
                        </a:rPr>
                        <a:t>разме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a3c145"/>
                          </a:solidFill>
                          <a:latin typeface="Tahoma"/>
                        </a:rPr>
                        <a:t>фор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a3c145"/>
                          </a:solidFill>
                          <a:latin typeface="Tahoma"/>
                        </a:rPr>
                        <a:t>Количество( в поле зрения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a3c145"/>
                          </a:solidFill>
                          <a:latin typeface="Tahoma"/>
                        </a:rPr>
                        <a:t>Наличие яд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7:12:14Z</dcterms:created>
  <dc:creator>WER_Y</dc:creator>
  <dc:description/>
  <dc:language>en-US</dc:language>
  <cp:lastModifiedBy>слушатель</cp:lastModifiedBy>
  <dcterms:modified xsi:type="dcterms:W3CDTF">2008-02-08T09:16:10Z</dcterms:modified>
  <cp:revision>26</cp:revision>
  <dc:subject/>
  <dc:title>Лабораторная работа</dc:title>
</cp:coreProperties>
</file>