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D3B-0322-43AF-A985-B64FFCFB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346-7071-498C-8418-CA35FAC4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BA3-AF7E-41A1-A439-29E7DBA7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078-CA49-4E5E-8F80-F766EDE6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031-FFFC-4636-BD4E-A59551D8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2E0-4B56-4AB3-A7DF-4E798965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547-F1C7-4DE1-9165-D2C0D1C2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9E3C-701E-4ED0-97E6-44F8D4C2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DAC-07E9-46D3-99FC-D70AAADF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B85-156F-4FC6-B794-651761DC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EE9-8508-43B4-B99D-81213F18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3D7-BA4F-45AB-82C4-4892DCB9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2EF3-900D-4685-8C06-3AD1F758F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Филимоновская игр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9840" y="19080"/>
            <a:ext cx="48643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50920" y="19080"/>
            <a:ext cx="50421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9840" y="6480"/>
            <a:ext cx="48643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9840" y="6480"/>
            <a:ext cx="48643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46320" y="12600"/>
            <a:ext cx="48513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9840" y="19080"/>
            <a:ext cx="48643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10T06:45:33Z</dcterms:modified>
  <cp:revision>9</cp:revision>
  <dc:subject/>
  <dc:title>Слайд 1</dc:title>
</cp:coreProperties>
</file>