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9798-8002-467B-9BA7-5E6CD1B7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4EE6-4BFA-48AA-B800-BEDE3F79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C840-2734-4306-BF0D-A1AA73D8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4B3B-5F0A-413E-9F47-E4C38069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582B-EDDA-4ED2-A136-CE39080A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FA3D-677C-458D-B80E-B410744F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3ECF-CFA6-4C73-AF7C-4B9D1E39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EF90-7C27-409D-98D6-682CB3ED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9F77-AF1B-4C39-8B0E-86DE1836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2D7F-4990-4549-83F1-6AB60486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E3B7-F0E9-4967-9359-155651BE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EC01-73BB-4A61-99D1-855B0A69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DD56-C5AB-4883-9886-749BC9D53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Филимоновская игр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9840" y="19080"/>
            <a:ext cx="48643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50920" y="19080"/>
            <a:ext cx="50421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39840" y="6480"/>
            <a:ext cx="486432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39840" y="6480"/>
            <a:ext cx="486432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46320" y="12600"/>
            <a:ext cx="485136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9840" y="19080"/>
            <a:ext cx="48643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sk</cp:lastModifiedBy>
  <dcterms:modified xsi:type="dcterms:W3CDTF">2010-03-10T06:45:33Z</dcterms:modified>
  <cp:revision>9</cp:revision>
  <dc:subject/>
  <dc:title>Слайд 1</dc:title>
</cp:coreProperties>
</file>