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FF4-8255-4D13-B404-7CA5F255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809-1B4D-4615-A8BE-CC759D43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5E6-6729-42C1-B843-B6E32E96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EF8-31B9-4933-BF1B-5A1CE064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958-289D-4DEC-86CF-BA70D3D6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93D-8CAA-4966-BCCB-54EF2FAA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B44-AA99-4F9F-B202-921497BF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899-AA2D-4ECD-896A-4BDD5FD0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5ED-DF16-435C-A842-A67F4ABF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066-EA51-4B75-BD2A-325F1006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BE3-3183-4E95-8024-4C5963AF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353-9BE0-4B2A-AD98-B4E5B2D7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013A9-FC60-4BFE-8EC8-5056A05DC08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3225600"/>
            <a:ext cx="907092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ункции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х графики и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y=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3280" y="2049480"/>
            <a:ext cx="4425840" cy="44258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функции - пара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ходит через начало ко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a&gt;0 ветви направлены в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a&lt;0 ветви направлены 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ь ординат - ось симметрии параб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x ≠ 0, то y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ым значениям x соответствует одно и то же значение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мость от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7120" y="1768320"/>
            <a:ext cx="2379600" cy="2379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75440" y="1768320"/>
            <a:ext cx="2379600" cy="2379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175440" y="4375080"/>
            <a:ext cx="2379600" cy="237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527120" y="4375080"/>
            <a:ext cx="2379600" cy="2379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22800" y="3684600"/>
            <a:ext cx="568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60880" y="6300720"/>
            <a:ext cx="644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=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80320" y="3708360"/>
            <a:ext cx="758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=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04000" y="6313320"/>
            <a:ext cx="83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=-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висимость от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0320" y="1768320"/>
            <a:ext cx="2406600" cy="2379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25720" y="1768320"/>
            <a:ext cx="2409840" cy="2379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892920" y="1768320"/>
            <a:ext cx="2409840" cy="2379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783640" y="3805200"/>
            <a:ext cx="56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3792600"/>
            <a:ext cx="56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71840" y="379260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=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=(x-m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мость от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7080" y="1768320"/>
            <a:ext cx="2414880" cy="2379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827520" y="1768320"/>
            <a:ext cx="2406600" cy="2379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892920" y="1768320"/>
            <a:ext cx="2409840" cy="2379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651640" y="3792600"/>
            <a:ext cx="63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71840" y="3780000"/>
            <a:ext cx="63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24880" y="3780000"/>
            <a:ext cx="708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y=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5007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ходит через начало ко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a&gt;0 проходит в I и III четвер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a&lt;0 проходит в II и IV четвер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x &gt; 0, то y &gt; 0,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 &lt; 0, то y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ым значениям x соответствует противоположные значения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759280" y="1979640"/>
            <a:ext cx="37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мость от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0000" y="7020000"/>
            <a:ext cx="1810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8880" y="1768320"/>
            <a:ext cx="2409840" cy="2379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27520" y="1768320"/>
            <a:ext cx="2406600" cy="237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894360" y="1768320"/>
            <a:ext cx="2406960" cy="237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55720" y="3773520"/>
            <a:ext cx="56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3792600"/>
            <a:ext cx="56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40720" y="3780000"/>
            <a:ext cx="758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y=k/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функции — гипер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k&gt;0 проходит в I и III четвер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k&lt;0 проходит в II и IV четвер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51600" y="2077920"/>
            <a:ext cx="4425840" cy="43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=k/x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мость от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14520" y="1768320"/>
            <a:ext cx="2406600" cy="2379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159600" y="1768320"/>
            <a:ext cx="2409840" cy="2379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835440" y="4375080"/>
            <a:ext cx="2406600" cy="2379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09920" y="3780000"/>
            <a:ext cx="555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0000" y="3787920"/>
            <a:ext cx="682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16720" y="6408720"/>
            <a:ext cx="682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боту выполни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еник 9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варнев Макс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: Исаева Л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ей в общем понимании называется любой закон, по которому каждому объекту из некоторого класса, области определения функции, поставлен в соответствие некоторый объект из другого (или того же)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очки зрения алгебры - функция выражает зависимость одного значения от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нкци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х графики и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7640" y="1476360"/>
            <a:ext cx="66484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22114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в переводе с латинского - functio - означает осуществление, выпол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«функция» (в некотором более узком смысле) был впервые использован Лейбницем (1692 год). В свою очередь, Иоганн Бернулли в письме к тому же Лейбницу употребил этот термин в смысле, более близком к совреме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ьно, понятие функции было неотличимо от понятия аналитического представления. Впоследствии появилось определение функции, данное Эйлером (1751 год), затем — у Лакруа (1806 год) — уже практически в современном нам виде. Наконец, общее определение функции (в современной форме, но для числовых функций) было дано Лобачевским (1834 год) и Дирихле (1837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= kx+b — линейн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= ax²+bx+c — квадратичн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= 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³+bx²+cx+d — кубическая фун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k/x — дробно-линейная 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192560" y="358308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— множество точек, у которых абсциссы являются допустимыми значениями аргумент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ординаты — соответствующими значениями функци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ется формулой y=kx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-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1600" y="1768320"/>
            <a:ext cx="4425840" cy="51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k является тангенсом угла, который образует прямая с положительным направлением оси абсци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k &gt; 0, прямая образует острый угол с осью абсци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k &lt; 0, прямая образует тупой угол с осью абсци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k = 0, прямая параллельна оси абсци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 является показателем ординаты точки пересечения прямой с осью ордин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b = 0, прямая проходит через начало координ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60360" y="4140360"/>
            <a:ext cx="3060720" cy="30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 — угловой коэффици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4720" y="1768320"/>
            <a:ext cx="2379600" cy="237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41920" y="1768320"/>
            <a:ext cx="2379600" cy="2379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08760" y="1768320"/>
            <a:ext cx="2379600" cy="2379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08760" y="4375080"/>
            <a:ext cx="2379600" cy="2379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41920" y="4375080"/>
            <a:ext cx="2379600" cy="23796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4720" y="4375080"/>
            <a:ext cx="2379600" cy="23796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40160" y="3672000"/>
            <a:ext cx="555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4160" y="3670200"/>
            <a:ext cx="55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34440" y="3660840"/>
            <a:ext cx="745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48000" y="6300720"/>
            <a:ext cx="63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7400" y="6300720"/>
            <a:ext cx="8222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39280" y="6300720"/>
            <a:ext cx="55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 — сдвиг по оси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74720" y="1768320"/>
            <a:ext cx="2379600" cy="2379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41920" y="1768320"/>
            <a:ext cx="2379600" cy="2379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908760" y="1768320"/>
            <a:ext cx="2379600" cy="237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19280" y="3672000"/>
            <a:ext cx="56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3672000"/>
            <a:ext cx="56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567640" y="3672000"/>
            <a:ext cx="644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=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14640" y="5689440"/>
            <a:ext cx="5986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место пересечения с осью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20:55:35Z</dcterms:created>
  <dc:creator>USER</dc:creator>
  <dc:description/>
  <dc:language>en-US</dc:language>
  <cp:lastModifiedBy>USER</cp:lastModifiedBy>
  <dcterms:modified xsi:type="dcterms:W3CDTF">2012-02-20T07:44:20Z</dcterms:modified>
  <cp:revision>4</cp:revision>
  <dc:subject/>
  <dc:title>Функции их графики и свойства</dc:title>
</cp:coreProperties>
</file>