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BAE-17D3-40AF-A636-677F0C43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927-E28E-4CA7-8A1D-11F4DA07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59B-F44E-4B53-BEF9-C344048A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7CA-DB03-479D-8EB4-83F2C182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DE5D-0127-43D1-B34F-847EC5F6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10A-635F-4009-93C6-86306185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BA82-BF00-48A7-A2C8-F726D249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3C82-2160-4E3A-8A4F-4D10A95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FB12-BD8F-48D1-94BA-D9CF3E96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6DA2-9FB4-4366-8A17-C92031C3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9E9A-9308-40A8-A361-94F67FD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700-4018-442A-B05C-F6F60422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F2FA-13C5-4C9B-8520-89B81AC8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F713-7A12-442A-92C1-9939F00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2AFA-A91C-40B4-B1E1-B15414EA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6AF-6A5E-4509-A126-55A69562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D0DB-A9B9-4D02-AE93-EAB65E5C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D47-1159-413B-ABCD-E5FE3298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58B-79F7-4E7E-8A75-B7CCAFEC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744-9F65-4361-94B7-EF7F2F6B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C17-E6D0-45F1-9A87-A9204640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F1D-5132-43D3-929C-D3231FE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5FE-22E6-4100-B31F-10BF2D3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D68-F89A-4358-8B1E-F45A818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C4E9-9706-448C-84E4-EC79354393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0C99-FC62-4680-9518-4361308BDE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7f75"/>
                </a:solidFill>
                <a:latin typeface="Times New Roman"/>
              </a:rPr>
              <a:t>ЭТ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92360" y="5229000"/>
            <a:ext cx="5640480" cy="139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b5f03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75e1"/>
                </a:solidFill>
                <a:latin typeface="Bradley Hand ITC"/>
              </a:rPr>
              <a:t>МОЯ </a:t>
            </a:r>
            <a:r>
              <a:rPr b="0" i="1" lang="ru-RU" sz="4000" spc="-1" strike="noStrike">
                <a:solidFill>
                  <a:srgbClr val="ff75e1"/>
                </a:solidFill>
                <a:latin typeface="Bradley Hand ITC"/>
              </a:rPr>
              <a:t>МАМОЧ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SDC11874"/>
          <p:cNvPicPr/>
          <p:nvPr/>
        </p:nvPicPr>
        <p:blipFill>
          <a:blip r:embed="rId1"/>
          <a:stretch/>
        </p:blipFill>
        <p:spPr>
          <a:xfrm rot="432600">
            <a:off x="1476000" y="260280"/>
            <a:ext cx="6264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83f08"/>
                </a:solidFill>
                <a:latin typeface="Times New Roman"/>
              </a:rPr>
              <a:t>С </a:t>
            </a:r>
            <a:r>
              <a:rPr b="1" lang="ru-RU" sz="4400" spc="-1" strike="noStrike">
                <a:solidFill>
                  <a:srgbClr val="c709c7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1108c8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3d7f1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ff6699"/>
                </a:solidFill>
                <a:latin typeface="Times New Roman"/>
              </a:rPr>
              <a:t>Р</a:t>
            </a:r>
            <a:r>
              <a:rPr b="1" lang="ru-RU" sz="4400" spc="-1" strike="noStrike">
                <a:solidFill>
                  <a:srgbClr val="1108c8"/>
                </a:solidFill>
                <a:latin typeface="Times New Roman"/>
              </a:rPr>
              <a:t>Т</a:t>
            </a:r>
            <a:r>
              <a:rPr b="1" lang="ru-RU" sz="4400" spc="-1" strike="noStrike">
                <a:solidFill>
                  <a:srgbClr val="c83f08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682aa6"/>
                </a:solidFill>
                <a:latin typeface="Times New Roman"/>
              </a:rPr>
              <a:t>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59280" y="148392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т чистого сердца, простыми словами давайте друзья             потолкуем о маме. Мы любим ее, как хорошего друга за то что у нас с нею все сообща, за то что когда нам приходится туго  мы можем всплакнуть у родного плеча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1628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4508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0" descr="330176"/>
          <p:cNvPicPr/>
          <p:nvPr/>
        </p:nvPicPr>
        <p:blipFill>
          <a:blip r:embed="rId1"/>
          <a:stretch/>
        </p:blipFill>
        <p:spPr>
          <a:xfrm rot="21195000">
            <a:off x="682560" y="1336320"/>
            <a:ext cx="4464000" cy="2952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365312"/>
          <p:cNvPicPr/>
          <p:nvPr/>
        </p:nvPicPr>
        <p:blipFill>
          <a:blip r:embed="rId2"/>
          <a:stretch/>
        </p:blipFill>
        <p:spPr>
          <a:xfrm>
            <a:off x="785880" y="4437000"/>
            <a:ext cx="4103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Times New Roman"/>
              </a:rPr>
              <a:t>                 </a:t>
            </a:r>
            <a:r>
              <a:rPr b="1" lang="ru-RU" sz="4400" spc="-1" strike="noStrike">
                <a:solidFill>
                  <a:srgbClr val="00ccff"/>
                </a:solidFill>
                <a:latin typeface="Times New Roman"/>
              </a:rPr>
              <a:t>моя Бабул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DSC_0193"/>
          <p:cNvPicPr/>
          <p:nvPr/>
        </p:nvPicPr>
        <p:blipFill>
          <a:blip r:embed="rId1"/>
          <a:stretch/>
        </p:blipFill>
        <p:spPr>
          <a:xfrm rot="349200">
            <a:off x="250920" y="1254240"/>
            <a:ext cx="88930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</a:t>
            </a:r>
            <a:r>
              <a:rPr b="1" lang="ru-RU" sz="4400" spc="-1" strike="noStrike">
                <a:solidFill>
                  <a:srgbClr val="ff6699"/>
                </a:solidFill>
                <a:latin typeface="Times New Roman"/>
              </a:rPr>
              <a:t>С 8 марта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fb69"/>
                </a:solidFill>
                <a:latin typeface="Times New Roman"/>
              </a:rPr>
              <a:t>Любит моя бабушка Музыку и смех,         Песенки поет она     Просто лучше все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37" descr="DSC_0144"/>
          <p:cNvPicPr/>
          <p:nvPr/>
        </p:nvPicPr>
        <p:blipFill>
          <a:blip r:embed="rId1"/>
          <a:stretch/>
        </p:blipFill>
        <p:spPr>
          <a:xfrm rot="561000">
            <a:off x="394920" y="1341360"/>
            <a:ext cx="403236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1063040"/>
          <p:cNvPicPr/>
          <p:nvPr/>
        </p:nvPicPr>
        <p:blipFill>
          <a:blip r:embed="rId2"/>
          <a:stretch/>
        </p:blipFill>
        <p:spPr>
          <a:xfrm rot="20750400">
            <a:off x="755280" y="4149720"/>
            <a:ext cx="32846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Бабул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Про бабушек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то на кухне с поварешкой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 плиты всегда стоит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то нам штопает одежку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ылесосом кто гудит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то на свете всех вкуснее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ирожки всегда печет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аже папы кто главнее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кому в семье поче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59984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0093"/>
                </a:solidFill>
                <a:latin typeface="Times New Roman"/>
              </a:rPr>
              <a:t>8 </a:t>
            </a:r>
            <a:r>
              <a:rPr b="0" lang="ru-RU" sz="2400" spc="-1" strike="noStrike">
                <a:solidFill>
                  <a:srgbClr val="66ff33"/>
                </a:solidFill>
                <a:latin typeface="Times New Roman"/>
              </a:rPr>
              <a:t>марта поздравляю и желаю быть счастливой и красивой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3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40384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37:19Z</dcterms:created>
  <dc:creator>SamLab.ws</dc:creator>
  <dc:description/>
  <dc:language>en-US</dc:language>
  <cp:lastModifiedBy>Admin</cp:lastModifiedBy>
  <dcterms:modified xsi:type="dcterms:W3CDTF">2012-11-27T21:01:29Z</dcterms:modified>
  <cp:revision>8</cp:revision>
  <dc:subject/>
  <dc:title>ЭТО</dc:title>
</cp:coreProperties>
</file>