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735-46CD-4788-9DC8-BE191A19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023-C0E5-4191-B891-9901A8D7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AF3-497D-4E24-B9FE-5A68DBE3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122-68C2-44B9-B895-EFD9D479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59E6-4DAA-419D-ACE3-87DA9F43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5E44-0FF3-471E-9C28-6EAD5BCA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4575-2DFD-44CC-BD2D-44EB76F5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88CD-549A-42FA-A4DD-5975534E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42C4-4E93-492C-B721-A3EF31A3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3CDA-ECFF-473A-BE32-8686E61D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F2FB-3E13-4A32-9E85-AD861AAC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8ED-0251-4FF1-B0DA-B532D2BA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7A1E-CF3A-49F3-9A19-723FC8A6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07DE-8F27-4444-92A2-412B1318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DAD3-02B7-4A46-AB4E-8803A2CA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91DA-5E27-4F3A-907A-A12A8711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4DB8-4F09-4938-AEC6-EBA25ECB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2DC-6F9A-4A80-8C8B-E29BE4E5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A61-CFC6-4B35-87B4-F69A4CAF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55D-30D1-4703-8C6C-20200A5F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4AD-1F56-4D50-BFBE-35C6D453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1A3-0541-4317-B199-6C826902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5D5-EBBD-45FF-AF5A-7D21D2EE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EF7-D6B6-4B4D-B80F-E74E8FA6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FFEE-3792-4B02-99B5-F4F047A9D1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611E-F62C-428E-9337-236BAC6AE9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7f75"/>
                </a:solidFill>
                <a:latin typeface="Times New Roman"/>
              </a:rPr>
              <a:t>ЭТ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92360" y="5229000"/>
            <a:ext cx="5640480" cy="139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b5f03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75e1"/>
                </a:solidFill>
                <a:latin typeface="Bradley Hand ITC"/>
              </a:rPr>
              <a:t>МОЯ </a:t>
            </a:r>
            <a:r>
              <a:rPr b="0" i="1" lang="ru-RU" sz="4000" spc="-1" strike="noStrike">
                <a:solidFill>
                  <a:srgbClr val="ff75e1"/>
                </a:solidFill>
                <a:latin typeface="Bradley Hand ITC"/>
              </a:rPr>
              <a:t>МАМОЧ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SDC11874"/>
          <p:cNvPicPr/>
          <p:nvPr/>
        </p:nvPicPr>
        <p:blipFill>
          <a:blip r:embed="rId1"/>
          <a:stretch/>
        </p:blipFill>
        <p:spPr>
          <a:xfrm rot="432600">
            <a:off x="1476000" y="260280"/>
            <a:ext cx="62643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83f08"/>
                </a:solidFill>
                <a:latin typeface="Times New Roman"/>
              </a:rPr>
              <a:t>С </a:t>
            </a:r>
            <a:r>
              <a:rPr b="1" lang="ru-RU" sz="4400" spc="-1" strike="noStrike">
                <a:solidFill>
                  <a:srgbClr val="c709c7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1108c8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83d7f1"/>
                </a:solidFill>
                <a:latin typeface="Times New Roman"/>
              </a:rPr>
              <a:t>М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ff6699"/>
                </a:solidFill>
                <a:latin typeface="Times New Roman"/>
              </a:rPr>
              <a:t>Р</a:t>
            </a:r>
            <a:r>
              <a:rPr b="1" lang="ru-RU" sz="4400" spc="-1" strike="noStrike">
                <a:solidFill>
                  <a:srgbClr val="1108c8"/>
                </a:solidFill>
                <a:latin typeface="Times New Roman"/>
              </a:rPr>
              <a:t>Т</a:t>
            </a:r>
            <a:r>
              <a:rPr b="1" lang="ru-RU" sz="4400" spc="-1" strike="noStrike">
                <a:solidFill>
                  <a:srgbClr val="c83f08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682aa6"/>
                </a:solidFill>
                <a:latin typeface="Times New Roman"/>
              </a:rPr>
              <a:t>!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59280" y="148392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т чистого сердца, простыми словами давайте друзья             потолкуем о маме. Мы любим ее, как хорошего друга за то что у нас с нею все сообща, за то что когда нам приходится туго  мы можем всплакнуть у родного плеча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55640" y="1628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640" y="4508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0" descr="330176"/>
          <p:cNvPicPr/>
          <p:nvPr/>
        </p:nvPicPr>
        <p:blipFill>
          <a:blip r:embed="rId1"/>
          <a:stretch/>
        </p:blipFill>
        <p:spPr>
          <a:xfrm rot="21195000">
            <a:off x="682560" y="1336320"/>
            <a:ext cx="4464000" cy="2952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365312"/>
          <p:cNvPicPr/>
          <p:nvPr/>
        </p:nvPicPr>
        <p:blipFill>
          <a:blip r:embed="rId2"/>
          <a:stretch/>
        </p:blipFill>
        <p:spPr>
          <a:xfrm>
            <a:off x="785880" y="4437000"/>
            <a:ext cx="4103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Times New Roman"/>
              </a:rPr>
              <a:t>                 </a:t>
            </a:r>
            <a:r>
              <a:rPr b="1" lang="ru-RU" sz="4400" spc="-1" strike="noStrike">
                <a:solidFill>
                  <a:srgbClr val="00ccff"/>
                </a:solidFill>
                <a:latin typeface="Times New Roman"/>
              </a:rPr>
              <a:t>моя Бабул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DSC_0193"/>
          <p:cNvPicPr/>
          <p:nvPr/>
        </p:nvPicPr>
        <p:blipFill>
          <a:blip r:embed="rId1"/>
          <a:stretch/>
        </p:blipFill>
        <p:spPr>
          <a:xfrm rot="349200">
            <a:off x="250920" y="1254240"/>
            <a:ext cx="889308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  </a:t>
            </a:r>
            <a:r>
              <a:rPr b="1" lang="ru-RU" sz="4400" spc="-1" strike="noStrike">
                <a:solidFill>
                  <a:srgbClr val="ff6699"/>
                </a:solidFill>
                <a:latin typeface="Times New Roman"/>
              </a:rPr>
              <a:t>С 8 марта!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fb69"/>
                </a:solidFill>
                <a:latin typeface="Times New Roman"/>
              </a:rPr>
              <a:t>Любит моя бабушка Музыку и смех,         Песенки поет она     Просто лучше все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37" descr="DSC_0144"/>
          <p:cNvPicPr/>
          <p:nvPr/>
        </p:nvPicPr>
        <p:blipFill>
          <a:blip r:embed="rId1"/>
          <a:stretch/>
        </p:blipFill>
        <p:spPr>
          <a:xfrm rot="561000">
            <a:off x="394920" y="1341360"/>
            <a:ext cx="4032360" cy="259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8" descr="1063040"/>
          <p:cNvPicPr/>
          <p:nvPr/>
        </p:nvPicPr>
        <p:blipFill>
          <a:blip r:embed="rId2"/>
          <a:stretch/>
        </p:blipFill>
        <p:spPr>
          <a:xfrm rot="20750400">
            <a:off x="755280" y="4149720"/>
            <a:ext cx="32846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Times New Roman"/>
              </a:rPr>
              <a:t>Бабул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Про бабушек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то на кухне с поварешкой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У плиты всегда стоит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то нам штопает одежку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ылесосом кто гудит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то на свете всех вкуснее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ирожки всегда печет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аже папы кто главнее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 кому в семье поче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59984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8 </a:t>
            </a:r>
            <a:r>
              <a:rPr b="0" lang="ru-RU" sz="2400" spc="-1" strike="noStrike">
                <a:solidFill>
                  <a:srgbClr val="66ff33"/>
                </a:solidFill>
                <a:latin typeface="Times New Roman"/>
              </a:rPr>
              <a:t>марта поздравляю и желаю быть счастливой и красивой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3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40384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Times New Roman"/>
              </a:rPr>
              <a:t>СПАСИБО ЗА ВНИМ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6:37:19Z</dcterms:created>
  <dc:creator>SamLab.ws</dc:creator>
  <dc:description/>
  <dc:language>en-US</dc:language>
  <cp:lastModifiedBy>Admin</cp:lastModifiedBy>
  <dcterms:modified xsi:type="dcterms:W3CDTF">2012-11-27T21:01:29Z</dcterms:modified>
  <cp:revision>8</cp:revision>
  <dc:subject/>
  <dc:title>ЭТО</dc:title>
</cp:coreProperties>
</file>