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830-C6E6-4D80-84B2-56831539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74B-B44B-494C-9180-1B0ABBCB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33C-2B8D-4872-ACB9-2AFF1641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F94-CC12-4D0B-9725-58D59356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B243-4D2C-46BF-A1E5-DC2F6AEC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A801-9F90-4C02-985B-7EABA473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D4B0-9389-48C3-B7F5-EE85E34B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88CC-1959-4DFF-A19E-80546C2C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DBC1-4E34-4E51-8689-F53A101D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A3FA-AED0-414E-9C01-A8D0C1F9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9D97-EBE6-421C-AE05-F28DC0A6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667-EBA9-49C4-B43E-47494E1A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3590-CFA2-4635-BCD2-73DD1C7D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CE06-D5F6-42BE-928B-23049E3F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B2B0-1144-4520-A59D-8C168731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7C9D-4008-488E-A669-2FAF139A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A9F0-17A3-4AEA-B188-804EAF25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369-ADC8-402B-AB2A-99F20291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0CC-8607-435E-83F4-F4EA122B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57E-C820-46AA-83CE-30CA98FA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C72-8262-4415-8262-67122CC3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27B-5548-4F2C-9179-A7E9EA9F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1D1-4672-4DAB-B0B6-88316E9C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D0B-0F23-439D-8F03-E6544BCE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EFB6-66BC-405A-AB65-DC1C8EE2EF6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671A-877E-4B89-AEC7-7EF1F63AF47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980640"/>
            <a:ext cx="7105680" cy="33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Tahoma"/>
              </a:rPr>
              <a:t>Конкурс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800"/>
            </a:b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«Знакомые лица истории»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1908000" y="115920"/>
            <a:ext cx="51292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53132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4537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4870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46130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Успехов вам</a:t>
            </a:r>
            <a:br>
              <a:rPr sz="4800"/>
            </a:br>
            <a:r>
              <a:rPr b="1" lang="ru-RU" sz="4800" spc="-1" strike="noStrike">
                <a:solidFill>
                  <a:srgbClr val="ff00ff"/>
                </a:solidFill>
                <a:latin typeface="Tahoma"/>
              </a:rPr>
              <a:t> в изучении истории!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22:30:57Z</dcterms:created>
  <dc:creator>Оля</dc:creator>
  <dc:description/>
  <dc:language>en-US</dc:language>
  <cp:lastModifiedBy>Ученик№1</cp:lastModifiedBy>
  <dcterms:modified xsi:type="dcterms:W3CDTF">2012-11-29T07:41:36Z</dcterms:modified>
  <cp:revision>6</cp:revision>
  <dc:subject/>
  <dc:title>Конкурс  «Знакомые лица истории»</dc:title>
</cp:coreProperties>
</file>