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FC4-7B80-43A0-B9BD-873E617F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A6DF-A0A9-4E8F-B51B-8504CD11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A82-3534-4E9C-A15E-19FB1C1B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B0A-E4FB-46CA-8B55-11DC3A83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B2B7-7745-46B5-8690-293B20B2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5175-E0CC-42E4-A724-7BA529F8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EC41-B2B4-44DC-ACBD-E601D6FE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2D21-4D44-4E37-A26E-4A90E048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E4E7-1CA9-4DCC-BC35-BCDFFEDA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7D71-CA47-4FC1-A1F7-AA22FC13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A642-3A4D-49CD-9CA4-281B6068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2C7-4450-413B-B65D-245D6EB3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DB30-EE1A-45D0-973B-DF50F451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1D3F-15D0-4598-997D-4248C931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1A17-FC9C-4263-88F6-E36BC144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63ED-A3B1-407A-8CF6-1A2A3745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7C87-D824-4162-B6E4-D8051F13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3D5-5C70-4A62-ABA8-41DA17C6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4C3-E7BB-4546-9AB0-FFEE1140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B27-1EBC-4865-9793-C0D660AA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8C6-3604-4D26-975A-4F647123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0D3-8A21-43CD-86DD-3A012068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31F-26D6-458F-9142-3D59B837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593-B5D7-4D05-9321-3F49BC86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CBD1-1BEF-452D-B863-936CCB9FDB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6CF8-F3BC-4609-B37F-72580694442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980640"/>
            <a:ext cx="7105680" cy="33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Tahoma"/>
              </a:rPr>
              <a:t>Конкурс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800"/>
            </a:b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«Знакомые лица истории»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42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1908000" y="115920"/>
            <a:ext cx="51292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53132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4537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4870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46130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Успехов вам</a:t>
            </a:r>
            <a:br>
              <a:rPr sz="4800"/>
            </a:b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 в изучении истории!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22:30:57Z</dcterms:created>
  <dc:creator>Оля</dc:creator>
  <dc:description/>
  <dc:language>en-US</dc:language>
  <cp:lastModifiedBy>Ученик№1</cp:lastModifiedBy>
  <dcterms:modified xsi:type="dcterms:W3CDTF">2012-11-29T07:41:36Z</dcterms:modified>
  <cp:revision>6</cp:revision>
  <dc:subject/>
  <dc:title>Конкурс  «Знакомые лица истории»</dc:title>
</cp:coreProperties>
</file>