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543D-3893-4451-ABFD-1B40BE84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67BB-07CF-411F-BE0F-06F0609A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54F1-6733-4F3E-80D1-25588BAB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9096-4FC3-42C4-90A1-76F8E45D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7D8B-0A13-4239-BB52-F4024365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6467-120F-4624-B930-C73DAC90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CF1C-E658-4500-A341-C0BF7988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161A-C3D5-4206-AF56-D121AFB6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F522-8486-4529-8339-02661372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5C31-5014-4F4E-881D-DDE45747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4DE1-51FA-456D-848C-44D319C3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52AE-D3E7-441E-9F24-82804055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8761-9AB9-417A-8721-1BD0240E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AF98-62C5-48CF-8080-65F0A3CC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8079-7AC9-4B97-B36B-FB7AA07E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0667-9718-4B87-8E8D-02661603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DFB9-FE6D-4116-A9D0-0E543C99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99C1-19C1-46C4-B20F-E13A019F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741E-4FC1-409E-81D9-AE4808F7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F40D-F4A4-4511-A643-9428A8C2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650D-E732-445F-B991-B212B774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E041-CC0C-46DD-9073-5986520C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F2B1-D13B-4C2F-8D61-2FC9D555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E80F-AD12-4FE3-B29A-4129C115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A171-2E55-45C7-9134-EEF0C32EB3D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D6C4-C145-44EE-911E-7BCDC61C387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980640"/>
            <a:ext cx="7105680" cy="331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cc00"/>
                </a:solidFill>
                <a:latin typeface="Tahoma"/>
              </a:rPr>
              <a:t>Конкурс</a:t>
            </a: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4800"/>
            </a:b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«Знакомые лица истории»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4292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7273800" cy="59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48895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2268360" y="115920"/>
            <a:ext cx="4438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619280" y="115920"/>
            <a:ext cx="43606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DETAIL_PICTURE_652475_31657165"/>
          <p:cNvPicPr/>
          <p:nvPr/>
        </p:nvPicPr>
        <p:blipFill>
          <a:blip r:embed="rId1"/>
          <a:stretch/>
        </p:blipFill>
        <p:spPr>
          <a:xfrm>
            <a:off x="395280" y="476280"/>
            <a:ext cx="856944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ff"/>
                </a:solidFill>
                <a:latin typeface="Tahoma"/>
              </a:rPr>
              <a:t>Успехов вам</a:t>
            </a:r>
            <a:br>
              <a:rPr sz="4800"/>
            </a:br>
            <a:r>
              <a:rPr b="1" lang="ru-RU" sz="4800" spc="-1" strike="noStrike">
                <a:solidFill>
                  <a:srgbClr val="ff00ff"/>
                </a:solidFill>
                <a:latin typeface="Tahoma"/>
              </a:rPr>
              <a:t> в изучении истории!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22:30:57Z</dcterms:created>
  <dc:creator>Оля</dc:creator>
  <dc:description/>
  <dc:language>en-US</dc:language>
  <cp:lastModifiedBy>Ученик№1</cp:lastModifiedBy>
  <dcterms:modified xsi:type="dcterms:W3CDTF">2012-11-29T07:41:22Z</dcterms:modified>
  <cp:revision>4</cp:revision>
  <dc:subject/>
  <dc:title>Конкурс  «Знакомые лица истории»</dc:title>
</cp:coreProperties>
</file>