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2B3-DA7E-4929-B997-B96D78F0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DDA-CEED-4371-A376-8CB45658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4F1-8C69-45C1-96EF-103095D6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E77-F379-4E1B-B399-4751F0EB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1F22-08A9-4C3F-960B-74D0577E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65FB-2DBC-4371-933C-9E84A723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80BC-442E-4BB0-8FA7-6D69F3B4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3C0B-38BE-4C5C-B7C2-BCE590F3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CA0E-E063-4F22-BA82-D911AD2D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C933-9A4E-4276-8842-41B9547B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5350-6385-4322-B08A-057DB986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069-EC21-41C9-8A10-4A651F86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F809-9DE6-436C-8786-C56ABE99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D773-6BF8-4EA1-ADEE-BD3B50A2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8C9D-8F1E-4503-B8C6-F36C93F6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809A-44A5-4252-BD1A-202010C1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3D6C-41F7-43C3-8FAE-1D797FE0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F38-17F9-48EF-AD98-6DB53277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EC4-EDD1-4239-A7CF-2DA591D9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21D-628F-47B0-8C6E-BDB8B4A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16B-90A9-4A2C-8F1C-3E4BF694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985-BD62-4AAD-8900-AB8F3249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03C-D82F-4387-9434-166D3F80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735-83A5-4078-B173-8C8C4140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CDCA-8546-41F2-96CE-BA8EA0F60FC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1D6-BEDC-4D2D-8F7A-74617035A1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80640"/>
            <a:ext cx="7105680" cy="33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Tahoma"/>
              </a:rPr>
              <a:t>Конкурс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800"/>
            </a:b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«Знакомые лица истории»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727380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48895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438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4360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DETAIL_PICTURE_652475_31657165"/>
          <p:cNvPicPr/>
          <p:nvPr/>
        </p:nvPicPr>
        <p:blipFill>
          <a:blip r:embed="rId1"/>
          <a:stretch/>
        </p:blipFill>
        <p:spPr>
          <a:xfrm>
            <a:off x="395280" y="476280"/>
            <a:ext cx="856944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Успехов вам</a:t>
            </a:r>
            <a:br>
              <a:rPr sz="4800"/>
            </a:b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 в изучении истории!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22:30:57Z</dcterms:created>
  <dc:creator>Оля</dc:creator>
  <dc:description/>
  <dc:language>en-US</dc:language>
  <cp:lastModifiedBy>Ученик№1</cp:lastModifiedBy>
  <dcterms:modified xsi:type="dcterms:W3CDTF">2012-11-29T07:41:22Z</dcterms:modified>
  <cp:revision>4</cp:revision>
  <dc:subject/>
  <dc:title>Конкурс  «Знакомые лица истории»</dc:title>
</cp:coreProperties>
</file>