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1EAC-25C8-4ECC-84AB-4AF04A6F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7639-C9B3-4F81-9934-74F277F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11AE-E68E-44C2-8B40-C17756C8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E0C1-3DDF-41E0-99CC-DA7060AE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D0FD-DE20-40C5-B8F5-A05DB0C7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058-446A-4C86-8E22-F21631A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B8BF-6FC6-47BA-AFF4-97C12E2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AFF9-0E05-4F5B-A707-8540D123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DC27-3AC8-425A-9377-3CDDBBA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F664-3760-420E-BF5A-AEAAE4B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AB3B-094E-4FA7-90AF-333B353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03FA-4401-405C-BA2C-7852F08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CFE5-15DC-4D44-A861-E8958C6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A24-3F87-497E-B1EC-2983706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54AF-3232-4F6C-9F0C-D7FA192A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D25-3008-4D0F-9A00-414BF4B8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8744-7566-4CF4-AA07-2DC609BC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2ACF-265D-43F4-BC3B-9BC9D1C9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0D91-BEAE-443A-AD12-98CFC92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16B5-16C7-420C-ACA0-1D5C07F3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4E05-DACA-4C1E-A354-AD4A1E2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1300-A2E7-4405-9B14-7ECC075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D5B7-9ABE-4363-B8D7-17E0A3C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4558-106B-4A84-B0EE-D9D5D07D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63C2-C869-4610-AA6D-C3426F7E8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A108-7477-41A2-B6B6-82355C2E5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620640"/>
            <a:ext cx="748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ГИКА 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3357720"/>
            <a:ext cx="8172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ука оспособах 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ормах мышлени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4360" y="5300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означ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6000" y="4508640"/>
            <a:ext cx="1152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amp;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&amp; 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553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это математический аппарат, с помощью которого записывают, упрощают, вычисляют и преобразовывают логические высказывания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333360"/>
            <a:ext cx="7920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гебра логики 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вествовательное предложение, о котором можно сказать, истинно оно или ложн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ЫСКАЗЫВАНИ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может принимать только одно из двух логических значений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истинно </a:t>
            </a:r>
            <a:r>
              <a:rPr b="0" lang="en-US" sz="3600" spc="-1" strike="noStrike">
                <a:solidFill>
                  <a:srgbClr val="ff3300"/>
                </a:solidFill>
                <a:latin typeface="Garamond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i="1" lang="en-US" sz="3600" spc="-1" strike="noStrike">
                <a:solidFill>
                  <a:srgbClr val="66ff66"/>
                </a:solidFill>
                <a:latin typeface="Garamond"/>
              </a:rPr>
              <a:t>ложно </a:t>
            </a:r>
            <a:r>
              <a:rPr b="0" lang="en-US" sz="3600" spc="-1" strike="noStrike">
                <a:solidFill>
                  <a:srgbClr val="66ff66"/>
                </a:solidFill>
                <a:latin typeface="Garamond"/>
              </a:rPr>
              <a:t>(0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333360"/>
            <a:ext cx="7991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сказывание 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33336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гические операции и схем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42920" y="170028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Отрицание (инверсия)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852640"/>
            <a:ext cx="7408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естественном языке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ответствует словам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8000" y="3789360"/>
            <a:ext cx="51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, что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5300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означ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4989600"/>
            <a:ext cx="12240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333360"/>
            <a:ext cx="7559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блица истинност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1224000" cy="94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408720" cy="352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95280" y="333360"/>
            <a:ext cx="82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аграмма Эйлера-Ван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84072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55640" y="260280"/>
            <a:ext cx="741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гическая схем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333360"/>
            <a:ext cx="799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. Логическая операция ДИЗЪЮНКЦИЯ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логическое сложение)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3860640"/>
            <a:ext cx="2743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означ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40360" y="3284640"/>
            <a:ext cx="1295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V 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7:53:31Z</dcterms:created>
  <dc:creator>Татьяна Николаевна</dc:creator>
  <dc:description/>
  <dc:language>en-US</dc:language>
  <cp:lastModifiedBy>Татьяна Николаевна</cp:lastModifiedBy>
  <dcterms:modified xsi:type="dcterms:W3CDTF">2006-12-20T10:59:4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