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FFCE-025B-4064-A654-82BCF59C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C647-80FB-44DE-A450-F5831A01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4DB0-3E23-42CB-B427-2E2F8DD5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3BA0-FCF5-4A63-A06B-A678BEFC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7A54-A331-4AAA-A486-23573D35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7F8-4284-4E63-AD6C-BFCFFF2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4ED-F43B-40AE-9CCE-BC78F37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C9FD-229E-4288-ABFE-581D332A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C932-1C85-40A3-835F-0EED2F0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41BA-0F95-4DD3-80CA-028155EF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DA18-0647-414E-9662-3BC805E8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621F-257A-45A5-A5C1-3DA6252E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3AB0-EFAD-478E-BBD3-F8578914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D3C2-A692-4F45-B7A9-321D06F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6A05-D400-4A05-B6CF-47B8F39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F8CF-F1DF-4C26-A948-CD832085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A7CD-58A4-4528-931F-214A361D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46FF-16B7-4A71-A93F-A465E4B7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60DE-C510-4B15-9C94-5F328781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5600-A3EC-413C-977C-1E822131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0C8D-370F-4E84-9781-9BEBB581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2A5A-191C-4B95-AE48-BD0E8951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E6BE-2DFE-41A5-AE0E-88B164EF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C852-9CFC-48E5-8483-B98E4B4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1747-E6FE-495A-BF8F-3BE397EB6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00C7-A569-4662-B19B-AA7C3A79A2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620640"/>
            <a:ext cx="748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ГИКА -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3357720"/>
            <a:ext cx="8172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ука оспособах 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ормах мышлени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4360" y="530064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означ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56000" y="4508640"/>
            <a:ext cx="1152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&amp;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 &amp; 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41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553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это математический аппарат, с помощью которого записывают, упрощают, вычисляют и преобразовывают логические высказывания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333360"/>
            <a:ext cx="7920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гебра логики -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овествовательное предложение, о котором можно сказать, истинно оно или ложн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ЫСКАЗЫВАНИ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может принимать только одно из двух логических значений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Garamond"/>
              </a:rPr>
              <a:t>истинно </a:t>
            </a:r>
            <a:r>
              <a:rPr b="0" lang="en-US" sz="3600" spc="-1" strike="noStrike">
                <a:solidFill>
                  <a:srgbClr val="ff3300"/>
                </a:solidFill>
                <a:latin typeface="Garamond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i="1" lang="en-US" sz="3600" spc="-1" strike="noStrike">
                <a:solidFill>
                  <a:srgbClr val="66ff66"/>
                </a:solidFill>
                <a:latin typeface="Garamond"/>
              </a:rPr>
              <a:t>ложно </a:t>
            </a:r>
            <a:r>
              <a:rPr b="0" lang="en-US" sz="3600" spc="-1" strike="noStrike">
                <a:solidFill>
                  <a:srgbClr val="66ff66"/>
                </a:solidFill>
                <a:latin typeface="Garamond"/>
              </a:rPr>
              <a:t>(0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333360"/>
            <a:ext cx="7991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сказывание -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33336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гические операции и схем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42920" y="170028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Отрицание (инверсия)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852640"/>
            <a:ext cx="7408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естественном языке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ответствует словам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8000" y="3789360"/>
            <a:ext cx="51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верно, что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530064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означ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4989600"/>
            <a:ext cx="12240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333360"/>
            <a:ext cx="7559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аблица истинност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1224000" cy="94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408720" cy="352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95280" y="333360"/>
            <a:ext cx="820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аграмма Эйлера-Ван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84072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55640" y="260280"/>
            <a:ext cx="741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гическая схем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280" y="333360"/>
            <a:ext cx="799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. Логическая операция ДИЗЪЮНКЦИЯ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логическое сложение)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3860640"/>
            <a:ext cx="2743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означ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40360" y="3284640"/>
            <a:ext cx="1295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 V 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7:53:31Z</dcterms:created>
  <dc:creator>Татьяна Николаевна</dc:creator>
  <dc:description/>
  <dc:language>en-US</dc:language>
  <cp:lastModifiedBy>Татьяна Николаевна</cp:lastModifiedBy>
  <dcterms:modified xsi:type="dcterms:W3CDTF">2006-12-20T10:59:4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