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0733-ABE7-49A1-9468-543B960C7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8420-2BE9-424B-8E7E-352FC05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3C97-9BBB-49BB-B0F8-2774E8E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9366-EC62-4D8B-AFCC-E67C78857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8D975-0470-408E-BB93-5594BE2A5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F206E-1532-414C-9C7E-3B85B9D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DE7ED-A05E-42B6-9369-0E88D1EA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2B465-0936-4EB9-998D-2C0185B6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ABECD-987E-4D0B-A070-1506958B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263E-C9A0-4EBA-8316-81E1D1D6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EDB64-869E-4A94-ACC5-276A8FA2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CB4E-17B8-4CB0-8EA5-838E145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B8DD6-76B0-4B4F-A77C-529C5C96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2EC59-8FB0-40AA-81EA-C7D6C80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4822F-22D5-43F6-8653-D7D2411B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D7A4D-382B-4AF7-BB01-20ADAC4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4DFCB-A037-4695-93CF-DE0246AED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B32-5355-453E-A3C5-074B4A377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17A-C9FF-4FB3-9532-3D4A899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3DA-D3A3-4D97-BDBB-64AB1ED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5D59-799C-4129-A418-5527889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E82F-CFED-47BE-A1E6-AF46806C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5B32-E38B-4C30-91EC-03E1D1FC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ED8-363E-487D-A3D9-857C2DCF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6ABA-93B3-4B22-AD8C-8AAF7289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86F-DB0F-4FE8-A669-0636E5D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2C0F-0DD2-4568-9EEE-E27D4C17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C472-FC77-4BDE-A521-170CEF9E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3253-B1B2-428E-810C-D2C9D2B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4DC7-A5F7-4DAE-BAF2-7E6FFCE62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97D8F-19E6-4899-BB33-F79FD05F5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FCD51-074B-41F0-B992-4BA053D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F2723-153E-4E2C-9FD9-2E84629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9D00-72DC-4668-B0D2-53E6792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D9CC2-E24D-4AEA-9F15-7D75999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B46D3-978C-42AE-B717-E79AC1C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C8CEF-7D26-4410-9B3F-915659F9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C2B2B-9FC3-4DA7-B0CF-832F84B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7245C-C426-4B77-BCA6-D9B67AB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AF35A-B52A-4A84-9C52-6A0B8A94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40F10-A1A0-42B9-8715-863FB69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19FC8-121B-41E4-9927-50F3A94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1ACAD-C7B0-4091-B52F-52DE177E8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6BC26-1E62-4A6B-B801-C083DD571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24DA-9545-4176-9F42-C4D5A753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09B60-51F5-4F2A-9E6C-F12BFD7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EF65D-B905-453D-BF13-C2D7766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76F69-2B27-464D-9F71-4ADBE62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F68F8-3FBB-49F2-B5B9-013B2DCB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09D9E-2B4A-47B8-A3EE-E02E9C59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A88C3-B17D-4127-AC08-0B1E5394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FF334-35F7-478E-A6FC-E353316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E96DE-E62C-4744-80EB-AC92BF0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3DCCF-8A22-410D-A009-1BA0EC5C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2C9B3-5EFF-4B4B-84A1-7953A93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B4B7-A7DE-4C31-B8B8-0C103E4B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ADA66-8783-40AB-96BF-A3AF7BAA7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A3FA-4160-4E86-BDD0-DF988C1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6D74-AD8C-4FE4-B857-5D35D87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712E-E3EF-482F-A1EE-B939A573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87F4-638B-4468-A098-9366CE10D82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5A4D24-C5EE-4776-9C84-411B9366D5D4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-33920280"/>
            <a:ext cx="403380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5C1E30-4BA2-428C-84C9-5D5813E658A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3236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1CACF2-F272-4754-AE32-985A3F185E5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996BC6-F624-4BE6-9A69-7ACFB8EB538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5880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к уроку по окружающему мир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Моя малая родина»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1280" y="3816360"/>
            <a:ext cx="50040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Работу выполнил  ученик 1-го класса ГБОУ СОШ с.Новодевичье  Подвальский  филиал  м.р.Шигонский  Самарской области </a:t>
            </a: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Каранда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Руководитель : учитель начальных классов Прохорова Татья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В нашей школе учился воин-афганец Павлов Павел, 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н погиб, выполняя  интернациональный  долг.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На стене школы установлена  мемориальная   до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1814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Calibri"/>
              </a:rPr>
              <a:t>Многие жители нашего села работают в п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319640" cy="470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1640" y="333000"/>
            <a:ext cx="8337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10243e"/>
                </a:solidFill>
                <a:latin typeface="Calibri"/>
              </a:rPr>
              <a:t>Они сеют, пашут, убирают урожай.</a:t>
            </a:r>
            <a:br>
              <a:rPr sz="3200"/>
            </a:br>
            <a:r>
              <a:rPr b="1" i="1" lang="ru-RU" sz="3200" spc="-1" strike="noStrike">
                <a:solidFill>
                  <a:srgbClr val="10243e"/>
                </a:solidFill>
                <a:latin typeface="Calibri"/>
              </a:rPr>
              <a:t>Я люблю своё сел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тзыв  руководителя Прохоровой Татьяны  Ивановны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20720"/>
            <a:ext cx="9144000" cy="6046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ект «Моя малая родина» выполнен учащимся  1 класса Каранда  Андрее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овместно с родителями и учителем  к уроку  по  окружающему   миру  по УМК  А.А.Плешакова    «Школа России». Презентация выполнена  Андреем и представлена   им  во время защиты своего проекта  на  уро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ма проекта «Моя малая родина» актуальна, значима и интересна. Она расширяет знания учащихся о своём родном  селе Подвалье.  В ней   представлены фотоматериалы из личного архива семьи  Андрея Каранда.  Особо ценен данный материал при использовании на уроках  краеведческой направ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атериал составлен в соответствии с требованиями к презентации и заслуживает высокой оценки со стороны учащихся и учителя с учётом того, что мы проучились всего 1 четверть. Опыт ученика интересен и актуален, в нём прослеживается формирование ключевых компетентностей через использование активных форм обучения, ИКТ  в начальной школе, а именно: учебно-познавательных , ценностно-смысловых , коммуникативных и информационных компетент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дрей научился фотографировать достопримечательности села, интервьюировать членов своей семьи, составлять устный рассказ, выступать с подготовленным сообщением, опираясь на фотографии и слайд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e46c0a"/>
                </a:solidFill>
                <a:latin typeface="Calibri"/>
              </a:rPr>
              <a:t>Вот дорога в моё село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4398840"/>
            <a:ext cx="63896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Наше село  маленькое, его  можно 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только на карте  Самар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Расположено оно на берегу Куйбышевского водохранилищ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в ясную погоду  мы  можем увидеть   на противоположном берегу город Тольят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00720" y="1555920"/>
            <a:ext cx="4643280" cy="4995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т моё село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1555920"/>
            <a:ext cx="4429080" cy="499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907920"/>
            <a:ext cx="8074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53735"/>
                </a:solidFill>
                <a:latin typeface="Calibri"/>
              </a:rPr>
              <a:t>Оно небольшое,  но очень красивое, утопает в зел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53735"/>
                </a:solidFill>
                <a:latin typeface="Calibri"/>
              </a:rPr>
              <a:t>Основано наше село в 14 веке, но когда построили  Жигулёвскую ГЭС, нижние улицы перенесли на высокое мес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В нашем селе есть горы! Зимой мы катаемся с них на лыжах и сан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09520" y="2303640"/>
            <a:ext cx="4254480" cy="424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645080" y="2303640"/>
            <a:ext cx="44276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Здесь мы часто отдыхаем семьёй! </a:t>
            </a:r>
            <a:br>
              <a:rPr sz="4400"/>
            </a:b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Река Чернав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 этом пруду мы ловим карас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alibri"/>
              </a:rPr>
              <a:t>Это памятник погибшим солдатам. </a:t>
            </a:r>
            <a:br>
              <a:rPr sz="3200"/>
            </a:br>
            <a:r>
              <a:rPr b="0" i="1" lang="ru-RU" sz="3200" spc="-1" strike="noStrike">
                <a:solidFill>
                  <a:srgbClr val="953735"/>
                </a:solidFill>
                <a:latin typeface="Calibri"/>
              </a:rPr>
              <a:t>Каждый год,  9 Мая, </a:t>
            </a:r>
            <a:br>
              <a:rPr sz="3200"/>
            </a:br>
            <a:r>
              <a:rPr b="0" i="1" lang="ru-RU" sz="3200" spc="-1" strike="noStrike">
                <a:solidFill>
                  <a:srgbClr val="953735"/>
                </a:solidFill>
                <a:latin typeface="Calibri"/>
              </a:rPr>
              <a:t>сюда  приходят школьники и  односельча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828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00280" y="144360"/>
            <a:ext cx="7619760" cy="6670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3701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В этом  году я пошёл в первый класс!</a:t>
            </a:r>
            <a:br>
              <a:rPr sz="2800"/>
            </a:b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Нас всего четыре ученика, но мы очень дружные. </a:t>
            </a:r>
            <a:br>
              <a:rPr sz="2800"/>
            </a:b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А это я стою в галстуке и улыбаю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3280" y="274680"/>
            <a:ext cx="8207280" cy="6350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МОЯ ШКО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