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1163-D4F5-43AE-B6A1-FC3DB0D6A1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6AE3-3C10-4400-B970-0DF1526F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6E2F-986E-4ECC-B62A-825F7DD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6AA4-7C58-4424-8D72-9531D7C2F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0489D-E60C-49BF-BA34-EDA6A3A82B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3A8B9-1BD3-40A4-9633-73AD5A2C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9C1E0-B3E4-4BF0-8F65-31E5CEE3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7BAAA-6AB7-4B1D-A0C5-81E5B405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9F4C6-DC9A-4B84-A8D5-CDA68B77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1F753-5005-4F68-B450-77990B81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EEEE2-B997-44F0-8CCA-3F6E7ED8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CA00-0B50-47B5-BEE5-5D18CAFF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5A2B8-4230-4BE3-9DF8-2CF93907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9AF40-4271-4368-9A98-BA16975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8AB09-BB58-4AB8-BF93-0FAEC6F7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98E52-372D-43A5-AE4F-AA081024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D692E-78A5-4219-8A04-9AA6DAC7D5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13C7-CC19-4593-8BF2-828C1451EC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1E72-50BE-4098-ADA4-567B4FC5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F49C-6B38-4AAF-9B3B-D6F89E5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AF1A-DBA6-404E-96C3-509C8602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E609-AE56-4D47-84CB-4A3980F3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CEDA-9544-4120-BC31-8B1342C6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2C33-0CD6-4E8D-A1D5-8918596F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2781-FB0B-4BFE-827F-8E2B391C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3E35-073D-4945-9D50-2D99555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3F29-5522-4E0D-8A1C-56304341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52C0-5718-4956-BDA2-3A13FDF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484B-9299-48F2-811F-08582FD0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667F-8A32-4AB0-8AB4-183B6D0D58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68F97-CD51-4862-B831-2B66F3615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3259F-2200-42B8-A267-FF76C452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4038A-5D46-4E99-B6DB-AB217120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A9CC-4336-4D33-9427-C7E442D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C60AF-9968-4809-AED9-DDE919A2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93274-AE53-4CD3-B6E6-0C84BB69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AFC08-FAD0-46E8-9CAB-98789C71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E007E-C902-4F31-9369-EC06CBE3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004DA-AD06-4C72-A6B4-4B16B1D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92334-8A54-4821-9F14-F04F4C1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1F691-2026-4354-9620-ED231FF7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C5040-8040-4AC5-B4C1-F36D75D1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FE536-7F59-42EC-ADEC-CE18B4D601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C10D0-9F09-497D-9E4E-8F71CF8FB8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71E5-787C-41E6-A50A-7A9124E4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597216-41BB-40A6-8D44-A7B484F9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F1EE9-C1D1-4177-8D51-A274BD36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28384-D254-45AD-A930-C7F8E2DC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0775F-2BC3-4D81-942C-673C0E4C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E7B1B-DE49-43C6-BD04-51D8F451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C1211-041A-49A7-8976-C29D6DCE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694E6-5A4D-4EDD-98A0-4983D970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645FD-287B-4EFE-859D-C3011BD4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51FBB-810A-422A-9058-B1F0A5A5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2BA78-C167-4EE6-B1DC-194BB1C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6592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8D83-7631-4348-8F22-FCD62F91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956DA-78B6-4508-96FB-2688DF6A70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62B0-1F05-49BF-8D9B-B3CF897A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4E68-5A7C-4E29-A61A-975F2C3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392D-BD96-47E8-90B3-0B11D8C2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9A849-8036-4A9E-B768-9C9694E45A0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94A6E5-F487-4AA2-9C54-843C4C8E6FA7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-33920280"/>
            <a:ext cx="403380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6D6124-9905-4529-AB6E-A77F7EB0754B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032360" cy="360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ё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00D1DC-9856-43C9-8283-B3659EC84860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7.1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AF99D2-D95A-4401-B1D2-FBC9BD11464D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5880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к уроку по окружающему мир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Моя малая родина»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1280" y="3816360"/>
            <a:ext cx="50040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Работу выполнил  ученик 1-го класса ГБОУ СОШ с.Новодевичье  Подвальский  филиал  м.р.Шигонский  Самарской области </a:t>
            </a:r>
            <a:r>
              <a:rPr b="1" i="1" lang="ru-RU" sz="2400" spc="-1" strike="noStrike">
                <a:solidFill>
                  <a:srgbClr val="ffc000"/>
                </a:solidFill>
                <a:latin typeface="Calibri"/>
              </a:rPr>
              <a:t>Каранда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Руководитель : учитель начальных классов Прохорова Татьян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В нашей школе учился воин-афганец Павлов Павел, 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он погиб, выполняя  интернациональный  долг.</a:t>
            </a:r>
            <a:br>
              <a:rPr sz="2400"/>
            </a:b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На стене школы установлена  мемориальная   до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1814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Calibri"/>
              </a:rPr>
              <a:t>Многие жители нашего села работают в п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319640" cy="4707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5720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1640" y="333000"/>
            <a:ext cx="8337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10243e"/>
                </a:solidFill>
                <a:latin typeface="Calibri"/>
              </a:rPr>
              <a:t>Они сеют, пашут, убирают урожай.</a:t>
            </a:r>
            <a:br>
              <a:rPr sz="3200"/>
            </a:br>
            <a:r>
              <a:rPr b="1" i="1" lang="ru-RU" sz="3200" spc="-1" strike="noStrike">
                <a:solidFill>
                  <a:srgbClr val="10243e"/>
                </a:solidFill>
                <a:latin typeface="Calibri"/>
              </a:rPr>
              <a:t>Я люблю своё сел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тзыв  руководителя Прохоровой Татьяны  Ивановны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720720"/>
            <a:ext cx="9144000" cy="60469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ект «Моя малая родина» выполнен учащимся  1 класса Каранда  Андрее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овместно с родителями и учителем  к уроку  по  окружающему   миру  по УМК  А.А.Плешакова    «Школа России». Презентация выполнена  Андреем и представлена   им  во время защиты своего проекта  на  уро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ма проекта «Моя малая родина» актуальна, значима и интересна. Она расширяет знания учащихся о своём родном  селе Подвалье.  В ней   представлены фотоматериалы из личного архива семьи  Андрея Каранда.  Особо ценен данный материал при использовании на уроках  краеведческой направ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атериал составлен в соответствии с требованиями к презентации и заслуживает высокой оценки со стороны учащихся и учителя с учётом того, что мы проучились всего 1 четверть. Опыт ученика интересен и актуален, в нём прослеживается формирование ключевых компетентностей через использование активных форм обучения, ИКТ  в начальной школе, а именно: учебно-познавательных , ценностно-смысловых , коммуникативных и информационных компетент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ндрей научился фотографировать достопримечательности села, интервьюировать членов своей семьи, составлять устный рассказ, выступать с подготовленным сообщением, опираясь на фотографии и слайды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e46c0a"/>
                </a:solidFill>
                <a:latin typeface="Calibri"/>
              </a:rPr>
              <a:t>Вот дорога в моё село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4398840"/>
            <a:ext cx="63896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Наше село  маленькое, его  можно на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только на карте  Самар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Расположено оно на берегу Куйбышевского водохранилищ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в ясную погоду  мы  можем увидеть   на противоположном берегу город Тольят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00720" y="1555920"/>
            <a:ext cx="4643280" cy="4995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от моё село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1555920"/>
            <a:ext cx="4429080" cy="4995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907920"/>
            <a:ext cx="8074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8040" indent="-33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53735"/>
                </a:solidFill>
                <a:latin typeface="Calibri"/>
              </a:rPr>
              <a:t>Оно небольшое,  но очень красивое, утопает в зеле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53735"/>
                </a:solidFill>
                <a:latin typeface="Calibri"/>
              </a:rPr>
              <a:t>Основано наше село в 14 веке, но когда построили  Жигулёвскую ГЭС, нижние улицы перенесли на высокое мест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В нашем селе есть горы! Зимой мы катаемся с них на лыжах и сан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09520" y="2303640"/>
            <a:ext cx="4254480" cy="424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645080" y="2303640"/>
            <a:ext cx="44276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Здесь мы часто отдыхаем семьёй! </a:t>
            </a:r>
            <a:br>
              <a:rPr sz="4400"/>
            </a:b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Река Чернав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 этом пруду мы ловим карасе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alibri"/>
              </a:rPr>
              <a:t>Это памятник погибшим солдатам. </a:t>
            </a:r>
            <a:br>
              <a:rPr sz="3200"/>
            </a:br>
            <a:r>
              <a:rPr b="0" i="1" lang="ru-RU" sz="3200" spc="-1" strike="noStrike">
                <a:solidFill>
                  <a:srgbClr val="953735"/>
                </a:solidFill>
                <a:latin typeface="Calibri"/>
              </a:rPr>
              <a:t>Каждый год,  9 Мая, </a:t>
            </a:r>
            <a:br>
              <a:rPr sz="3200"/>
            </a:br>
            <a:r>
              <a:rPr b="0" i="1" lang="ru-RU" sz="3200" spc="-1" strike="noStrike">
                <a:solidFill>
                  <a:srgbClr val="953735"/>
                </a:solidFill>
                <a:latin typeface="Calibri"/>
              </a:rPr>
              <a:t>сюда  приходят школьники и  односельча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31640" y="1871640"/>
            <a:ext cx="8280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00280" y="144360"/>
            <a:ext cx="7619760" cy="66708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3701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В этом  году я пошёл в первый класс!</a:t>
            </a:r>
            <a:br>
              <a:rPr sz="2800"/>
            </a:b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Нас всего четыре ученика, но мы очень дружные. </a:t>
            </a:r>
            <a:br>
              <a:rPr sz="2800"/>
            </a:b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А это я стою в галстуке и улыбаю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3280" y="274680"/>
            <a:ext cx="8207280" cy="6350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МОЯ ШКО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