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E80-2985-4281-B0D5-4DD67995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223-9F15-4189-B8EA-81662A20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F15-46D7-42B7-95E5-3572BE0F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1DA-BC8A-4B72-B2BA-DEEA3DE3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3639-1FDE-458E-883A-49CFD950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FD3-AC00-4FDC-9BAD-DF64ED7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745-F1FC-4498-B764-1988DEC2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19FC-4422-4B5D-8C4D-93975E5A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9813-B4A3-4E96-A737-8F187F5E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10C-D8C5-4483-AC17-F923391E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31EE-C909-4AE2-AED2-CDEC76D1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6A9-00A1-4C9B-A6FB-4DABD71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3AE6-900A-4D92-B6ED-F8091831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7109-C66F-42E2-8C92-06FD8A9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44B8-FE4C-4DD1-931F-CC9A03F7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AAB-9DB7-4440-9AE6-F1398FED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4F83-11E6-4792-AE22-8A9CBBFE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B2715-B245-413D-A7A7-326E2739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C742-74AF-4CFD-8022-9C4EBF5D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F017-1901-415C-A793-A4A0E945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E72F-AA3E-41B1-8C50-8D253C87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EABA-2579-4448-B747-4DB825F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3B7-486F-4CE1-90F5-D57651B3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52C7-BACC-422B-81B7-005EFCED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EFC6-EF12-4BF8-9083-0D61AFB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E774-42D7-43A7-A1D6-A2DC6E6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8616A-1F99-4091-89AE-F46367B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4B4B-11FE-48B9-86E6-33B2E4A3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8311-9628-471F-B7AC-593F825D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D831-91B8-4C2E-BFC9-04078767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DF169-D1CD-45A6-99A5-8E0DEB71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B9D0-8914-4105-9CC8-4942B6EF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A6B6-1765-4F61-B10C-1A173A51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CAC-F5F6-4C2F-B815-0CEBEA8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6999-1B4F-435E-B4A5-828F595C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BA49E-0709-438A-A18C-24229347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8DFC-2DFB-476C-8E4A-91C00763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666B7-9F98-4A9E-B12E-C10F57D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CD55F-A39B-4183-84AF-EE50EA97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FFC7-B431-4346-8BBD-86604A90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D0E0-1067-41EF-BB23-00ED4D13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8753-ED65-4B03-BA41-34F15A72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6FAE-FC7F-4B1F-BD8E-6562A75D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06EBC-AD76-406F-8023-170336C0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9C6-E5D7-40FE-9822-ABF35BDF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B078-C75D-4056-94EE-6BFDE76A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3325-17C2-4EEA-BA4C-ACC9F5C7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96A3-271F-438F-A7DA-5F0575DC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6D7D4-0960-4D74-A3DA-00225CC6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92C3-0B5D-47A5-83DC-BB75EA30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2F4BD-279F-41F3-A6C7-096FDD7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3A709-4E1C-45CD-91AC-B813155D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0E379-2A46-45CE-8672-6E4233A8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48E2-9FB7-4DE6-BC9E-A18AD545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AF17-5CBF-4A62-891E-425323C8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79E-0231-4A7B-8EBF-20F09CF9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E447-47EA-49F4-9B66-5D73D963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0951-BF56-456F-8E57-5FF19648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B8BDF-F509-41A7-8F4E-E8DF4A7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1D9F-7D28-4C4F-8F72-A4B02E2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1457-E93F-4D99-93C6-6604CE67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5CFA-E90E-45EB-8DF4-C457E921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B376-1E77-484B-8288-B0E578CA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286E4-DD56-4637-906B-85804818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4A180-7F99-44B1-9477-8B2AD1B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B440D-B375-493F-82E5-E2788EE3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EE0-E611-49CB-86C7-7F60D911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9A94B-C61A-487D-B820-5E96F225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8E84-2A24-4292-BC69-F2D4534D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7052-3B9D-4DF6-BDF9-7B739BEF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15FB2-F38A-4792-82E0-C87598E7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A5429-0865-469E-9341-CF6F998A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D7C84-0908-41D8-9C5D-516AFA05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A5A10-584E-4414-B402-0D93B32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87946-C847-4451-A431-F10C89C6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5940F-32F9-40A8-86F9-25A05167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809AF-853D-455C-8844-5A03C39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E89-BD25-481D-B397-F4FB5D20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C33C-E975-46DF-9E5B-5EC2C73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9E419-C234-4A92-B35F-C153195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7A306-C2D8-4B4E-ACD6-80D1090B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0A9B3-D42E-4F56-A27F-9B11615E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257A9-0B79-4AA8-9B6C-E2F72F78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2C6-00FF-4319-979F-B6D1A623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201-9704-4070-A7CA-FC96965F6BF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E897-EE0E-4003-947B-F12EC0D1B2D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44EF-CE46-4B17-8B5B-6FA17EA2B99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351-5852-4FAF-A608-2A1DFADC7E0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09CD-D955-4904-ABFE-3CF426E36B9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A583-B200-4766-B6FC-718C1891C1D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15CA-24A8-4F4F-8654-BEA1499ECAB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2"/>
          <a:stretch/>
        </p:blipFill>
        <p:spPr>
          <a:xfrm>
            <a:off x="1006560" y="706320"/>
            <a:ext cx="7692840" cy="24703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572080" y="4429080"/>
            <a:ext cx="3192480" cy="1038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Щитова Я.К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j0195384"/>
          <p:cNvPicPr/>
          <p:nvPr/>
        </p:nvPicPr>
        <p:blipFill>
          <a:blip r:embed="rId3"/>
          <a:stretch/>
        </p:blipFill>
        <p:spPr>
          <a:xfrm>
            <a:off x="2071800" y="3929040"/>
            <a:ext cx="1787400" cy="182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952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Решение задач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помощью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уравнения.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Маша задумала число. Если к этому числу прибавить 14 и от полученной суммы отнять 12, то получиться 75. Какое число задумала Маша?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Решение: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(Х + 14) – 12 = 75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Х + 14 = 75 + 12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Х + 14 =87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Х = 87 – 14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Х = 73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Проверка: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(73 +14) – 12 = 75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Corbel"/>
              </a:rPr>
              <a:t>75 = 75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Вывод.</a:t>
            </a:r>
            <a:br>
              <a:rPr sz="2000"/>
            </a:br>
            <a:r>
              <a:rPr b="0" lang="en-US" sz="2000" spc="-1" strike="noStrike">
                <a:solidFill>
                  <a:srgbClr val="572314"/>
                </a:solidFill>
                <a:latin typeface="Corbel"/>
              </a:rPr>
              <a:t>Я выбрала  эту тему, потому что уравнения часто используют в повседневной жизни, и мне  хотелось бы изучить эту тему более углубленной. Я думаю что мне своим проектом удалось найти много интересного исторического материала и показать красоту развития данной темы. 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2"/>
          <a:stretch/>
        </p:blipFill>
        <p:spPr>
          <a:xfrm>
            <a:off x="-244440" y="-1474920"/>
            <a:ext cx="9199440" cy="835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34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Где зародилось искусство решать уравнения.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Алгебра как искусство решать уравнения зародились очень давно в связи с потребностью практики, в результате поиска общих приёмов решения однотипных задач. Самые ранние дошедшие до нас рукописи свидетельствуют о том, что в Древнем Вавилоне и Древнем Египте были известны приёмы решения линейных уравнений.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Слово "алгебра" возникло после появления тракта "Китаб аль-джебр валь-мукабала" хорезмского математика и астронома Мухаммеда Бен Мусса аль Хорезми. Термин "аль-джебр", взятый из названия  книги, в дальнейшем стал употребляться как алгебра. </a:t>
            </a: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Кто ввел в математику знак равенства?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Знак равенства ввел в 1556 году английский математик Рекорд, который объяснил это так, что ничто не может быть более равным, чем два параллельных отрезка. 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Кто является создателем современной буквенной символики?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Франсуа Виет (1540 — 13 декабря 1603) — выдающийся французский математик, один из основоположников алгебры .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Создателем современной буквенной символики является французский математик Франсуа Виет (1540 – 1603). До XVI в. изложение алгебры велось в основном словесно. Буквенные обозначения и математические знаки появлялись постепенно. Знаки +  - впервые встречаются у немецких алгебраистов XVI в. Несколько позже вводится знак * для умножения. Знак деления (:) был введён лишь в XVII в. Решительный шаг в использовании алгебраической символики был сделан в XVI в., когда французский математик Франсуа Виет (1540-1603) и его современники стали применять буквы для обозначения не только неизвестных (что делалось и ранее), но и любых чисел. Однако эта символика ещё отличалась от современной. Так, Виет для обозначения неизвестного числа применял букву N (Numerus-число), для квадрата и куба неизвестного буквы Q (Quadratus - квадрат) и C (Cubus - куб). Например, запись уравнения X в кубе, минус 8X в квадрате, плюс 16X, равно 40 у Виета выглядела бы так: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C-8Q+16N  aequ 40</a:t>
            </a: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(aequali - равно).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Виет делит изложение на две части: общие законы и их конкретно-числовые реализации. То есть он, сначала решает задачи в общем виде, и только потом приводит числовые примеры. В общей части он обозначает буквами не только неизвестные, что уже встречалось ранее, но и все прочие параметры, для которых он придумал термин «коэффициенты». Виет использовал для этого только заглавные буквы — гласные для неизвестных, согласные для коэффициентов. Виет свободно применяет разнообразные алгебраические преобразование — например, замену переменных или смену знака выражения при переносе его в другую часть уравнения. Новая система позволила просто, ясно и компактно описать общие законы арифметики и алгоритмы. Символика Виета была сразу же оценена учёными разных стран, которые приступили к её совершенствованию. Диофант  – единственный известный нам древнегреческий математик, который занимался алгеброй. Он решал различные уравнения, особое внимание уделял неопределенным уравнениям, теория которых называется теперь «диофантовым анализом». У Диофанта была попытка ввести буквенную символику.  В верхней строке записано уравнение: 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Первая книга предварена обширным введением, в котором описаны используемые Диофантом обозначения. Предусмотрены специальные знаки для следующих степеней неизвестного, вплоть до шестой, называемой куб- кубом, и для противоположных им степеней. Знака сложения у Диофанта нет: он просто пишет рядом положительные члены, причём в каждом члене сначала записывается степень неизвестного, а затем численный коэффициент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34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2314"/>
                </a:solidFill>
                <a:latin typeface="Corbel"/>
              </a:rPr>
              <a:t>Назовите гениального французского математика и революционера создавшего основы общей теории уравнений?</a:t>
            </a:r>
            <a:br>
              <a:rPr sz="3000"/>
            </a:br>
            <a:r>
              <a:rPr b="0" lang="ru-RU" sz="3000" spc="-1" strike="noStrike">
                <a:solidFill>
                  <a:srgbClr val="572314"/>
                </a:solidFill>
                <a:latin typeface="Corbel"/>
              </a:rPr>
              <a:t>Нильс Хенрик Абель (1802 – 1829) внес важный вклад в теорию уравнений. В 1824 году он опубликовал доказательство неразрешимости в радикалах общего буквенного выражения пятой степени. </a:t>
            </a:r>
            <a:br>
              <a:rPr sz="3000"/>
            </a:br>
            <a:r>
              <a:rPr b="0" lang="ru-RU" sz="3000" spc="-1" strike="noStrike">
                <a:solidFill>
                  <a:srgbClr val="572314"/>
                </a:solidFill>
                <a:latin typeface="Corbel"/>
              </a:rPr>
              <a:t>«Абель оставил математикам столь богатое наследие, что им будет чем заниматься в ближайшие 150 лет» (Шарль Эрмит). Нильс Хенрик Абель  5 августа 1802, Фанге  — 6 апреля 1829, Фроланд близ Арендаля — знаменитый норвежский математик .</a:t>
            </a:r>
            <a:br>
              <a:rPr sz="3000"/>
            </a:b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2"/>
          <a:stretch/>
        </p:blipFill>
        <p:spPr>
          <a:xfrm>
            <a:off x="1316160" y="255600"/>
            <a:ext cx="7821360" cy="640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22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Уравнением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называют равенство, содержащее букву, значение которой надо найт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Чтобы найти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неизвестное уменьшаемое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надо сложить вычитаемое и разност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Чтобы найти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неизвестное вычитаемое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надо из уменьшаемого вычесть разност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Чтобы найти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неизвестное слагаемое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надо из суммы вычесть известное слагаемое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Решить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– значит найти все его корни (или убедиться, что это уравнение не имеет ни одного корня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Корнем уравнения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азывают значение буквы, при котором из уравнения получается  верное числовое равенство.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пособы решения.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Решить уравнение (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+ 64) -38 = 48 можно двумя способами: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1)сначала найти неизвестное уменьшаемое 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= 64: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+ 64 = 48 + 38, 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+ 64 = 86,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а потом найти неизвестное слагаемое 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y 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= 86 – 64, 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= 22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ли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2)сначала упростить выражение, стоящее в левой части уравнения, использовав   свойства вычитания: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у + 64 – 38  = 48, 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y</a:t>
            </a: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 + 26 = 48,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А затем найти неизвестное слагаемое у: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у = 48 – 26, у = 22.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7:03:23Z</dcterms:created>
  <dc:creator>Директор</dc:creator>
  <dc:description/>
  <dc:language>en-US</dc:language>
  <cp:lastModifiedBy>USER</cp:lastModifiedBy>
  <dcterms:modified xsi:type="dcterms:W3CDTF">2012-11-28T20:36:46Z</dcterms:modified>
  <cp:revision>23</cp:revision>
  <dc:subject/>
  <dc:title>Проект по математике на тему: уравнения и их решения.</dc:title>
</cp:coreProperties>
</file>