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80E37-DF3D-4D66-B3DC-42D927241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A07B9-0426-4022-A49A-028648E07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1C48D-4410-4FDB-BA25-E63B94201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DEC91-9918-44D3-BA9C-828B029A7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96CCC-9F3A-4316-9540-6B8D78A31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D8AEE-CE5F-4807-9B24-9243EAEB0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21B4D-3307-46BA-99CE-6CA828C0C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3B5C6-843F-44D8-BD30-699926853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A5FC3-BB48-4614-BD04-4D025757B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2FA39-6161-460D-B206-AD03C7D07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97138-F8EC-4702-8EBD-98F9FCBD9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B94E2-523C-42C6-92F0-2BE2568D5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AB089-7E7B-48AA-A887-CB8F2D077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3A205-D7EE-499B-896D-5990B37DF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D6C94-774F-4AFB-ADC5-BA1011E45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4A74E-A715-4B94-9B49-59AC59CD3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807A1-C304-46E2-A4C7-2B6EE6194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62B12-2C36-466E-846E-2F2AFC630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3F148-56A2-4BCD-936A-B4DE0D793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42FF5-3455-4504-A879-1F535747E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861DB-B16F-412A-A37E-649354F6D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6539D-7DD9-429E-A6C7-326286F68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04103-318F-49B2-96B8-0E7DA92C6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4C7AF-54E6-4498-96E4-7C8D7F409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A5630-1A30-4FA5-A3B2-6D653E3EFFC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FC72C-EEF5-443B-BDF4-25AF2FC2A30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РЕШЕНИЕ ЗАДАЧ ПО ГЕНЕТИКЕ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8e4"/>
                </a:solidFill>
                <a:latin typeface="Arial"/>
              </a:rPr>
              <a:t>ОБЩИЕ МЕТОДИЧЕСКИЕ РЕКОМЕНДАЦИИ К РЕШЕНИЮ ЗАДАЧ ПО ГЕНЕТИК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8e4"/>
                </a:solidFill>
                <a:latin typeface="Arial"/>
              </a:rPr>
              <a:t>Учитель биологии Киселева С.Н.</a:t>
            </a:r>
            <a:r>
              <a:rPr b="1" lang="en-US" sz="2400" spc="-1" strike="noStrike">
                <a:solidFill>
                  <a:srgbClr val="0088e4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8e4"/>
                </a:solidFill>
                <a:latin typeface="Arial"/>
              </a:rPr>
              <a:t>МОУ «Серединская средняя общеобразовательная школа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8e4"/>
                </a:solidFill>
                <a:latin typeface="Arial"/>
              </a:rPr>
              <a:t>Шаховской район, Московская облас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550"/>
                            </p:stCondLst>
                            <p:childTnLst>
                              <p:par>
                                <p:cTn id="13" nodeType="afterEffect" fill="hold" presetClass="entr" presetID="5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3250"/>
                            </p:stCondLst>
                            <p:childTnLst>
                              <p:par>
                                <p:cTn id="20" nodeType="afterEffect" fill="hold" presetClass="entr" presetID="5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4750"/>
                            </p:stCondLst>
                            <p:childTnLst>
                              <p:par>
                                <p:cTn id="27" nodeType="afterEffect" fill="hold" presetClass="entr" presetID="5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6350"/>
                            </p:stCondLst>
                            <p:childTnLst>
                              <p:par>
                                <p:cTn id="34" nodeType="afterEffect" fill="hold" presetClass="entr" presetID="5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ecff"/>
                </a:solidFill>
                <a:latin typeface="Arial"/>
              </a:rPr>
              <a:t>Решетка Пеннет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67" name=""/>
          <p:cNvGraphicFramePr/>
          <p:nvPr/>
        </p:nvGraphicFramePr>
        <p:xfrm>
          <a:off x="457200" y="1600200"/>
          <a:ext cx="8229240" cy="4525560"/>
        </p:xfrm>
        <a:graphic>
          <a:graphicData uri="http://schemas.openxmlformats.org/drawingml/2006/table">
            <a:tbl>
              <a:tblPr/>
              <a:tblGrid>
                <a:gridCol w="2743200"/>
                <a:gridCol w="2742840"/>
                <a:gridCol w="2743200"/>
              </a:tblGrid>
              <a:tr h="150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1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¼ А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арие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¼ А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арие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0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¼ А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арие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¼ А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арие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8" name=""/>
          <p:cNvSpPr/>
          <p:nvPr/>
        </p:nvSpPr>
        <p:spPr>
          <a:xfrm>
            <a:off x="468360" y="1628640"/>
            <a:ext cx="2735280" cy="1440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484360" y="1700280"/>
            <a:ext cx="482760" cy="50328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611280" y="2349360"/>
            <a:ext cx="504720" cy="48132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А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fill="hold">
                      <p:stCondLst>
                        <p:cond delay="0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1000"/>
                            </p:stCondLst>
                            <p:childTnLst>
                              <p:par>
                                <p:cTn id="49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7" dur="5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0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3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6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Сцепленное с полом наследование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72" name=""/>
          <p:cNvGraphicFramePr/>
          <p:nvPr/>
        </p:nvGraphicFramePr>
        <p:xfrm>
          <a:off x="457200" y="1600200"/>
          <a:ext cx="8229600" cy="455940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50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r>
                        <a:rPr b="0" lang="ru-RU" sz="28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r>
                        <a:rPr b="0" lang="ru-RU" sz="28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5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r>
                        <a:rPr b="0" lang="ru-RU" sz="28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¼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r>
                        <a:rPr b="0" lang="ru-RU" sz="28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А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r>
                        <a:rPr b="0" lang="ru-RU" sz="28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Долгожит.+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¼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r>
                        <a:rPr b="0" lang="ru-RU" sz="28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А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r>
                        <a:rPr b="0" lang="ru-RU" sz="28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Долгожит.+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03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¼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r>
                        <a:rPr b="0" lang="ru-RU" sz="28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А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олгожит.</a:t>
                      </a:r>
                      <a:r>
                        <a:rPr b="0" lang="ru-RU" sz="18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¼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r>
                        <a:rPr b="0" lang="ru-RU" sz="28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а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олгожит.</a:t>
                      </a:r>
                      <a:r>
                        <a:rPr b="0" lang="ru-RU" sz="18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3" name=""/>
          <p:cNvSpPr/>
          <p:nvPr/>
        </p:nvSpPr>
        <p:spPr>
          <a:xfrm>
            <a:off x="468360" y="1628640"/>
            <a:ext cx="2735280" cy="1440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268360" y="1700280"/>
            <a:ext cx="625680" cy="57636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ru-RU" sz="1800" spc="-1" strike="noStrike" baseline="30000">
                <a:solidFill>
                  <a:srgbClr val="ffffff"/>
                </a:solidFill>
                <a:latin typeface="Arial"/>
              </a:rPr>
              <a:t>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ru-RU" sz="1800" spc="-1" strike="noStrike" baseline="30000">
                <a:solidFill>
                  <a:srgbClr val="ffffff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574560" cy="48276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ru-RU" sz="1800" spc="-1" strike="noStrike" baseline="30000">
                <a:solidFill>
                  <a:srgbClr val="ffffff"/>
                </a:solidFill>
                <a:latin typeface="Arial"/>
              </a:rPr>
              <a:t>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7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1850"/>
                            </p:stCondLst>
                            <p:childTnLst>
                              <p:par>
                                <p:cTn id="5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1" dur="5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4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7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0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Наследование признаков, сцепленных с полом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оминантные гены, локализованные в Х – хромосом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ецессивные гены, локализованные в Х – хромосом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ены, локализованные в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– хромосом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Явление сцепленного наследия и кроссингове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fill="hold">
                      <p:stCondLst>
                        <p:cond delay="0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7" dur="80"/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8" dur="80"/>
                                        <p:tgtEl>
                                          <p:spTgt spid="2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9" dur="80"/>
                                        <p:tgtEl>
                                          <p:spTgt spid="2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fill="hold">
                            <p:stCondLst>
                              <p:cond delay="1560"/>
                            </p:stCondLst>
                            <p:childTnLst>
                              <p:par>
                                <p:cTn id="54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3" dur="80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4" dur="80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5" dur="80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3280"/>
                            </p:stCondLst>
                            <p:childTnLst>
                              <p:par>
                                <p:cTn id="54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9" dur="80"/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0" dur="80"/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1" dur="80"/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fill="hold">
                            <p:stCondLst>
                              <p:cond delay="5000"/>
                            </p:stCondLst>
                            <p:childTnLst>
                              <p:par>
                                <p:cTn id="55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5" dur="80"/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6" dur="80"/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7" dur="80"/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fill="hold">
                            <p:stCondLst>
                              <p:cond delay="6280"/>
                            </p:stCondLst>
                            <p:childTnLst>
                              <p:par>
                                <p:cTn id="55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1" dur="80"/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2" dur="80"/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3" dur="80"/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611280" y="333360"/>
            <a:ext cx="813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ecff"/>
                </a:solidFill>
                <a:latin typeface="Arial"/>
              </a:rPr>
              <a:t>Доминантные гены, локализованные в х - хромосом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50920" y="1700280"/>
            <a:ext cx="8893080" cy="552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: </a:t>
            </a:r>
            <a:r>
              <a:rPr b="0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гипоплазия эмали </a:t>
            </a:r>
            <a:r>
              <a:rPr b="0" lang="ru-RU" sz="3200" spc="-1" strike="noStrike" u="sng" baseline="30000">
                <a:solidFill>
                  <a:srgbClr val="ffffff"/>
                </a:solidFill>
                <a:uFillTx/>
                <a:latin typeface="Arial"/>
              </a:rPr>
              <a:t>+</a:t>
            </a:r>
            <a:r>
              <a:rPr b="0" lang="en-US" sz="3200" spc="-1" strike="noStrike" u="sng" baseline="30000">
                <a:solidFill>
                  <a:srgbClr val="ffffff"/>
                </a:solidFill>
                <a:uFillTx/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x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гипоплазия эмали</a:t>
            </a:r>
            <a:r>
              <a:rPr b="0" lang="ru-RU" sz="3200" spc="-1" strike="noStrike" u="sng" baseline="30000">
                <a:solidFill>
                  <a:srgbClr val="ffffff"/>
                </a:solidFill>
                <a:uFillTx/>
                <a:latin typeface="Arial"/>
              </a:rPr>
              <a:t>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Х</a:t>
            </a:r>
            <a:r>
              <a:rPr b="1" lang="ru-RU" sz="3200" spc="-1" strike="noStrike" baseline="30000">
                <a:solidFill>
                  <a:srgbClr val="ffffff"/>
                </a:solidFill>
                <a:latin typeface="Arial"/>
              </a:rPr>
              <a:t>А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Х</a:t>
            </a:r>
            <a:r>
              <a:rPr b="1" lang="ru-RU" sz="3200" spc="-1" strike="noStrike" baseline="30000">
                <a:solidFill>
                  <a:srgbClr val="ffffff"/>
                </a:solidFill>
                <a:latin typeface="Arial"/>
              </a:rPr>
              <a:t>а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            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Х</a:t>
            </a:r>
            <a:r>
              <a:rPr b="1" lang="ru-RU" sz="3200" spc="-1" strike="noStrike" baseline="30000">
                <a:solidFill>
                  <a:srgbClr val="ffffff"/>
                </a:solidFill>
                <a:latin typeface="Arial"/>
              </a:rPr>
              <a:t>А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ейоз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: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лучайное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плодотворе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3200" spc="-1" strike="noStrike" baseline="-25000">
                <a:solidFill>
                  <a:srgbClr val="ffffff"/>
                </a:solidFill>
                <a:latin typeface="Arial"/>
              </a:rPr>
              <a:t>        </a:t>
            </a: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гипоплазия эмали-</a:t>
            </a:r>
            <a:r>
              <a:rPr b="0" lang="ru-RU" sz="3200" spc="-1" strike="noStrike" baseline="30000">
                <a:solidFill>
                  <a:srgbClr val="ffffff"/>
                </a:solidFill>
                <a:latin typeface="Arial"/>
              </a:rPr>
              <a:t>                                 </a:t>
            </a:r>
            <a:r>
              <a:rPr b="1" lang="ru-RU" sz="3200" spc="-1" strike="noStrike" u="sng" baseline="30000">
                <a:solidFill>
                  <a:srgbClr val="ffffff"/>
                </a:solidFill>
                <a:uFillTx/>
                <a:latin typeface="Arial"/>
              </a:rPr>
              <a:t>гипоплазия эмали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¼ Х</a:t>
            </a:r>
            <a:r>
              <a:rPr b="1" lang="ru-RU" sz="3200" spc="-1" strike="noStrike" baseline="30000">
                <a:solidFill>
                  <a:srgbClr val="ffffff"/>
                </a:solidFill>
                <a:latin typeface="Arial"/>
              </a:rPr>
              <a:t>а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Х</a:t>
            </a:r>
            <a:r>
              <a:rPr b="1" lang="ru-RU" sz="3200" spc="-1" strike="noStrike" baseline="30000">
                <a:solidFill>
                  <a:srgbClr val="ffffff"/>
                </a:solidFill>
                <a:latin typeface="Arial"/>
              </a:rPr>
              <a:t>а                                                           1/4   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Х</a:t>
            </a:r>
            <a:r>
              <a:rPr b="1" lang="ru-RU" sz="3200" spc="-1" strike="noStrike" baseline="30000">
                <a:solidFill>
                  <a:srgbClr val="ffffff"/>
                </a:solidFill>
                <a:latin typeface="Arial"/>
              </a:rPr>
              <a:t>А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гипоплазия эмали</a:t>
            </a:r>
            <a:r>
              <a:rPr b="1" lang="ru-RU" sz="32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гипоплазия</a:t>
            </a:r>
            <a:r>
              <a:rPr b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1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эмали</a:t>
            </a:r>
            <a:r>
              <a:rPr b="1" lang="ru-RU" sz="1800" spc="-1" strike="noStrike" u="sng" baseline="30000">
                <a:solidFill>
                  <a:srgbClr val="ffffff"/>
                </a:solidFill>
                <a:uFillTx/>
                <a:latin typeface="Arial"/>
              </a:rPr>
              <a:t>+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/4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Х</a:t>
            </a:r>
            <a:r>
              <a:rPr b="0" lang="ru-RU" sz="3200" spc="-1" strike="noStrike" baseline="30000">
                <a:solidFill>
                  <a:srgbClr val="ffffff"/>
                </a:solidFill>
                <a:latin typeface="Arial"/>
              </a:rPr>
              <a:t>А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Х</a:t>
            </a:r>
            <a:r>
              <a:rPr b="0" lang="ru-RU" sz="3200" spc="-1" strike="noStrike" baseline="30000">
                <a:solidFill>
                  <a:srgbClr val="ffffff"/>
                </a:solidFill>
                <a:latin typeface="Arial"/>
              </a:rPr>
              <a:t>а                                                             1/4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Х</a:t>
            </a:r>
            <a:r>
              <a:rPr b="0" lang="ru-RU" sz="3200" spc="-1" strike="noStrike" baseline="30000">
                <a:solidFill>
                  <a:srgbClr val="ffffff"/>
                </a:solidFill>
                <a:latin typeface="Arial"/>
              </a:rPr>
              <a:t>а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908000" y="3213000"/>
            <a:ext cx="554040" cy="50328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3348000" y="3213000"/>
            <a:ext cx="576360" cy="50508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308720" y="3213000"/>
            <a:ext cx="576360" cy="57636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724360" y="3213000"/>
            <a:ext cx="627120" cy="57636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4788000" y="2133720"/>
            <a:ext cx="0" cy="2808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042920" y="5300640"/>
            <a:ext cx="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900000" y="5516640"/>
            <a:ext cx="287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5651640" y="4436640"/>
            <a:ext cx="287280" cy="289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5435640" y="4724280"/>
            <a:ext cx="431640" cy="457200"/>
          </a:xfrm>
          <a:prstGeom prst="flowChartConnector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826920" y="4869000"/>
            <a:ext cx="432000" cy="431640"/>
          </a:xfrm>
          <a:prstGeom prst="flowChartConnector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0" y="1484280"/>
            <a:ext cx="9144000" cy="53737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564" dur="indefinite" restart="never" nodeType="tmRoot">
          <p:childTnLst>
            <p:seq>
              <p:cTn id="565" dur="indefinite" nodeType="mainSeq">
                <p:childTnLst>
                  <p:par>
                    <p:cTn id="566" fill="hold">
                      <p:stCondLst>
                        <p:cond delay="0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withEffect" fill="hold" presetClass="entr" presetID="53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2" dur="500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850"/>
                            </p:stCondLst>
                            <p:childTnLst>
                              <p:par>
                                <p:cTn id="574" nodeType="after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575" dur="5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0" y="333360"/>
            <a:ext cx="882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ecff"/>
                </a:solidFill>
                <a:latin typeface="Arial"/>
              </a:rPr>
              <a:t>Рецессивные  гены, локализованные в х - хромосом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24000" y="1628640"/>
            <a:ext cx="8569080" cy="51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: </a:t>
            </a: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нарушенное потоотделение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нормальное потоотделени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Х</a:t>
            </a:r>
            <a:r>
              <a:rPr b="1" lang="ru-RU" sz="2800" spc="-1" strike="noStrike" baseline="30000">
                <a:solidFill>
                  <a:srgbClr val="ffffff"/>
                </a:solidFill>
                <a:latin typeface="Arial"/>
              </a:rPr>
              <a:t>а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Х</a:t>
            </a:r>
            <a:r>
              <a:rPr b="1" lang="ru-RU" sz="2800" spc="-1" strike="noStrike" baseline="30000">
                <a:solidFill>
                  <a:srgbClr val="ffffff"/>
                </a:solidFill>
                <a:latin typeface="Arial"/>
              </a:rPr>
              <a:t>а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                                     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Х</a:t>
            </a:r>
            <a:r>
              <a:rPr b="1" lang="ru-RU" sz="2800" spc="-1" strike="noStrike" baseline="30000">
                <a:solidFill>
                  <a:srgbClr val="ffffff"/>
                </a:solidFill>
                <a:latin typeface="Arial"/>
              </a:rPr>
              <a:t>А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ейоз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: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лучайное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плодотворени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1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                               </a:t>
            </a: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нарушенное потоотделение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           % 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                    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½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lang="en-US" sz="3200" spc="-1" strike="noStrike" baseline="30000">
                <a:solidFill>
                  <a:srgbClr val="ffffff"/>
                </a:solidFill>
                <a:latin typeface="Arial"/>
              </a:rPr>
              <a:t>a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                                </a:t>
            </a: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нормальное потоотделени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                                           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1/2 Х</a:t>
            </a:r>
            <a:r>
              <a:rPr b="1" lang="ru-RU" sz="3200" spc="-1" strike="noStrike" baseline="30000">
                <a:solidFill>
                  <a:srgbClr val="ffffff"/>
                </a:solidFill>
                <a:latin typeface="Arial"/>
              </a:rPr>
              <a:t>А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Х</a:t>
            </a:r>
            <a:r>
              <a:rPr b="1" lang="ru-RU" sz="3200" spc="-1" strike="noStrike" baseline="30000">
                <a:solidFill>
                  <a:srgbClr val="ffffff"/>
                </a:solidFill>
                <a:latin typeface="Arial"/>
              </a:rPr>
              <a:t>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572000" y="1916280"/>
            <a:ext cx="0" cy="21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1763640" y="2997360"/>
            <a:ext cx="457200" cy="433080"/>
          </a:xfrm>
          <a:prstGeom prst="flowChartConnector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Х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1187280" y="4508640"/>
            <a:ext cx="457200" cy="431640"/>
          </a:xfrm>
          <a:prstGeom prst="flowChartConnector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5651640" y="2997360"/>
            <a:ext cx="457200" cy="457200"/>
          </a:xfrm>
          <a:prstGeom prst="flowChartConnector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Х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7020000" y="2924280"/>
            <a:ext cx="457200" cy="457200"/>
          </a:xfrm>
          <a:prstGeom prst="flowChartConnector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 rot="10800000">
            <a:off x="1332000" y="5589360"/>
            <a:ext cx="457200" cy="433080"/>
          </a:xfrm>
          <a:prstGeom prst="flowChartConnector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547640" y="6021360"/>
            <a:ext cx="0" cy="432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476360" y="623736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V="1">
            <a:off x="1403280" y="4365360"/>
            <a:ext cx="360360" cy="142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0" y="1557360"/>
            <a:ext cx="9144000" cy="53006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fill="hold">
                      <p:stCondLst>
                        <p:cond delay="0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7" dur="500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2550"/>
                            </p:stCondLst>
                            <p:childTnLst>
                              <p:par>
                                <p:cTn id="589" nodeType="after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590" dur="5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324000" y="333360"/>
            <a:ext cx="8424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ecff"/>
                </a:solidFill>
                <a:latin typeface="Arial"/>
              </a:rPr>
              <a:t>Гены, локализованные в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Y</a:t>
            </a:r>
            <a:r>
              <a:rPr b="1" lang="ru-RU" sz="4000" spc="-1" strike="noStrike">
                <a:solidFill>
                  <a:srgbClr val="ccecff"/>
                </a:solidFill>
                <a:latin typeface="Arial"/>
              </a:rPr>
              <a:t>- хромосом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95280" y="1700280"/>
            <a:ext cx="8136000" cy="66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: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Гипертрихоз</a:t>
            </a:r>
            <a:r>
              <a:rPr b="1" lang="ru-RU" sz="2400" spc="-1" strike="noStrike" u="sng" baseline="30000">
                <a:solidFill>
                  <a:srgbClr val="ffffff"/>
                </a:solidFill>
                <a:uFillTx/>
                <a:latin typeface="Arial"/>
              </a:rPr>
              <a:t>-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Гипертрихоз</a:t>
            </a:r>
            <a:r>
              <a:rPr b="1" lang="ru-RU" sz="2400" spc="-1" strike="noStrike" u="sng" baseline="30000">
                <a:solidFill>
                  <a:srgbClr val="ffffff"/>
                </a:solidFill>
                <a:uFillTx/>
                <a:latin typeface="Arial"/>
              </a:rPr>
              <a:t>+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Х Х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       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Х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Y</a:t>
            </a:r>
            <a:r>
              <a:rPr b="1" lang="ru-RU" sz="3200" spc="-1" strike="noStrike" baseline="30000">
                <a:solidFill>
                  <a:srgbClr val="ffffff"/>
                </a:solidFill>
                <a:latin typeface="Arial"/>
              </a:rPr>
              <a:t>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ейоз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лучайно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плодотворе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1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: 100%                                  : 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Гипертрихоз</a:t>
            </a:r>
            <a:r>
              <a:rPr b="1" lang="ru-RU" sz="2400" spc="-1" strike="noStrike" u="sng" baseline="30000">
                <a:solidFill>
                  <a:srgbClr val="ffffff"/>
                </a:solidFill>
                <a:uFillTx/>
                <a:latin typeface="Arial"/>
              </a:rPr>
              <a:t>-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Гипертрихоз</a:t>
            </a:r>
            <a:r>
              <a:rPr b="1" lang="ru-RU" sz="2400" spc="-1" strike="noStrike" u="sng" baseline="30000">
                <a:solidFill>
                  <a:srgbClr val="ffffff"/>
                </a:solidFill>
                <a:uFillTx/>
                <a:latin typeface="Arial"/>
              </a:rPr>
              <a:t>+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ХХ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                            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Х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Y</a:t>
            </a:r>
            <a:r>
              <a:rPr b="1" lang="ru-RU" sz="3200" spc="-1" strike="noStrike" baseline="30000">
                <a:solidFill>
                  <a:srgbClr val="ffffff"/>
                </a:solidFill>
                <a:latin typeface="Arial"/>
              </a:rPr>
              <a:t>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     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995640" y="2133720"/>
            <a:ext cx="0" cy="28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1692360" y="3284640"/>
            <a:ext cx="431640" cy="457200"/>
          </a:xfrm>
          <a:prstGeom prst="flowChartConnector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284720" y="3141720"/>
            <a:ext cx="457200" cy="457200"/>
          </a:xfrm>
          <a:prstGeom prst="flowChartConnector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5435640" y="3141720"/>
            <a:ext cx="457200" cy="457200"/>
          </a:xfrm>
          <a:prstGeom prst="flowChartConnector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1116000" y="5084640"/>
            <a:ext cx="457200" cy="457200"/>
          </a:xfrm>
          <a:prstGeom prst="flowChartConnector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716360" y="5084640"/>
            <a:ext cx="457200" cy="457200"/>
          </a:xfrm>
          <a:prstGeom prst="flowChartConnector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V="1">
            <a:off x="4859280" y="4868640"/>
            <a:ext cx="358920" cy="21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908000" y="436572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1332000" y="5516640"/>
            <a:ext cx="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258920" y="5734080"/>
            <a:ext cx="144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0" y="1568520"/>
            <a:ext cx="9144000" cy="53006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592" dur="indefinite" restart="never" nodeType="tmRoot">
          <p:childTnLst>
            <p:seq>
              <p:cTn id="593" dur="indefinite" nodeType="mainSeq">
                <p:childTnLst>
                  <p:par>
                    <p:cTn id="594" fill="hold">
                      <p:stCondLst>
                        <p:cond delay="0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fill="hold">
                            <p:stCondLst>
                              <p:cond delay="1450"/>
                            </p:stCondLst>
                            <p:childTnLst>
                              <p:par>
                                <p:cTn id="605" nodeType="after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606" dur="5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Ответ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Учитывать следующие моменты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Если вопрос звучит так: «Какова вероятность…?», то ответ необходимо выражать в долях, частях, процентах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Если в результате проделанной работы справедливым итогом считается невозможность получения положительного  ответа, даётся отрицательный отве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Если условие задачи построено таким образом, что не исключается наличие двух вариантов её решения, нужно через запятую привести и тот, и другой ответ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608" dur="indefinite" restart="never" nodeType="tmRoot">
          <p:childTnLst>
            <p:seq>
              <p:cTn id="609" dur="indefinite" nodeType="mainSeq">
                <p:childTnLst>
                  <p:par>
                    <p:cTn id="610" fill="hold">
                      <p:stCondLst>
                        <p:cond delay="0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4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6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1000"/>
                            </p:stCondLst>
                            <p:childTnLst>
                              <p:par>
                                <p:cTn id="618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1000" fill="hold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1000" fill="hold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4" dur="10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fill="hold">
                            <p:stCondLst>
                              <p:cond delay="2000"/>
                            </p:stCondLst>
                            <p:childTnLst>
                              <p:par>
                                <p:cTn id="626" nodeType="afterEffect" fill="hold" presetClass="entr" presetID="54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2" dur="1000"/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fill="hold">
                            <p:stCondLst>
                              <p:cond delay="4900"/>
                            </p:stCondLst>
                            <p:childTnLst>
                              <p:par>
                                <p:cTn id="634" nodeType="afterEffect" fill="hold" presetClass="entr" presetID="54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0" dur="500"/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fill="hold">
                            <p:stCondLst>
                              <p:cond delay="6150"/>
                            </p:stCondLst>
                            <p:childTnLst>
                              <p:par>
                                <p:cTn id="642" nodeType="afterEffect" fill="hold" presetClass="entr" presetID="54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3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3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3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3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8" dur="500"/>
                                        <p:tgtEl>
                                          <p:spTgt spid="3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8e4"/>
                </a:solidFill>
                <a:latin typeface="Arial"/>
              </a:rPr>
              <a:t>ОСНОВНЫЕ</a:t>
            </a:r>
            <a:r>
              <a:rPr b="0" lang="en-US" sz="4400" spc="-1" strike="noStrike">
                <a:solidFill>
                  <a:srgbClr val="0088e4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88e4"/>
                </a:solidFill>
                <a:latin typeface="Arial"/>
              </a:rPr>
              <a:t>МОМЕНТЫ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01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8e4"/>
                </a:solidFill>
                <a:latin typeface="Arial"/>
              </a:rPr>
              <a:t>УСЛОВИЯ ЗАДАЧ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8e4"/>
                </a:solidFill>
                <a:latin typeface="Arial"/>
              </a:rPr>
              <a:t>ТАБЛИЦА «ГЕН - ПРИЗНАК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8e4"/>
                </a:solidFill>
                <a:latin typeface="Arial"/>
              </a:rPr>
              <a:t>СХЕМА СКРЕЩИВАНИ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8e4"/>
                </a:solidFill>
                <a:latin typeface="Arial"/>
              </a:rPr>
              <a:t>РЕШЁТКА ПЕННЕТ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8e4"/>
                </a:solidFill>
                <a:latin typeface="Arial"/>
              </a:rPr>
              <a:t>ОТВЕ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>
            <a:hlinkClick r:id="" action="ppaction://hlinkshowjump?jump=firstslide"/>
          </p:cNvPr>
          <p:cNvSpPr/>
          <p:nvPr/>
        </p:nvSpPr>
        <p:spPr>
          <a:xfrm>
            <a:off x="5796000" y="3789360"/>
            <a:ext cx="3097080" cy="2664000"/>
          </a:xfrm>
          <a:custGeom>
            <a:avLst/>
            <a:gdLst>
              <a:gd name="textAreaLeft" fmla="*/ 172440 w 3097080"/>
              <a:gd name="textAreaRight" fmla="*/ 2924640 w 3097080"/>
              <a:gd name="textAreaTop" fmla="*/ 172440 h 2664000"/>
              <a:gd name="textAreaBottom" fmla="*/ 2491560 h 2664000"/>
            </a:gdLst>
            <a:ahLst/>
            <a:rect l="textAreaLeft" t="textAreaTop" r="textAreaRight" b="textAreaBottom"/>
            <a:pathLst>
              <a:path w="25111" h="21600">
                <a:moveTo>
                  <a:pt x="0" y="0"/>
                </a:moveTo>
                <a:lnTo>
                  <a:pt x="25111" y="0"/>
                </a:lnTo>
                <a:lnTo>
                  <a:pt x="25111" y="21600"/>
                </a:lnTo>
                <a:lnTo>
                  <a:pt x="0" y="21600"/>
                </a:lnTo>
                <a:close/>
              </a:path>
              <a:path fill="lightenLess" w="25111" h="21600">
                <a:moveTo>
                  <a:pt x="0" y="0"/>
                </a:moveTo>
                <a:lnTo>
                  <a:pt x="25111" y="0"/>
                </a:lnTo>
                <a:lnTo>
                  <a:pt x="23711" y="1400"/>
                </a:lnTo>
                <a:lnTo>
                  <a:pt x="1400" y="1400"/>
                </a:lnTo>
                <a:close/>
              </a:path>
              <a:path fill="darken" w="25111" h="21600">
                <a:moveTo>
                  <a:pt x="25111" y="0"/>
                </a:moveTo>
                <a:lnTo>
                  <a:pt x="25111" y="21600"/>
                </a:lnTo>
                <a:lnTo>
                  <a:pt x="23711" y="20200"/>
                </a:lnTo>
                <a:lnTo>
                  <a:pt x="23711" y="1400"/>
                </a:lnTo>
                <a:close/>
              </a:path>
              <a:path fill="darkenLess" w="25111" h="21600">
                <a:moveTo>
                  <a:pt x="251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11" y="20200"/>
                </a:lnTo>
                <a:close/>
              </a:path>
              <a:path fill="lighten" w="251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11" h="21600">
                <a:moveTo>
                  <a:pt x="12555" y="3837"/>
                </a:moveTo>
                <a:lnTo>
                  <a:pt x="15132" y="6448"/>
                </a:lnTo>
                <a:lnTo>
                  <a:pt x="15132" y="4707"/>
                </a:lnTo>
                <a:lnTo>
                  <a:pt x="16907" y="4707"/>
                </a:lnTo>
                <a:lnTo>
                  <a:pt x="16907" y="8224"/>
                </a:lnTo>
                <a:lnTo>
                  <a:pt x="19518" y="10800"/>
                </a:lnTo>
                <a:lnTo>
                  <a:pt x="17865" y="10800"/>
                </a:lnTo>
                <a:lnTo>
                  <a:pt x="17865" y="17989"/>
                </a:lnTo>
                <a:lnTo>
                  <a:pt x="7246" y="17989"/>
                </a:lnTo>
                <a:lnTo>
                  <a:pt x="7246" y="10800"/>
                </a:lnTo>
                <a:lnTo>
                  <a:pt x="5593" y="10800"/>
                </a:lnTo>
                <a:close/>
              </a:path>
              <a:path fill="darkenLess" w="25111" h="21600">
                <a:moveTo>
                  <a:pt x="15132" y="6448"/>
                </a:moveTo>
                <a:lnTo>
                  <a:pt x="15132" y="4707"/>
                </a:lnTo>
                <a:lnTo>
                  <a:pt x="16907" y="4707"/>
                </a:lnTo>
                <a:lnTo>
                  <a:pt x="16907" y="8224"/>
                </a:lnTo>
                <a:close/>
              </a:path>
              <a:path fill="darkenLess" w="25111" h="21600">
                <a:moveTo>
                  <a:pt x="11633" y="14299"/>
                </a:moveTo>
                <a:lnTo>
                  <a:pt x="13478" y="14299"/>
                </a:lnTo>
                <a:lnTo>
                  <a:pt x="13478" y="17989"/>
                </a:lnTo>
                <a:lnTo>
                  <a:pt x="17865" y="17989"/>
                </a:lnTo>
                <a:lnTo>
                  <a:pt x="17865" y="10800"/>
                </a:lnTo>
                <a:lnTo>
                  <a:pt x="7246" y="10800"/>
                </a:lnTo>
                <a:lnTo>
                  <a:pt x="7246" y="17989"/>
                </a:lnTo>
                <a:lnTo>
                  <a:pt x="11633" y="17989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445440" y="573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229800" y="5013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7166160" y="4005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8082360" y="4960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886880" y="573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200"/>
                            </p:stCondLst>
                            <p:childTnLst>
                              <p:par>
                                <p:cTn id="5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700"/>
                            </p:stCondLst>
                            <p:childTnLst>
                              <p:par>
                                <p:cTn id="5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ff99"/>
                </a:solidFill>
                <a:latin typeface="Arial"/>
              </a:rPr>
              <a:t>УСЛОВИЯ ЗАДАЧ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НИМАТЕЛЬНО ПРОЧИТАТЬ ТЕКСТ ЗАДАЧ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ЫДЕЛИТЬ ИНФОРМАЦИЮ, КОТОРАЯ НЕОБХОДИМА ДЛЯ РЕШЕНИЯ ЗАДАЧ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ЫЯСНИТЬ, ЧТО ЕСТЬ И ВСЕ ЛИ ЕСТЬ ДЛЯ РЕШЕНИЯ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ПРЕДЕЛИТЬТИП НАСЛЕДОВАНИЯ: ДОМИНАНТНОСТЬ (ПОЛНАЯ ИЛИ НЕПОЛНАЯ), РЕЦЕССИВНОСТЬ, АУТОСОМНОСТЬ ИЛИ СЦЕПЛЕНО ЛИ НАСЛЕДОВАНИЕ С ПОЛОМ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5" dur="5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500"/>
                            </p:stCondLst>
                            <p:childTnLst>
                              <p:par>
                                <p:cTn id="13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9" dur="500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2000"/>
                            </p:stCondLst>
                            <p:childTnLst>
                              <p:par>
                                <p:cTn id="14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3" dur="500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500"/>
                            </p:stCondLst>
                            <p:childTnLst>
                              <p:par>
                                <p:cTn id="14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7" dur="500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ff99"/>
                </a:solidFill>
                <a:latin typeface="Arial"/>
              </a:rPr>
              <a:t>ГЕН – ПРИЗНАК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457200" y="1600200"/>
          <a:ext cx="8229240" cy="3462120"/>
        </p:xfrm>
        <a:graphic>
          <a:graphicData uri="http://schemas.openxmlformats.org/drawingml/2006/table">
            <a:tbl>
              <a:tblPr/>
              <a:tblGrid>
                <a:gridCol w="4114440"/>
                <a:gridCol w="4114800"/>
              </a:tblGrid>
              <a:tr h="119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ГЕН,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НТРОЛИРУЮЩИЙ ПРИЗНАК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ИЗНАК,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НТРОЛИРУЕМЫЙ ГЕНОМ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113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ареглазость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голубоглазость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113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аворукость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леворукость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</a:tr>
            </a:tbl>
          </a:graphicData>
        </a:graphic>
      </p:graphicFrame>
      <p:sp>
        <p:nvSpPr>
          <p:cNvPr id="224" name=""/>
          <p:cNvSpPr/>
          <p:nvPr/>
        </p:nvSpPr>
        <p:spPr>
          <a:xfrm>
            <a:off x="611280" y="5373720"/>
            <a:ext cx="813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 ГЕНЕТИКЕ ЧЕЛОВЕКА СУЩЕСТВУЮТ ТРИ СЛУЧАЯ, КОГДА НЕ ТОЛЬКО ДОПУСКАЕТСЯ, НО ДАЖЕ НАСТОЯТЕЛЬНО РЕКОМЕНДУЕТСЯ ОБОЗНАЧАТЬ ГЕН «ОТОРВАННОЙ» ОТ НАЗВАНИЯ ПРИЗНАКА ОДНОЙ БУКВОЙ ИЛИ ДВУМ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4" dur="8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5" dur="8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6" dur="8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80"/>
                            </p:stCondLst>
                            <p:childTnLst>
                              <p:par>
                                <p:cTn id="15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980"/>
                            </p:stCondLst>
                            <p:childTnLst>
                              <p:par>
                                <p:cTn id="16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611280" y="-11880"/>
            <a:ext cx="7848360" cy="40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  <a:ea typeface="Times New Roman"/>
              </a:rPr>
              <a:t>Менделевская генетика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  <a:ea typeface="Times New Roman"/>
              </a:rPr>
              <a:t>Опыты Менделя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Условия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ffffff"/>
              </a:buClr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Чистые лини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ffffff"/>
              </a:buClr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Полное доминирование А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&gt;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ffffff"/>
              </a:buClr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Каждый ген в отдельной хромосоме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2106720" y="4341240"/>
            <a:ext cx="3429360" cy="838800"/>
            <a:chOff x="2106720" y="4341240"/>
            <a:chExt cx="3429360" cy="838800"/>
          </a:xfrm>
        </p:grpSpPr>
        <p:sp>
          <p:nvSpPr>
            <p:cNvPr id="227" name=""/>
            <p:cNvSpPr/>
            <p:nvPr/>
          </p:nvSpPr>
          <p:spPr>
            <a:xfrm>
              <a:off x="2220840" y="4341240"/>
              <a:ext cx="720" cy="83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 flipV="1">
              <a:off x="2106720" y="4676040"/>
              <a:ext cx="22824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677680" y="4341240"/>
              <a:ext cx="0" cy="83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563560" y="4676400"/>
              <a:ext cx="22896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592440" y="4341240"/>
              <a:ext cx="0" cy="83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478680" y="4676400"/>
              <a:ext cx="22824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078520" y="4341240"/>
              <a:ext cx="720" cy="83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964400" y="4676400"/>
              <a:ext cx="22824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964400" y="4845240"/>
              <a:ext cx="22824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421960" y="4341240"/>
              <a:ext cx="0" cy="83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307120" y="4676400"/>
              <a:ext cx="22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307120" y="4845240"/>
              <a:ext cx="22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935160" y="4341240"/>
              <a:ext cx="0" cy="83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821040" y="4676400"/>
              <a:ext cx="22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1" name=""/>
          <p:cNvSpPr/>
          <p:nvPr/>
        </p:nvSpPr>
        <p:spPr>
          <a:xfrm>
            <a:off x="1692360" y="4365720"/>
            <a:ext cx="4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771640" y="4437000"/>
            <a:ext cx="2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061440" y="4437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141800" y="4437000"/>
            <a:ext cx="36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574160" y="4365720"/>
            <a:ext cx="400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581440" y="4365720"/>
            <a:ext cx="36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350"/>
                            </p:stCondLst>
                            <p:childTnLst>
                              <p:par>
                                <p:cTn id="19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2350"/>
                            </p:stCondLst>
                            <p:childTnLst>
                              <p:par>
                                <p:cTn id="20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3900"/>
                            </p:stCondLst>
                            <p:childTnLst>
                              <p:par>
                                <p:cTn id="20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5750"/>
                            </p:stCondLst>
                            <p:childTnLst>
                              <p:par>
                                <p:cTn id="21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0" y="434160"/>
            <a:ext cx="9144000" cy="576468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Отклонения  от законов Менделя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Взаимодействие генов внутри одной аллельной пары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еполное доминировани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ножественный аллелиз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енетрантность (способность гена пробиваться в признак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лейотропия (множественное действие генов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Экспрессивность (пробиваемость ген в признак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Взаимодействие между генами внутри разных аллельных пар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Эпистаз (аллели одного гена подавляют проявление других генов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омплементарность (взаимодополняемость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лимерия (действие полимерных генов на развитие одного и тог же признака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Сцепление генов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 аутосомам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 половыми хромосомам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0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000"/>
                            </p:stCondLst>
                            <p:childTnLst>
                              <p:par>
                                <p:cTn id="26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3650"/>
                            </p:stCondLst>
                            <p:childTnLst>
                              <p:par>
                                <p:cTn id="269" nodeType="afterEffect" fill="hold" presetClass="entr" presetID="5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500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150"/>
                            </p:stCondLst>
                            <p:childTnLst>
                              <p:par>
                                <p:cTn id="277" nodeType="afterEffect" fill="hold" presetClass="entr" presetID="5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6650"/>
                            </p:stCondLst>
                            <p:childTnLst>
                              <p:par>
                                <p:cTn id="285" nodeType="afterEffect" fill="hold" presetClass="entr" presetID="5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500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9600"/>
                            </p:stCondLst>
                            <p:childTnLst>
                              <p:par>
                                <p:cTn id="293" nodeType="afterEffect" fill="hold" presetClass="entr" presetID="5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500"/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2000"/>
                            </p:stCondLst>
                            <p:childTnLst>
                              <p:par>
                                <p:cTn id="301" nodeType="afterEffect" fill="hold" presetClass="entr" presetID="5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2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2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2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2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2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14500"/>
                            </p:stCondLst>
                            <p:childTnLst>
                              <p:par>
                                <p:cTn id="30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2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2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2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15500"/>
                            </p:stCondLst>
                            <p:childTnLst>
                              <p:par>
                                <p:cTn id="315" nodeType="afterEffect" fill="hold" presetClass="entr" presetID="54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2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2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2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2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2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16450"/>
                            </p:stCondLst>
                            <p:childTnLst>
                              <p:par>
                                <p:cTn id="323" nodeType="afterEffect" fill="hold" presetClass="entr" presetID="55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2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2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2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17750"/>
                            </p:stCondLst>
                            <p:childTnLst>
                              <p:par>
                                <p:cTn id="329" nodeType="afterEffect" fill="hold" presetClass="entr" presetID="55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2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2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2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19950"/>
                            </p:stCondLst>
                            <p:childTnLst>
                              <p:par>
                                <p:cTn id="33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2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2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2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2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20950"/>
                            </p:stCondLst>
                            <p:childTnLst>
                              <p:par>
                                <p:cTn id="34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2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2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2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2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21950"/>
                            </p:stCondLst>
                            <p:childTnLst>
                              <p:par>
                                <p:cTn id="34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24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24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24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24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1677240" y="-360"/>
            <a:ext cx="5700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Три конкретных случая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1332000" y="836640"/>
          <a:ext cx="6076800" cy="2924280"/>
        </p:xfrm>
        <a:graphic>
          <a:graphicData uri="http://schemas.openxmlformats.org/drawingml/2006/table">
            <a:tbl>
              <a:tblPr/>
              <a:tblGrid>
                <a:gridCol w="1008000"/>
                <a:gridCol w="2030400"/>
                <a:gridCol w="1519200"/>
                <a:gridCol w="1519200"/>
              </a:tblGrid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и аутосомном наследовани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езус – фактор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Rh / rh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и наследовании, сцепленном с полом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альтонизм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1" lang="en-US" sz="20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/ X</a:t>
                      </a:r>
                      <a:r>
                        <a:rPr b="1" lang="en-US" sz="20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емофилия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1" lang="en-US" sz="20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/ X</a:t>
                      </a:r>
                      <a:r>
                        <a:rPr b="1" lang="en-US" sz="20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0" name=""/>
          <p:cNvSpPr/>
          <p:nvPr/>
        </p:nvSpPr>
        <p:spPr>
          <a:xfrm>
            <a:off x="2124000" y="3764520"/>
            <a:ext cx="525636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Неполное доминирование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1" name=""/>
          <p:cNvGraphicFramePr/>
          <p:nvPr/>
        </p:nvGraphicFramePr>
        <p:xfrm>
          <a:off x="1619280" y="4724280"/>
          <a:ext cx="6257880" cy="1731960"/>
        </p:xfrm>
        <a:graphic>
          <a:graphicData uri="http://schemas.openxmlformats.org/drawingml/2006/table">
            <a:tbl>
              <a:tblPr/>
              <a:tblGrid>
                <a:gridCol w="3128760"/>
                <a:gridCol w="31291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ен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изнак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_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Широкие листь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зкие листь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2" name=""/>
          <p:cNvSpPr/>
          <p:nvPr/>
        </p:nvSpPr>
        <p:spPr>
          <a:xfrm>
            <a:off x="684360" y="48308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0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withEffect" fill="hold" presetClass="entr" presetID="3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8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2" dur="8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8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8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300"/>
                            </p:stCondLst>
                            <p:childTnLst>
                              <p:par>
                                <p:cTn id="3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0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1800"/>
                            </p:stCondLst>
                            <p:childTnLst>
                              <p:par>
                                <p:cTn id="37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8" dur="50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3300"/>
                            </p:stCondLst>
                            <p:childTnLst>
                              <p:par>
                                <p:cTn id="3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2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3" name=""/>
          <p:cNvGraphicFramePr/>
          <p:nvPr/>
        </p:nvGraphicFramePr>
        <p:xfrm>
          <a:off x="468360" y="765000"/>
          <a:ext cx="8064000" cy="5256000"/>
        </p:xfrm>
        <a:graphic>
          <a:graphicData uri="http://schemas.openxmlformats.org/drawingml/2006/table">
            <a:tbl>
              <a:tblPr/>
              <a:tblGrid>
                <a:gridCol w="2688480"/>
                <a:gridCol w="2687040"/>
                <a:gridCol w="2688480"/>
              </a:tblGrid>
              <a:tr h="7509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ен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изнак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06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 (аутосомное наследовани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арие глаз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0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олубые глаз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13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 (Х-сцепленное наследование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r>
                        <a:rPr b="1" i="1" lang="en-US" sz="24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альтонизм </a:t>
                      </a:r>
                      <a:r>
                        <a:rPr b="1" i="1" lang="en-US" sz="24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0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r>
                        <a:rPr b="1" i="1" lang="en-US" sz="24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альтонизм </a:t>
                      </a:r>
                      <a:r>
                        <a:rPr b="1" i="1" lang="en-US" sz="24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0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 (</a:t>
                      </a:r>
                      <a:r>
                        <a:rPr b="1" i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r>
                        <a:rPr b="1" i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сцепленное наследование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r>
                        <a:rPr b="1" i="1" lang="en-US" sz="24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ипертрихоз</a:t>
                      </a:r>
                      <a:r>
                        <a:rPr b="1" i="1" lang="en-US" sz="24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0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r>
                        <a:rPr b="1" i="1" lang="en-US" sz="24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ипертрихоз </a:t>
                      </a:r>
                      <a:r>
                        <a:rPr b="1" i="1" lang="en-US" sz="24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4" name=""/>
          <p:cNvSpPr/>
          <p:nvPr/>
        </p:nvSpPr>
        <p:spPr>
          <a:xfrm>
            <a:off x="0" y="440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0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9" dur="5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Схема скрещивания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: 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карие глаза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x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голубые глаз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А                  а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ейоз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: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лучайно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плодотворе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карие глаз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          </a:t>
            </a:r>
            <a:r>
              <a:rPr b="0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Аа : Аа : Аа : А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050920" y="3141720"/>
            <a:ext cx="771480" cy="7920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500720" y="3141720"/>
            <a:ext cx="792000" cy="7920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203640" y="3141720"/>
            <a:ext cx="842760" cy="7920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651640" y="3141720"/>
            <a:ext cx="792000" cy="7920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flipH="1">
            <a:off x="5003280" y="2708280"/>
            <a:ext cx="360360" cy="433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651640" y="2708280"/>
            <a:ext cx="360360" cy="433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2484360" y="263700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203640" y="2637000"/>
            <a:ext cx="216000" cy="57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211640" y="2133720"/>
            <a:ext cx="0" cy="2735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0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8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1000"/>
                            </p:stCondLst>
                            <p:childTnLst>
                              <p:par>
                                <p:cTn id="4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2" dur="5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1800"/>
                            </p:stCondLst>
                            <p:childTnLst>
                              <p:par>
                                <p:cTn id="4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6" dur="500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9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2300"/>
                            </p:stCondLst>
                            <p:childTnLst>
                              <p:par>
                                <p:cTn id="4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3" dur="500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2800"/>
                            </p:stCondLst>
                            <p:childTnLst>
                              <p:par>
                                <p:cTn id="4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7" dur="500"/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3300"/>
                            </p:stCondLst>
                            <p:childTnLst>
                              <p:par>
                                <p:cTn id="4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1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4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3800"/>
                            </p:stCondLst>
                            <p:childTnLst>
                              <p:par>
                                <p:cTn id="42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0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4300"/>
                            </p:stCondLst>
                            <p:childTnLst>
                              <p:par>
                                <p:cTn id="43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6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4800"/>
                            </p:stCondLst>
                            <p:childTnLst>
                              <p:par>
                                <p:cTn id="4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0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3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5300"/>
                            </p:stCondLst>
                            <p:childTnLst>
                              <p:par>
                                <p:cTn id="4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9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5800"/>
                            </p:stCondLst>
                            <p:childTnLst>
                              <p:par>
                                <p:cTn id="45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5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6300"/>
                            </p:stCondLst>
                            <p:childTnLst>
                              <p:par>
                                <p:cTn id="45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2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2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1" dur="1000"/>
                                        <p:tgtEl>
                                          <p:spTgt spid="2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7300"/>
                            </p:stCondLst>
                            <p:childTnLst>
                              <p:par>
                                <p:cTn id="46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2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2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7" dur="1000"/>
                                        <p:tgtEl>
                                          <p:spTgt spid="2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8300"/>
                            </p:stCondLst>
                            <p:childTnLst>
                              <p:par>
                                <p:cTn id="46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2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2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2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2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5" dur="500"/>
                                        <p:tgtEl>
                                          <p:spTgt spid="2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9300"/>
                            </p:stCondLst>
                            <p:childTnLst>
                              <p:par>
                                <p:cTn id="47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2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2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2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2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3" dur="500"/>
                                        <p:tgtEl>
                                          <p:spTgt spid="2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6T15:24:28Z</dcterms:created>
  <dc:creator>Kyselev</dc:creator>
  <dc:description/>
  <dc:language>en-US</dc:language>
  <cp:lastModifiedBy>Александр</cp:lastModifiedBy>
  <dcterms:modified xsi:type="dcterms:W3CDTF">2008-06-26T10:00:50Z</dcterms:modified>
  <cp:revision>40</cp:revision>
  <dc:subject/>
  <dc:title>Слайд 1</dc:title>
</cp:coreProperties>
</file>