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27.png" ContentType="image/png"/>
  <Override PartName="/ppt/media/image48.jpeg" ContentType="image/jpeg"/>
  <Override PartName="/ppt/media/image50.jpeg" ContentType="image/jpeg"/>
  <Override PartName="/ppt/media/image13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ftr" idx="7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 type="sldNum" idx="7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3EDFF4-F3C9-437C-951B-00E44501DF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B5DF-78CA-4A1E-9FB4-E0D1D827D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1E2F-F39F-4F01-9ED7-68EDCA4BC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2903C0-E95E-49D9-8AD4-F79A6594BF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1EC0-1B4B-4D22-B210-787027705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CC1-A017-47A6-ACFC-35475202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AF1-862D-4B0B-98DA-C68F885F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DFA18-A102-435B-ABF6-3DE534DC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25843-82F3-4EDD-B663-46D0E087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DBEE1-F257-47EE-B96B-550FB14C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31A41-5CAC-4038-8F06-3B3622A4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36FA4-63D2-4F76-B114-FBD5916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CB1F8-D8FF-46E2-92BD-F358DC08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74806-523D-4BCD-B4EE-78D77D69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F8080-E167-42B2-B2A1-07177BD3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6847F-9D72-4ADA-9140-569C5E76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139B5-DFED-4F0D-B12F-D6203858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BEC-D466-40CF-9841-7221310D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DDA62-BD99-40A2-BA6D-4D1CB852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BF131-EDA6-4AEB-9F88-E46ADA5A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48919-CDF3-481F-AAC1-E62E5FAA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9DA2C-D0DC-47EF-8272-D5D2FC76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97DB8-5211-4597-A060-BB449C0F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728AE-F00B-4E29-9530-233A682E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47ACA-1009-4C29-9E3A-7DF33242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0613D-514E-4BB4-9E3D-4A68AB58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3641E-50B2-4DCA-BA4B-19B74506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21C82-BE89-417B-8A0E-88B027F3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473-9035-4A2E-B1E5-320AC238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0BFCE-E0D2-4357-ADAC-86CA24BE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52DBF-B1E5-4EBE-993A-0CE7534E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F2E30-C0D6-462C-85ED-83701A3A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05A2C-F070-471E-96E3-6B2CE1E4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75559-E77F-43BF-9716-CD5427B2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B7125-0EC6-4FC4-8936-8553B9BA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9E10C-ADB6-441A-B82D-593A50C0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CA955-BC36-4F06-8027-705FD345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78578-B659-4598-8085-2C03A560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A5E8C-7BBA-4452-A56D-6A863CE7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0D27-819B-4768-9297-C4F162A5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06B0F-9C46-46ED-BC96-E8CE51A8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2420D-C692-42EC-BF43-571CA39D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882F1-DC0C-4BC2-9448-413CC312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90072-BF40-47E8-A57A-E825D149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1D852-3F1D-4763-B11F-E430505E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D8C1C-8626-47E6-A1D9-3BA3F128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23708-B97D-4B37-A613-88CFC6D1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80F0A-0AFD-4A7E-A58F-8F831C46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38DCD-2F33-46D3-8A0E-46D5170E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EE2C5-30B2-4D67-9463-D06FCF8D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5BA2-25F8-4D3F-BD14-837E14F2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04982-2A9C-46B4-B65F-801B3429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3817D-D5DA-4664-A20F-E70EAE92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3612B-1158-4CB2-A576-D45ED7B4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83B80-0C7C-43F9-BD60-73E1D7F4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605C1-8844-4ABB-B5A7-A3EC1B88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5F8E4-ADBC-44A7-9292-3E3D30B6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0C13C-A552-4250-8A28-59C4C838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EBF37-6914-4B4F-86A5-39124FB1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C8001-B2BC-4868-9B95-F8128BF3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35193-9EA3-4776-BE71-E09B91A9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38A5-5BA9-4091-89DE-A62D0065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908EA-C5BC-440F-8956-D5FAA603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0D631-E950-46C1-ABF6-6336AD31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0031E-7627-4845-B6E5-C882D7A6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FAEDA-AACF-4AAC-9C05-60026734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6B65A-ECE0-41F8-9604-7B02543C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EBFA2-68B8-4026-B7A7-99157DFA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75E45-6DE3-4DDC-95D2-9A016716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09FE0-1F2C-418D-84EC-4AB72B7F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7879C-7998-4FEA-B991-7E14C7FF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4EEE2-4A5B-4972-82D5-18D6C981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795B-6472-471B-B402-AF068A3C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D735D-84D9-458B-A906-0B1DB1DA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E1C3F-4FED-4A04-9684-0B2577B1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C85D9-4BAD-465A-8857-84E34E24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B6A4D-81D5-45B3-A023-8A1D9F6A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2E4D3-553A-463B-BCAA-D12C2FC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BF511-152D-4BBE-B80B-821E1A2C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3236F-709D-415D-A4A1-EB4EA739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9FCFB-3AEF-4838-B160-0062F877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1B23B-99D3-4383-982C-BE0C2C34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FEF54-24CD-477F-B7E4-5313AE99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3C4D-5BEF-4346-92B3-56CD127C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426CA-DB78-4BD2-9604-C7E632A6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6AE82-05AD-4F6F-B775-1815B35A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3EF34-EBB6-4FC5-B019-46D8CAC0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205EA1-24E8-4444-9492-C857C6DE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20222-08E2-4E50-B1BC-F5C0BD78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31530-D9AC-4D3B-BD1D-FC6D595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15C29-1BE7-4D1E-AB75-A14C3344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B2D76B-D679-4082-A843-1878E7B0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670C6-AAA7-4A9E-89D5-089A7266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6E14B2-1759-4179-BA48-4C9F2D4B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C4C2-0F53-4AF4-B841-B2EF786F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3135C4-E46D-4598-B206-1EAC1865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CF35A-119D-4E7C-8F3E-205D55C2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38B9D3-0D6B-42EF-89AB-B489E1A9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0C1D1-90B7-45D9-8370-74BF13F5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E5D5A-C52F-4B5C-A6D7-74EA6E9B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B0B77-5827-411E-90EC-F364E0A4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902C16-22AA-4027-A225-881F1E22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0EBA94-104A-483F-8388-EEC769F8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85B46-30D8-4B6A-B877-E86CC39C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4521F-B054-4FB8-B0B5-9D86BE77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3292-030B-4F67-8B47-419B429D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80BF48-E6DC-4BE6-9704-61C68C74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83C3F-8FEB-49FD-98F9-9052298D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D5B2B-7CB2-47C3-8F20-D553198D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5527FE-14AC-4C29-9BD1-9BBD662C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F505E-ADD4-4C37-9CAA-F1D74513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B0A07-63C6-460E-9F54-82FD7E55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97D4FA-1DB0-43E6-B283-996EDD93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B1B63-9373-4DCF-94E5-08AAACE0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46D58-BDF1-41C1-B9A1-8049CB83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F5D3E-400B-46B1-A468-9323EB4B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3D0-87E4-49DB-811F-FA36A2AC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B276-E7FE-4305-919D-49ACB327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665B55-EA82-4EFB-862C-1DEB9B36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65FFA-FE8C-4644-B2A2-8BADD129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D1010-3B13-458A-AA89-9C228D85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76C26-48CA-467F-BE92-DC600A68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56EDA-BE98-4696-B591-A497253C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0E1EEF-E49C-4680-9B63-FA895546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FCF19-BF0E-4040-967C-A19077D8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13BAF-2A1B-4FCF-A344-FCB1D935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3A31B9-EA8D-4459-9FC1-AE0E96E2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810952-7CC6-4158-B44F-2C8D7ECF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1CFF-127B-44D4-B9B4-6316126D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37BDD6-93BE-4344-B3CA-A06A36B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82D73-8F33-463D-8FA7-6895B005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48D041-842D-47E5-B38C-9CCB60A5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5A447F-CDE3-49D0-813F-FE92D5E4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98DAD-6FF7-4C32-933A-F2C7213D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B0254-28C0-4B20-BBF4-B66F6B8C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23652-F1CD-4878-B8B4-ED330F88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F6C511-BE27-4B33-9422-DABB4BB3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0D28A4-EB0A-4E16-8733-7FDA3220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2E48EB-BD48-4FF5-A477-EAF3D14E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879B-F325-4A45-B0DE-B349CC3E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753C6B-C9C6-4013-B134-F72D15EC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A31B3-6771-4DAD-AFF8-9EB1A5C7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20CA94-F60A-4E9E-8D75-038A4D35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04F1C5-D2B1-4F89-BCED-8F9B5C0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79239-2A42-4108-8F5A-8C4FB689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3EB1FE-0E47-4C49-B461-FBC1EA5B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CDD69C-0584-4EEC-BDC5-9F76625E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C1CA2D-7CCF-4A8A-8B3C-2E7C94BA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AE7C7E-6912-4328-AEE9-EFEFA151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82BAAA-1ADD-43DF-BFD1-9EB2541C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42D7-E98E-46B0-A04B-B403470B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B7739-D9F8-400B-BDCC-B2609E21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0F85E3-9953-43F5-8A02-7FBB8426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A7BA2-3A05-4A93-A535-9BF1DCBD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E42CE2-8EBA-41AD-8366-CD2B7728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3E9B31-EBB3-4A20-BD71-61799C3A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6EC8E5-F297-42B1-BFD8-AB02CC6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19299A-D568-4AA1-A37C-6DF362AB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C14C5E-09D9-434F-AF14-2D97CB4B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2269BE-A2C7-4046-9692-869C39F6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71CD85-A277-41F3-9CED-237F419E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F14B-DE5F-4F09-9CA3-16A696FA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DC2B68-12FA-4351-8591-9BA2E2A7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4897EF-AB8A-492E-8554-150547CE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C3CB75-B051-4B51-8F41-4576D7F3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8F220-B3F6-4EED-AE7D-2DE619A8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6CA488-0543-4245-B54B-89C482AA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16CA92-BC57-4160-8976-D5BAE5ED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C957C2-5CF5-485B-B8BB-6084E4C8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E2EC12-B69C-4AD6-A787-BCF11156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A0DC8F-43B0-4BB8-A9D8-F580A5E0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A16F11-A653-49BB-A55C-8DAE3128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EDAE4-262F-409A-AC6F-CAEDB5CD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BE5B62-A62D-4ADD-9D11-51EA37C9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C3FEA3-0231-4490-97ED-0AA137B3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2CE34-53B2-4E5C-93D1-62D68931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21B810-7E1F-45BF-92B9-319F452F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235116-4CE4-4415-8BB8-9C6AE4BB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ED41AA-22E7-4C07-A80B-DC87D8D7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D869B9-294D-4662-869A-2C0D3DE3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107ECB-9598-47A0-908A-B3FEC6AB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A00EC4-C258-440A-8659-207F7CB3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C85DFA-1AAD-4004-9F53-F759652D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3C1DB-194A-484F-976B-5219DD6E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D5ECB2-257F-4540-B97A-E7FBF474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3828EE-7F68-4E15-B3A2-D0831399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D75459-841B-4B69-BB27-EDF13300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B63386-1005-4882-9B3D-DF978235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2C074D-C555-45AC-A9EB-D463DC76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5FF061-36B3-4FE7-93B8-014BD206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1CEB39-7934-43EB-878F-5B97E1A7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5D8940-4665-4709-8D62-CBAFD34E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4B97F8-CA22-4400-B4A4-49B4FF71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719CAD-520A-47A6-A6ED-06F710D1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ECED-72E6-4D5E-A2BA-E4C8DC86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1A9A17-43C5-448E-856A-30D167AA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EC5CA7-2614-4689-8757-70C863B2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67B8FE-EA94-4AB5-AF5C-732A338E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2C33A9-C283-4D82-B06B-6F31A1A2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C3AEC7-32CD-42D7-ADE6-943EDBA1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B4C166-3D88-4D1B-977C-BB250D97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099381-9F92-486A-8947-CFF1A9D1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DD78F-3CC2-4745-A532-C0F5FA8D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B689-5F8F-42AD-AAF8-99A6203D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092-BCFD-446E-B075-077EDE54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5498-8362-4DFC-B0AA-C3EEC45C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244F-EA48-41CA-BCE7-97E236E6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57F43-3D61-4A23-AE0E-5C339132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0CF8-BA9F-4E22-AD97-40B63203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480D-CCA1-4F85-840A-F4D52020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30DB-58FD-42B8-A616-FA82D771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D5CB4-403D-4ED6-847E-9E96F792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6E231-775B-42D2-BBC1-75C9E032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42EB8-4A58-4BCC-BCE6-751E518C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961E-FBC3-4798-9748-F748FB43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CFF-C9CB-4007-AAB9-B167C6B7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6010-087B-412E-AFF8-D6572F51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45B47-3ED3-45A4-BAB9-037BC85C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2436-2BC2-4FC3-81C8-BB57764C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B4437-7FEE-49E5-ACA5-636777A1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9ACB1-3EF1-44AC-91E0-F2AEE703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E896-9924-4EAB-98A5-1BFBA8E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BFAD8-F292-4762-A9F4-A4032283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1D35-E4CD-47EF-9F0A-3E3DA021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7985D-1400-46C1-9903-D81BAE57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19C9F-EC13-4845-A64B-A3012B3F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CEA-D71C-4B55-902C-D0E4E56F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3FF08-7B7C-4565-9C11-5FB14D5A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7DC3C-6E43-401E-9232-CA3EE8AB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D35DE-84D5-4D7B-B105-CCA7F991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49118-EE56-41A0-9F27-6B65FB61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80FA8-A2B0-4BBC-A9F1-D0A47567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2425F-FFED-46FA-8DC3-BF083E3B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59441-BD3F-4687-892B-F22EC2DD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D8863-D1FB-4950-B869-A6ED9378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C68D2-F068-4770-8141-85BD630B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18FAB-4538-4B3D-8F10-0CA3ED23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6BD-CF9A-4F66-9C5E-9A36743F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E6CEE-27C6-4A45-B048-457517B3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DF2ED-BE03-499A-8B40-5F529BFB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D733A-3B8A-4B76-9036-92472F79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C1FD-481B-49C9-B29B-3FE60B69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06E14-9D68-44EC-BA5F-2375AA53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AB755-B1D2-4CA6-A7F9-39AC9045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5C327-C54A-41A0-A2C3-8C1AB30D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CF95E-B2FF-46D1-B1A2-F9CC334A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E58B-CAE3-4828-94F5-6DEFC373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1BB68-68B2-4F8F-92C3-0FCDE754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27C-E826-4D22-B4CD-C50C0DF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6C6FB-29CD-4265-B15B-C0F1BED3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452D4-99C0-4407-B5CE-0495784B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A2CED-9F6E-43CA-B8EF-4F92D046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93F30-A1D6-4B8E-9679-02BDBF69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AA235-D23E-45E3-BDD2-C0FBF2A3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A6F71-FCB2-4940-8701-A0D4E403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39645-C41C-478B-B2E1-FF3BD81A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7BBBF-A07F-4853-9518-E963546C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F421B-309C-441D-83F6-5BE94E1E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B9A2F-83DD-4500-9BA3-D7ED3E0F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D3D-F3E4-4EF3-A5CE-65AAB499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00BB1-E4B6-49DD-A54E-9053777B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EDC6B-7301-4856-B30F-612F9CA9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083AB-28CA-4B1D-95AD-826FCD26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78531-A094-4B98-9B81-83381DD6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D1C41-3F97-4383-9EAB-720FDAF3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FB61E-ECCC-4E8A-B32E-95552B76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9BF88-3A56-4A10-A0C4-24F27D58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5799D-6FD7-47E2-86B4-2A31310E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55A6D-743E-4C66-8488-A683CCC8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D2269-73C9-4C16-9332-A4D40C5C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B3D-2A75-43E7-BDD1-488B966C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93C79-D1B3-4161-83DB-633287BD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C80C7-7BD1-4059-8E32-923A99E4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6A2A6-2AE7-4C72-AB03-40325B90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0B982-647F-43CB-B07E-60708817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32FD0-8969-4CEC-9560-CB8FD3E1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4FC7C-6E1D-468B-A029-C5E3DB5A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DCA62-361F-458F-AE38-B3D407F3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7E38C-C348-417D-BA0D-5DB3D4AE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AAFF9-EECA-49C8-9BA2-C76746B3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DFDEE-9D97-4C4E-AB2C-F9AE5C67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6B5A5D-D8E3-4F91-AC0D-CD2772678F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8B0DDE-AAD7-4887-8994-1B892EEF095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3CE37D-20BF-46BC-841F-CD87A955E6C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D8C836-371C-4ABE-88B3-87B33147A4D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90F638-AAD7-493C-A992-A8DFE02E12A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63F7B9-7712-4FDC-BC26-4FC927A4FD4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011AAD-344A-47E7-881E-33A6D1BAEC8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1C6F38-0313-4A5A-B47B-10AABE3423E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829E02-7AAC-476D-AE79-65DDEE6D4C7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C24182-0490-48E0-9F64-C7DCC4D807D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15A315-7A45-4E8A-81E3-BCBEB50D09F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468A78-6E8C-40E5-A81E-F2DE0D69A77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8992B0-F223-48EF-92B2-2E44A767D6A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69190B-4FCA-4FCC-8B36-BE2A1EE8EB0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C1A8D2-D9D2-4164-8D2F-A058761C631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46D6CC-26E7-4F7B-9A08-F8E9CA3851B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66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84C12A-DE05-4B8F-83D6-5FE902F717C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B5FB7F-969A-4784-A3D4-D0C69DC0A04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DFBF93-7BBD-4FB2-A9A2-F1F0F6F34ED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2C0A79-E0CE-4397-A6B9-1EF94B943D1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C89F40-2FF0-4209-9A33-2EDC4A8C826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E36739-8215-42C9-A6EE-F026882FF3A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258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516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E2EC19-53CC-4E06-85D4-6637DBBE04E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1" name="Прямоугольник 3"/>
          <p:cNvSpPr/>
          <p:nvPr/>
        </p:nvSpPr>
        <p:spPr>
          <a:xfrm>
            <a:off x="1116000" y="1197000"/>
            <a:ext cx="6540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MS Gothic"/>
              </a:rPr>
              <a:t>Урок математик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MS Gothic"/>
              </a:rPr>
              <a:t>во 2 класс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MS Gothic"/>
              </a:rPr>
              <a:t>(по программе «Школа России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Box 5"/>
          <p:cNvSpPr/>
          <p:nvPr/>
        </p:nvSpPr>
        <p:spPr>
          <a:xfrm>
            <a:off x="4156200" y="3562200"/>
            <a:ext cx="44481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MS Gothic"/>
              </a:rPr>
              <a:t>Учителя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MS Gothic"/>
              </a:rPr>
              <a:t>МБ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MS Gothic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MS Gothic"/>
              </a:rPr>
              <a:t>«Калининская СОШ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MS Gothic"/>
              </a:rPr>
              <a:t>Вурнарского района Чувашской Республ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MS Gothic"/>
              </a:rPr>
              <a:t>Андреевой Ольги Иванов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Comic Sans MS"/>
              </a:rPr>
              <a:t>Игра «Круг или окружнос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26360" cy="45244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txBody>
          <a:bodyPr lIns="0" rIns="0" tIns="25560" bIns="0" anchor="t">
            <a:normAutofit/>
          </a:bodyPr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Правила игры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Я называю предметы, а вы должны вспомнить их форму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 хлопаете в ладоши, если это  круг, показываете кольцо руками, если это окружность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Работа в группах 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по заданию учебника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№ 2, стр.94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6840" y="2707920"/>
            <a:ext cx="822636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5400" spc="-1" strike="noStrike">
                <a:solidFill>
                  <a:srgbClr val="00cc99"/>
                </a:solidFill>
                <a:latin typeface="Arial"/>
              </a:rPr>
              <a:t>Решение  задачи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№4, стр. 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6840" y="4076640"/>
            <a:ext cx="822636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Самостоятельная работа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cc99"/>
                </a:solidFill>
                <a:latin typeface="Arial"/>
              </a:rPr>
              <a:t>№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cc99"/>
                </a:solidFill>
                <a:latin typeface="Arial"/>
              </a:rPr>
              <a:t>6, стр. 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258920" y="2565360"/>
            <a:ext cx="742464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1 ряд – 1 строка примеров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2 ряд – 2 строка примеров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3 ряд – 3 строка примеров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Проверка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 ряд – 38, 46,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 ряд – 67, 46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 ряд – 39, 65,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284720" y="2276640"/>
            <a:ext cx="4248000" cy="2304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) С. 94, повторить правил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) С. 95, №5, 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Picture 5" descr="bookbag"/>
          <p:cNvPicPr/>
          <p:nvPr/>
        </p:nvPicPr>
        <p:blipFill>
          <a:blip r:embed="rId1"/>
          <a:stretch/>
        </p:blipFill>
        <p:spPr>
          <a:xfrm>
            <a:off x="395280" y="1557360"/>
            <a:ext cx="3816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Рисунок 6" descr="2100_confused_emotion.jpg"/>
          <p:cNvPicPr/>
          <p:nvPr/>
        </p:nvPicPr>
        <p:blipFill>
          <a:blip r:embed="rId1"/>
          <a:stretch/>
        </p:blipFill>
        <p:spPr>
          <a:xfrm>
            <a:off x="2627280" y="2060640"/>
            <a:ext cx="3774960" cy="3143160"/>
          </a:xfrm>
          <a:prstGeom prst="rect">
            <a:avLst/>
          </a:prstGeom>
          <a:ln w="0">
            <a:noFill/>
          </a:ln>
        </p:spPr>
      </p:pic>
      <p:pic>
        <p:nvPicPr>
          <p:cNvPr id="1094" name="Рисунок 8" descr="main_500.jpg"/>
          <p:cNvPicPr/>
          <p:nvPr/>
        </p:nvPicPr>
        <p:blipFill>
          <a:blip r:embed="rId2"/>
          <a:stretch/>
        </p:blipFill>
        <p:spPr>
          <a:xfrm>
            <a:off x="6012000" y="378936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095" name="Рисунок 7" descr="d181d0bcd0b0d0b9d0bb.jpg"/>
          <p:cNvPicPr/>
          <p:nvPr/>
        </p:nvPicPr>
        <p:blipFill>
          <a:blip r:embed="rId3"/>
          <a:stretch/>
        </p:blipFill>
        <p:spPr>
          <a:xfrm>
            <a:off x="179280" y="1890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7" name="Прямоугольник 3"/>
          <p:cNvSpPr/>
          <p:nvPr/>
        </p:nvSpPr>
        <p:spPr>
          <a:xfrm>
            <a:off x="1252440" y="1967040"/>
            <a:ext cx="654048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MS Gothic"/>
              </a:rPr>
              <a:t>СПАСИБО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MS Gothic"/>
              </a:rPr>
              <a:t> ЗА СТАРАНИЕ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Рисунок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381960" cy="6958080"/>
          </a:xfrm>
          <a:prstGeom prst="rect">
            <a:avLst/>
          </a:prstGeom>
          <a:ln w="0">
            <a:noFill/>
          </a:ln>
        </p:spPr>
      </p:pic>
      <p:grpSp>
        <p:nvGrpSpPr>
          <p:cNvPr id="954" name="Скругленный прямоугольник 3"/>
          <p:cNvGrpSpPr/>
          <p:nvPr/>
        </p:nvGrpSpPr>
        <p:grpSpPr>
          <a:xfrm>
            <a:off x="2066760" y="2743200"/>
            <a:ext cx="974880" cy="884160"/>
            <a:chOff x="2066760" y="2743200"/>
            <a:chExt cx="974880" cy="884160"/>
          </a:xfrm>
        </p:grpSpPr>
        <p:pic>
          <p:nvPicPr>
            <p:cNvPr id="95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066760" y="2743200"/>
              <a:ext cx="9748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2192400" y="2817720"/>
              <a:ext cx="71100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2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7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1914480" y="2597040"/>
            <a:ext cx="1273320" cy="1030320"/>
          </a:xfrm>
          <a:prstGeom prst="rect">
            <a:avLst/>
          </a:prstGeom>
          <a:ln w="0">
            <a:noFill/>
          </a:ln>
        </p:spPr>
      </p:pic>
      <p:sp>
        <p:nvSpPr>
          <p:cNvPr id="958" name="Скругленный прямоугольник 5"/>
          <p:cNvSpPr/>
          <p:nvPr/>
        </p:nvSpPr>
        <p:spPr>
          <a:xfrm>
            <a:off x="2124000" y="2781360"/>
            <a:ext cx="785880" cy="771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Скругленный прямоугольник 12"/>
          <p:cNvGrpSpPr/>
          <p:nvPr/>
        </p:nvGrpSpPr>
        <p:grpSpPr>
          <a:xfrm>
            <a:off x="3200400" y="2743200"/>
            <a:ext cx="981000" cy="884160"/>
            <a:chOff x="3200400" y="2743200"/>
            <a:chExt cx="981000" cy="884160"/>
          </a:xfrm>
        </p:grpSpPr>
        <p:pic>
          <p:nvPicPr>
            <p:cNvPr id="960" name="Скругленный 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200400" y="2743200"/>
              <a:ext cx="9810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>
              <a:off x="3325680" y="2817720"/>
              <a:ext cx="7160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3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2" name="Скругленный прямоугольник 13" descr=""/>
          <p:cNvPicPr/>
          <p:nvPr/>
        </p:nvPicPr>
        <p:blipFill>
          <a:blip r:embed="rId5"/>
          <a:stretch/>
        </p:blipFill>
        <p:spPr>
          <a:xfrm>
            <a:off x="3090960" y="2590920"/>
            <a:ext cx="1195200" cy="1023840"/>
          </a:xfrm>
          <a:prstGeom prst="rect">
            <a:avLst/>
          </a:prstGeom>
          <a:ln w="0">
            <a:noFill/>
          </a:ln>
        </p:spPr>
      </p:pic>
      <p:sp>
        <p:nvSpPr>
          <p:cNvPr id="963" name="Скругленный прямоугольник 17"/>
          <p:cNvSpPr/>
          <p:nvPr/>
        </p:nvSpPr>
        <p:spPr>
          <a:xfrm>
            <a:off x="3303720" y="2789280"/>
            <a:ext cx="77472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Скругленный прямоугольник 21"/>
          <p:cNvGrpSpPr/>
          <p:nvPr/>
        </p:nvGrpSpPr>
        <p:grpSpPr>
          <a:xfrm>
            <a:off x="4352760" y="2749680"/>
            <a:ext cx="974880" cy="877680"/>
            <a:chOff x="4352760" y="2749680"/>
            <a:chExt cx="974880" cy="877680"/>
          </a:xfrm>
        </p:grpSpPr>
        <p:pic>
          <p:nvPicPr>
            <p:cNvPr id="965" name="Скругленный прямоугольник 21" descr=""/>
            <p:cNvPicPr/>
            <p:nvPr/>
          </p:nvPicPr>
          <p:blipFill>
            <a:blip r:embed="rId6"/>
            <a:stretch/>
          </p:blipFill>
          <p:spPr>
            <a:xfrm>
              <a:off x="4352760" y="2749680"/>
              <a:ext cx="97488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"/>
            <p:cNvSpPr/>
            <p:nvPr/>
          </p:nvSpPr>
          <p:spPr>
            <a:xfrm>
              <a:off x="4475160" y="2822400"/>
              <a:ext cx="70956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2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7" name="Скругленный прямоугольник 22" descr=""/>
          <p:cNvPicPr/>
          <p:nvPr/>
        </p:nvPicPr>
        <p:blipFill>
          <a:blip r:embed="rId7"/>
          <a:stretch/>
        </p:blipFill>
        <p:spPr>
          <a:xfrm>
            <a:off x="4194000" y="2590920"/>
            <a:ext cx="1273320" cy="1030320"/>
          </a:xfrm>
          <a:prstGeom prst="rect">
            <a:avLst/>
          </a:prstGeom>
          <a:ln w="0">
            <a:noFill/>
          </a:ln>
        </p:spPr>
      </p:pic>
      <p:sp>
        <p:nvSpPr>
          <p:cNvPr id="968" name="Скругленный прямоугольник 23"/>
          <p:cNvSpPr/>
          <p:nvPr/>
        </p:nvSpPr>
        <p:spPr>
          <a:xfrm>
            <a:off x="4433760" y="2786040"/>
            <a:ext cx="776520" cy="77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Скругленный прямоугольник 24"/>
          <p:cNvGrpSpPr/>
          <p:nvPr/>
        </p:nvGrpSpPr>
        <p:grpSpPr>
          <a:xfrm>
            <a:off x="92160" y="3754440"/>
            <a:ext cx="828720" cy="684360"/>
            <a:chOff x="92160" y="3754440"/>
            <a:chExt cx="828720" cy="684360"/>
          </a:xfrm>
        </p:grpSpPr>
        <p:pic>
          <p:nvPicPr>
            <p:cNvPr id="970" name="Скругленный прямоугольник 24" descr=""/>
            <p:cNvPicPr/>
            <p:nvPr/>
          </p:nvPicPr>
          <p:blipFill>
            <a:blip r:embed="rId8"/>
            <a:stretch/>
          </p:blipFill>
          <p:spPr>
            <a:xfrm>
              <a:off x="92160" y="3754440"/>
              <a:ext cx="82872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208080" y="3817800"/>
              <a:ext cx="581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х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2" name="Скругленный прямоугольник 25" descr=""/>
          <p:cNvPicPr/>
          <p:nvPr/>
        </p:nvPicPr>
        <p:blipFill>
          <a:blip r:embed="rId9"/>
          <a:stretch/>
        </p:blipFill>
        <p:spPr>
          <a:xfrm>
            <a:off x="-152280" y="3498840"/>
            <a:ext cx="1304640" cy="1006560"/>
          </a:xfrm>
          <a:prstGeom prst="rect">
            <a:avLst/>
          </a:prstGeom>
          <a:ln w="0">
            <a:noFill/>
          </a:ln>
        </p:spPr>
      </p:pic>
      <p:sp>
        <p:nvSpPr>
          <p:cNvPr id="973" name="Скругленный прямоугольник 26"/>
          <p:cNvSpPr/>
          <p:nvPr/>
        </p:nvSpPr>
        <p:spPr>
          <a:xfrm>
            <a:off x="179280" y="3792600"/>
            <a:ext cx="638280" cy="573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Скругленный прямоугольник 27"/>
          <p:cNvGrpSpPr/>
          <p:nvPr/>
        </p:nvGrpSpPr>
        <p:grpSpPr>
          <a:xfrm>
            <a:off x="5522760" y="2755800"/>
            <a:ext cx="974880" cy="878040"/>
            <a:chOff x="5522760" y="2755800"/>
            <a:chExt cx="974880" cy="878040"/>
          </a:xfrm>
        </p:grpSpPr>
        <p:pic>
          <p:nvPicPr>
            <p:cNvPr id="975" name="Скругленный прямоугольник 27" descr=""/>
            <p:cNvPicPr/>
            <p:nvPr/>
          </p:nvPicPr>
          <p:blipFill>
            <a:blip r:embed="rId10"/>
            <a:stretch/>
          </p:blipFill>
          <p:spPr>
            <a:xfrm>
              <a:off x="5522760" y="2755800"/>
              <a:ext cx="9748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5645160" y="2827440"/>
              <a:ext cx="70956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7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2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7" name="Скругленный прямоугольник 28" descr=""/>
          <p:cNvPicPr/>
          <p:nvPr/>
        </p:nvPicPr>
        <p:blipFill>
          <a:blip r:embed="rId11"/>
          <a:stretch/>
        </p:blipFill>
        <p:spPr>
          <a:xfrm>
            <a:off x="5394240" y="2597040"/>
            <a:ext cx="1219320" cy="1030320"/>
          </a:xfrm>
          <a:prstGeom prst="rect">
            <a:avLst/>
          </a:prstGeom>
          <a:ln w="0">
            <a:noFill/>
          </a:ln>
        </p:spPr>
      </p:pic>
      <p:sp>
        <p:nvSpPr>
          <p:cNvPr id="978" name="Скругленный прямоугольник 29"/>
          <p:cNvSpPr/>
          <p:nvPr/>
        </p:nvSpPr>
        <p:spPr>
          <a:xfrm>
            <a:off x="5616720" y="2790720"/>
            <a:ext cx="77616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Скругленный прямоугольник 30"/>
          <p:cNvGrpSpPr/>
          <p:nvPr/>
        </p:nvGrpSpPr>
        <p:grpSpPr>
          <a:xfrm>
            <a:off x="895320" y="3754440"/>
            <a:ext cx="830160" cy="689040"/>
            <a:chOff x="895320" y="3754440"/>
            <a:chExt cx="830160" cy="689040"/>
          </a:xfrm>
        </p:grpSpPr>
        <p:pic>
          <p:nvPicPr>
            <p:cNvPr id="980" name="Скругленный прямоугольник 30" descr=""/>
            <p:cNvPicPr/>
            <p:nvPr/>
          </p:nvPicPr>
          <p:blipFill>
            <a:blip r:embed="rId12"/>
            <a:stretch/>
          </p:blipFill>
          <p:spPr>
            <a:xfrm>
              <a:off x="895320" y="3754440"/>
              <a:ext cx="8301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1014480" y="3819600"/>
              <a:ext cx="58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8х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2" name="Скругленный прямоугольник 31" descr=""/>
          <p:cNvPicPr/>
          <p:nvPr/>
        </p:nvPicPr>
        <p:blipFill>
          <a:blip r:embed="rId13"/>
          <a:stretch/>
        </p:blipFill>
        <p:spPr>
          <a:xfrm>
            <a:off x="669960" y="3498840"/>
            <a:ext cx="1274760" cy="1006560"/>
          </a:xfrm>
          <a:prstGeom prst="rect">
            <a:avLst/>
          </a:prstGeom>
          <a:ln w="0">
            <a:noFill/>
          </a:ln>
        </p:spPr>
      </p:pic>
      <p:sp>
        <p:nvSpPr>
          <p:cNvPr id="983" name="Скругленный прямоугольник 32"/>
          <p:cNvSpPr/>
          <p:nvPr/>
        </p:nvSpPr>
        <p:spPr>
          <a:xfrm>
            <a:off x="985680" y="3795840"/>
            <a:ext cx="638280" cy="573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Скругленный прямоугольник 33"/>
          <p:cNvGrpSpPr/>
          <p:nvPr/>
        </p:nvGrpSpPr>
        <p:grpSpPr>
          <a:xfrm>
            <a:off x="1652760" y="3760920"/>
            <a:ext cx="828360" cy="682560"/>
            <a:chOff x="1652760" y="3760920"/>
            <a:chExt cx="828360" cy="682560"/>
          </a:xfrm>
        </p:grpSpPr>
        <p:pic>
          <p:nvPicPr>
            <p:cNvPr id="985" name="Скругленный прямоугольник 33" descr=""/>
            <p:cNvPicPr/>
            <p:nvPr/>
          </p:nvPicPr>
          <p:blipFill>
            <a:blip r:embed="rId14"/>
            <a:stretch/>
          </p:blipFill>
          <p:spPr>
            <a:xfrm>
              <a:off x="1652760" y="3760920"/>
              <a:ext cx="8283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1771560" y="3822840"/>
              <a:ext cx="58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х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7" name="Скругленный прямоугольник 34" descr=""/>
          <p:cNvPicPr/>
          <p:nvPr/>
        </p:nvPicPr>
        <p:blipFill>
          <a:blip r:embed="rId15"/>
          <a:stretch/>
        </p:blipFill>
        <p:spPr>
          <a:xfrm>
            <a:off x="1463760" y="3505320"/>
            <a:ext cx="1193760" cy="1006200"/>
          </a:xfrm>
          <a:prstGeom prst="rect">
            <a:avLst/>
          </a:prstGeom>
          <a:ln w="0">
            <a:noFill/>
          </a:ln>
        </p:spPr>
      </p:pic>
      <p:sp>
        <p:nvSpPr>
          <p:cNvPr id="988" name="Скругленный прямоугольник 35"/>
          <p:cNvSpPr/>
          <p:nvPr/>
        </p:nvSpPr>
        <p:spPr>
          <a:xfrm>
            <a:off x="1743120" y="3798720"/>
            <a:ext cx="63828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Скругленный прямоугольник 36"/>
          <p:cNvGrpSpPr/>
          <p:nvPr/>
        </p:nvGrpSpPr>
        <p:grpSpPr>
          <a:xfrm>
            <a:off x="2457360" y="3760920"/>
            <a:ext cx="828720" cy="688680"/>
            <a:chOff x="2457360" y="3760920"/>
            <a:chExt cx="828720" cy="688680"/>
          </a:xfrm>
        </p:grpSpPr>
        <p:pic>
          <p:nvPicPr>
            <p:cNvPr id="990" name="Скругленный прямоугольник 36" descr=""/>
            <p:cNvPicPr/>
            <p:nvPr/>
          </p:nvPicPr>
          <p:blipFill>
            <a:blip r:embed="rId16"/>
            <a:stretch/>
          </p:blipFill>
          <p:spPr>
            <a:xfrm>
              <a:off x="2457360" y="3760920"/>
              <a:ext cx="82872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"/>
            <p:cNvSpPr/>
            <p:nvPr/>
          </p:nvSpPr>
          <p:spPr>
            <a:xfrm>
              <a:off x="2576520" y="3825720"/>
              <a:ext cx="581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7х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2" name="Скругленный прямоугольник 37" descr=""/>
          <p:cNvPicPr/>
          <p:nvPr/>
        </p:nvPicPr>
        <p:blipFill>
          <a:blip r:embed="rId17"/>
          <a:stretch/>
        </p:blipFill>
        <p:spPr>
          <a:xfrm>
            <a:off x="2193840" y="3498840"/>
            <a:ext cx="1274760" cy="1006560"/>
          </a:xfrm>
          <a:prstGeom prst="rect">
            <a:avLst/>
          </a:prstGeom>
          <a:ln w="0">
            <a:noFill/>
          </a:ln>
        </p:spPr>
      </p:pic>
      <p:sp>
        <p:nvSpPr>
          <p:cNvPr id="993" name="Скругленный прямоугольник 38"/>
          <p:cNvSpPr/>
          <p:nvPr/>
        </p:nvSpPr>
        <p:spPr>
          <a:xfrm>
            <a:off x="2548080" y="3801960"/>
            <a:ext cx="637920" cy="560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Скругленный прямоугольник 39"/>
          <p:cNvGrpSpPr/>
          <p:nvPr/>
        </p:nvGrpSpPr>
        <p:grpSpPr>
          <a:xfrm>
            <a:off x="3255840" y="3786120"/>
            <a:ext cx="828720" cy="689040"/>
            <a:chOff x="3255840" y="3786120"/>
            <a:chExt cx="828720" cy="689040"/>
          </a:xfrm>
        </p:grpSpPr>
        <p:pic>
          <p:nvPicPr>
            <p:cNvPr id="995" name="Скругленный прямоугольник 39" descr=""/>
            <p:cNvPicPr/>
            <p:nvPr/>
          </p:nvPicPr>
          <p:blipFill>
            <a:blip r:embed="rId18"/>
            <a:stretch/>
          </p:blipFill>
          <p:spPr>
            <a:xfrm>
              <a:off x="3255840" y="3786120"/>
              <a:ext cx="8287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3370320" y="3849840"/>
              <a:ext cx="58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х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7" name="Скругленный прямоугольник 40" descr=""/>
          <p:cNvPicPr/>
          <p:nvPr/>
        </p:nvPicPr>
        <p:blipFill>
          <a:blip r:embed="rId19"/>
          <a:stretch/>
        </p:blipFill>
        <p:spPr>
          <a:xfrm>
            <a:off x="2914560" y="3498840"/>
            <a:ext cx="1438200" cy="1006560"/>
          </a:xfrm>
          <a:prstGeom prst="rect">
            <a:avLst/>
          </a:prstGeom>
          <a:ln w="0">
            <a:noFill/>
          </a:ln>
        </p:spPr>
      </p:pic>
      <p:sp>
        <p:nvSpPr>
          <p:cNvPr id="998" name="Скругленный прямоугольник 41"/>
          <p:cNvSpPr/>
          <p:nvPr/>
        </p:nvSpPr>
        <p:spPr>
          <a:xfrm>
            <a:off x="3343320" y="3825720"/>
            <a:ext cx="636480" cy="55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Скругленный прямоугольник 42"/>
          <p:cNvGrpSpPr/>
          <p:nvPr/>
        </p:nvGrpSpPr>
        <p:grpSpPr>
          <a:xfrm>
            <a:off x="4022640" y="3790800"/>
            <a:ext cx="830520" cy="684360"/>
            <a:chOff x="4022640" y="3790800"/>
            <a:chExt cx="830520" cy="684360"/>
          </a:xfrm>
        </p:grpSpPr>
        <p:pic>
          <p:nvPicPr>
            <p:cNvPr id="1000" name="Скругленный прямоугольник 42" descr=""/>
            <p:cNvPicPr/>
            <p:nvPr/>
          </p:nvPicPr>
          <p:blipFill>
            <a:blip r:embed="rId20"/>
            <a:stretch/>
          </p:blipFill>
          <p:spPr>
            <a:xfrm>
              <a:off x="4022640" y="3790800"/>
              <a:ext cx="83052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/>
            <p:nvPr/>
          </p:nvSpPr>
          <p:spPr>
            <a:xfrm>
              <a:off x="4143240" y="3852720"/>
              <a:ext cx="5810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7х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2" name="Скругленный прямоугольник 43" descr=""/>
          <p:cNvPicPr/>
          <p:nvPr/>
        </p:nvPicPr>
        <p:blipFill>
          <a:blip r:embed="rId21"/>
          <a:stretch/>
        </p:blipFill>
        <p:spPr>
          <a:xfrm>
            <a:off x="3780000" y="3535200"/>
            <a:ext cx="1304640" cy="1006560"/>
          </a:xfrm>
          <a:prstGeom prst="rect">
            <a:avLst/>
          </a:prstGeom>
          <a:ln w="0">
            <a:noFill/>
          </a:ln>
        </p:spPr>
      </p:pic>
      <p:sp>
        <p:nvSpPr>
          <p:cNvPr id="1003" name="Скругленный прямоугольник 44"/>
          <p:cNvSpPr/>
          <p:nvPr/>
        </p:nvSpPr>
        <p:spPr>
          <a:xfrm>
            <a:off x="4121280" y="3827520"/>
            <a:ext cx="631800" cy="55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Скругленный прямоугольник 45"/>
          <p:cNvGrpSpPr/>
          <p:nvPr/>
        </p:nvGrpSpPr>
        <p:grpSpPr>
          <a:xfrm>
            <a:off x="4803840" y="3767040"/>
            <a:ext cx="828720" cy="689040"/>
            <a:chOff x="4803840" y="3767040"/>
            <a:chExt cx="828720" cy="689040"/>
          </a:xfrm>
        </p:grpSpPr>
        <p:pic>
          <p:nvPicPr>
            <p:cNvPr id="1005" name="Скругленный прямоугольник 45" descr=""/>
            <p:cNvPicPr/>
            <p:nvPr/>
          </p:nvPicPr>
          <p:blipFill>
            <a:blip r:embed="rId22"/>
            <a:stretch/>
          </p:blipFill>
          <p:spPr>
            <a:xfrm>
              <a:off x="4803840" y="3767040"/>
              <a:ext cx="8287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923000" y="3832200"/>
              <a:ext cx="58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х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7" name="Скругленный прямоугольник 46" descr=""/>
          <p:cNvPicPr/>
          <p:nvPr/>
        </p:nvPicPr>
        <p:blipFill>
          <a:blip r:embed="rId23"/>
          <a:stretch/>
        </p:blipFill>
        <p:spPr>
          <a:xfrm>
            <a:off x="4559400" y="3517920"/>
            <a:ext cx="1305000" cy="1004760"/>
          </a:xfrm>
          <a:prstGeom prst="rect">
            <a:avLst/>
          </a:prstGeom>
          <a:ln w="0">
            <a:noFill/>
          </a:ln>
        </p:spPr>
      </p:pic>
      <p:sp>
        <p:nvSpPr>
          <p:cNvPr id="1008" name="Скругленный прямоугольник 47"/>
          <p:cNvSpPr/>
          <p:nvPr/>
        </p:nvSpPr>
        <p:spPr>
          <a:xfrm>
            <a:off x="4892760" y="3798720"/>
            <a:ext cx="633240" cy="563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Скругленный прямоугольник 48"/>
          <p:cNvGrpSpPr/>
          <p:nvPr/>
        </p:nvGrpSpPr>
        <p:grpSpPr>
          <a:xfrm>
            <a:off x="5565600" y="3780000"/>
            <a:ext cx="828720" cy="682560"/>
            <a:chOff x="5565600" y="3780000"/>
            <a:chExt cx="828720" cy="682560"/>
          </a:xfrm>
        </p:grpSpPr>
        <p:pic>
          <p:nvPicPr>
            <p:cNvPr id="1010" name="Скругленный прямоугольник 48" descr=""/>
            <p:cNvPicPr/>
            <p:nvPr/>
          </p:nvPicPr>
          <p:blipFill>
            <a:blip r:embed="rId24"/>
            <a:stretch/>
          </p:blipFill>
          <p:spPr>
            <a:xfrm>
              <a:off x="5565600" y="3780000"/>
              <a:ext cx="828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5684760" y="3843360"/>
              <a:ext cx="581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7х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2" name="Скругленный прямоугольник 49" descr=""/>
          <p:cNvPicPr/>
          <p:nvPr/>
        </p:nvPicPr>
        <p:blipFill>
          <a:blip r:embed="rId25"/>
          <a:stretch/>
        </p:blipFill>
        <p:spPr>
          <a:xfrm>
            <a:off x="5340240" y="3524400"/>
            <a:ext cx="1268640" cy="1004760"/>
          </a:xfrm>
          <a:prstGeom prst="rect">
            <a:avLst/>
          </a:prstGeom>
          <a:ln w="0">
            <a:noFill/>
          </a:ln>
        </p:spPr>
      </p:pic>
      <p:sp>
        <p:nvSpPr>
          <p:cNvPr id="1013" name="Скругленный прямоугольник 50"/>
          <p:cNvSpPr/>
          <p:nvPr/>
        </p:nvSpPr>
        <p:spPr>
          <a:xfrm>
            <a:off x="5661000" y="3811680"/>
            <a:ext cx="636480" cy="57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Скругленный прямоугольник 51"/>
          <p:cNvGrpSpPr/>
          <p:nvPr/>
        </p:nvGrpSpPr>
        <p:grpSpPr>
          <a:xfrm>
            <a:off x="6321600" y="3786120"/>
            <a:ext cx="828360" cy="689040"/>
            <a:chOff x="6321600" y="3786120"/>
            <a:chExt cx="828360" cy="689040"/>
          </a:xfrm>
        </p:grpSpPr>
        <p:pic>
          <p:nvPicPr>
            <p:cNvPr id="1015" name="Скругленный прямоугольник 51" descr=""/>
            <p:cNvPicPr/>
            <p:nvPr/>
          </p:nvPicPr>
          <p:blipFill>
            <a:blip r:embed="rId26"/>
            <a:stretch/>
          </p:blipFill>
          <p:spPr>
            <a:xfrm>
              <a:off x="6321600" y="3786120"/>
              <a:ext cx="8283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6442200" y="3851280"/>
              <a:ext cx="58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х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7" name="Скругленный прямоугольник 52" descr=""/>
          <p:cNvPicPr/>
          <p:nvPr/>
        </p:nvPicPr>
        <p:blipFill>
          <a:blip r:embed="rId27"/>
          <a:stretch/>
        </p:blipFill>
        <p:spPr>
          <a:xfrm>
            <a:off x="6114960" y="3524400"/>
            <a:ext cx="1236600" cy="1004760"/>
          </a:xfrm>
          <a:prstGeom prst="rect">
            <a:avLst/>
          </a:prstGeom>
          <a:ln w="0">
            <a:noFill/>
          </a:ln>
        </p:spPr>
      </p:pic>
      <p:sp>
        <p:nvSpPr>
          <p:cNvPr id="1018" name="Скругленный прямоугольник 53"/>
          <p:cNvSpPr/>
          <p:nvPr/>
        </p:nvSpPr>
        <p:spPr>
          <a:xfrm>
            <a:off x="6418440" y="3805200"/>
            <a:ext cx="637920" cy="566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Скругленный прямоугольник 54"/>
          <p:cNvGrpSpPr/>
          <p:nvPr/>
        </p:nvGrpSpPr>
        <p:grpSpPr>
          <a:xfrm>
            <a:off x="7095960" y="3773520"/>
            <a:ext cx="828720" cy="682560"/>
            <a:chOff x="7095960" y="3773520"/>
            <a:chExt cx="828720" cy="682560"/>
          </a:xfrm>
        </p:grpSpPr>
        <p:pic>
          <p:nvPicPr>
            <p:cNvPr id="1020" name="Скругленный прямоугольник 54" descr=""/>
            <p:cNvPicPr/>
            <p:nvPr/>
          </p:nvPicPr>
          <p:blipFill>
            <a:blip r:embed="rId28"/>
            <a:stretch/>
          </p:blipFill>
          <p:spPr>
            <a:xfrm>
              <a:off x="7095960" y="3773520"/>
              <a:ext cx="828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"/>
            <p:cNvSpPr/>
            <p:nvPr/>
          </p:nvSpPr>
          <p:spPr>
            <a:xfrm>
              <a:off x="7215120" y="3838680"/>
              <a:ext cx="582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х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2" name="Скругленный прямоугольник 55" descr=""/>
          <p:cNvPicPr/>
          <p:nvPr/>
        </p:nvPicPr>
        <p:blipFill>
          <a:blip r:embed="rId29"/>
          <a:stretch/>
        </p:blipFill>
        <p:spPr>
          <a:xfrm>
            <a:off x="6888240" y="3524400"/>
            <a:ext cx="1238040" cy="1004760"/>
          </a:xfrm>
          <a:prstGeom prst="rect">
            <a:avLst/>
          </a:prstGeom>
          <a:ln w="0">
            <a:noFill/>
          </a:ln>
        </p:spPr>
      </p:pic>
      <p:sp>
        <p:nvSpPr>
          <p:cNvPr id="1023" name="Скругленный прямоугольник 56"/>
          <p:cNvSpPr/>
          <p:nvPr/>
        </p:nvSpPr>
        <p:spPr>
          <a:xfrm>
            <a:off x="7188120" y="3811680"/>
            <a:ext cx="636840" cy="573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Box 1"/>
          <p:cNvSpPr/>
          <p:nvPr/>
        </p:nvSpPr>
        <p:spPr>
          <a:xfrm>
            <a:off x="3178800" y="333360"/>
            <a:ext cx="2526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95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6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6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Click">
                          <p:tgtEl>
                            <p:spTgt spid="96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73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973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97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97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7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97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8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98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98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8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8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98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99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99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99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99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13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13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evt="onClick">
                          <p:tgtEl>
                            <p:spTgt spid="1013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018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02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02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evt="onClick">
                          <p:tgtEl>
                            <p:spTgt spid="1023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Прямоугольник 9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3164040" cy="1994040"/>
          </a:xfrm>
          <a:prstGeom prst="rect">
            <a:avLst/>
          </a:prstGeom>
          <a:ln w="0">
            <a:noFill/>
          </a:ln>
        </p:spPr>
      </p:pic>
      <p:pic>
        <p:nvPicPr>
          <p:cNvPr id="1026" name="Параллелограмм 10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236760" cy="1998720"/>
          </a:xfrm>
          <a:prstGeom prst="rect">
            <a:avLst/>
          </a:prstGeom>
          <a:ln w="0">
            <a:noFill/>
          </a:ln>
        </p:spPr>
      </p:pic>
      <p:pic>
        <p:nvPicPr>
          <p:cNvPr id="1027" name="Овал 11" descr=""/>
          <p:cNvPicPr/>
          <p:nvPr/>
        </p:nvPicPr>
        <p:blipFill>
          <a:blip r:embed="rId3"/>
          <a:stretch/>
        </p:blipFill>
        <p:spPr>
          <a:xfrm>
            <a:off x="684360" y="2781360"/>
            <a:ext cx="2590560" cy="2444760"/>
          </a:xfrm>
          <a:prstGeom prst="rect">
            <a:avLst/>
          </a:prstGeom>
          <a:ln w="0">
            <a:noFill/>
          </a:ln>
        </p:spPr>
      </p:pic>
      <p:pic>
        <p:nvPicPr>
          <p:cNvPr id="1028" name="Ромб 12" descr=""/>
          <p:cNvPicPr/>
          <p:nvPr/>
        </p:nvPicPr>
        <p:blipFill>
          <a:blip r:embed="rId4"/>
          <a:stretch/>
        </p:blipFill>
        <p:spPr>
          <a:xfrm>
            <a:off x="3564000" y="2997360"/>
            <a:ext cx="2328840" cy="3163680"/>
          </a:xfrm>
          <a:prstGeom prst="rect">
            <a:avLst/>
          </a:prstGeom>
          <a:ln w="0">
            <a:noFill/>
          </a:ln>
        </p:spPr>
      </p:pic>
      <p:pic>
        <p:nvPicPr>
          <p:cNvPr id="1029" name="Прямоугольник 14" descr=""/>
          <p:cNvPicPr/>
          <p:nvPr/>
        </p:nvPicPr>
        <p:blipFill>
          <a:blip r:embed="rId5"/>
          <a:stretch/>
        </p:blipFill>
        <p:spPr>
          <a:xfrm>
            <a:off x="6227640" y="3141720"/>
            <a:ext cx="231624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Прямая соединительная линия 11"/>
          <p:cNvSpPr/>
          <p:nvPr/>
        </p:nvSpPr>
        <p:spPr>
          <a:xfrm>
            <a:off x="5143680" y="0"/>
            <a:ext cx="0" cy="6858000"/>
          </a:xfrm>
          <a:prstGeom prst="line">
            <a:avLst/>
          </a:prstGeom>
          <a:ln w="85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Прямоугольник 14"/>
          <p:cNvSpPr/>
          <p:nvPr/>
        </p:nvSpPr>
        <p:spPr>
          <a:xfrm>
            <a:off x="250920" y="836640"/>
            <a:ext cx="2500200" cy="1500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Овал 15"/>
          <p:cNvSpPr/>
          <p:nvPr/>
        </p:nvSpPr>
        <p:spPr>
          <a:xfrm>
            <a:off x="5796000" y="2349360"/>
            <a:ext cx="2500200" cy="2357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Параллелограмм 16"/>
          <p:cNvSpPr/>
          <p:nvPr/>
        </p:nvSpPr>
        <p:spPr>
          <a:xfrm>
            <a:off x="2195640" y="2492280"/>
            <a:ext cx="2786040" cy="1571760"/>
          </a:xfrm>
          <a:prstGeom prst="parallelogram">
            <a:avLst>
              <a:gd name="adj" fmla="val 24996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Ромб 17"/>
          <p:cNvSpPr/>
          <p:nvPr/>
        </p:nvSpPr>
        <p:spPr>
          <a:xfrm>
            <a:off x="900000" y="3716280"/>
            <a:ext cx="1785960" cy="2500200"/>
          </a:xfrm>
          <a:prstGeom prst="diamond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5" name="Прямоугольник 18" descr=""/>
          <p:cNvPicPr/>
          <p:nvPr/>
        </p:nvPicPr>
        <p:blipFill>
          <a:blip r:embed="rId1"/>
          <a:stretch/>
        </p:blipFill>
        <p:spPr>
          <a:xfrm>
            <a:off x="2987640" y="4797360"/>
            <a:ext cx="1878120" cy="1663920"/>
          </a:xfrm>
          <a:prstGeom prst="rect">
            <a:avLst/>
          </a:prstGeom>
          <a:ln w="0">
            <a:noFill/>
          </a:ln>
        </p:spPr>
      </p:pic>
      <p:pic>
        <p:nvPicPr>
          <p:cNvPr id="1036" name="Прямоугольник 19" descr=""/>
          <p:cNvPicPr/>
          <p:nvPr/>
        </p:nvPicPr>
        <p:blipFill>
          <a:blip r:embed="rId2"/>
          <a:stretch/>
        </p:blipFill>
        <p:spPr>
          <a:xfrm>
            <a:off x="-108000" y="0"/>
            <a:ext cx="5346720" cy="858960"/>
          </a:xfrm>
          <a:prstGeom prst="rect">
            <a:avLst/>
          </a:prstGeom>
          <a:ln w="0">
            <a:noFill/>
          </a:ln>
        </p:spPr>
      </p:pic>
      <p:pic>
        <p:nvPicPr>
          <p:cNvPr id="1037" name="Прямоугольник 20" descr=""/>
          <p:cNvPicPr/>
          <p:nvPr/>
        </p:nvPicPr>
        <p:blipFill>
          <a:blip r:embed="rId3"/>
          <a:stretch/>
        </p:blipFill>
        <p:spPr>
          <a:xfrm>
            <a:off x="6040440" y="-146160"/>
            <a:ext cx="180504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039" name="Заголовок 1" descr=""/>
          <p:cNvPicPr/>
          <p:nvPr/>
        </p:nvPicPr>
        <p:blipFill>
          <a:blip r:embed="rId2"/>
          <a:stretch/>
        </p:blipFill>
        <p:spPr>
          <a:xfrm>
            <a:off x="450720" y="579600"/>
            <a:ext cx="8699760" cy="1029960"/>
          </a:xfrm>
          <a:prstGeom prst="rect">
            <a:avLst/>
          </a:prstGeom>
          <a:ln w="0">
            <a:noFill/>
          </a:ln>
        </p:spPr>
      </p:pic>
      <p:pic>
        <p:nvPicPr>
          <p:cNvPr id="1040" name="Содержимое 2" descr=""/>
          <p:cNvPicPr/>
          <p:nvPr/>
        </p:nvPicPr>
        <p:blipFill>
          <a:blip r:embed="rId3"/>
          <a:stretch/>
        </p:blipFill>
        <p:spPr>
          <a:xfrm>
            <a:off x="725400" y="1987560"/>
            <a:ext cx="5181840" cy="4510080"/>
          </a:xfrm>
          <a:prstGeom prst="rect">
            <a:avLst/>
          </a:prstGeom>
          <a:ln w="0">
            <a:noFill/>
          </a:ln>
        </p:spPr>
      </p:pic>
      <p:sp>
        <p:nvSpPr>
          <p:cNvPr id="1041" name="Oval 25"/>
          <p:cNvSpPr/>
          <p:nvPr/>
        </p:nvSpPr>
        <p:spPr>
          <a:xfrm>
            <a:off x="6456240" y="2590920"/>
            <a:ext cx="2124360" cy="20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2" name="Прямая со стрелкой 5"/>
          <p:cNvCxnSpPr/>
          <p:nvPr/>
        </p:nvCxnSpPr>
        <p:spPr>
          <a:xfrm>
            <a:off x="5444640" y="3532320"/>
            <a:ext cx="970920" cy="2160"/>
          </a:xfrm>
          <a:prstGeom prst="straightConnector1">
            <a:avLst/>
          </a:prstGeom>
          <a:ln w="34920">
            <a:solidFill>
              <a:srgbClr val="0d0a10"/>
            </a:solidFill>
            <a:miter/>
            <a:tailEnd len="med" type="arrow" w="med"/>
          </a:ln>
        </p:spPr>
      </p:cxn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044" name="Заголовок 1" descr=""/>
          <p:cNvPicPr/>
          <p:nvPr/>
        </p:nvPicPr>
        <p:blipFill>
          <a:blip r:embed="rId2"/>
          <a:stretch/>
        </p:blipFill>
        <p:spPr>
          <a:xfrm>
            <a:off x="450720" y="579600"/>
            <a:ext cx="8699760" cy="1029960"/>
          </a:xfrm>
          <a:prstGeom prst="rect">
            <a:avLst/>
          </a:prstGeom>
          <a:ln w="0">
            <a:noFill/>
          </a:ln>
        </p:spPr>
      </p:pic>
      <p:pic>
        <p:nvPicPr>
          <p:cNvPr id="1045" name="Содержимое 2" descr=""/>
          <p:cNvPicPr/>
          <p:nvPr/>
        </p:nvPicPr>
        <p:blipFill>
          <a:blip r:embed="rId3"/>
          <a:stretch/>
        </p:blipFill>
        <p:spPr>
          <a:xfrm>
            <a:off x="725400" y="1182600"/>
            <a:ext cx="5145120" cy="4511880"/>
          </a:xfrm>
          <a:prstGeom prst="rect">
            <a:avLst/>
          </a:prstGeom>
          <a:ln w="0">
            <a:noFill/>
          </a:ln>
        </p:spPr>
      </p:pic>
      <p:sp>
        <p:nvSpPr>
          <p:cNvPr id="1046" name="Oval 4"/>
          <p:cNvSpPr/>
          <p:nvPr/>
        </p:nvSpPr>
        <p:spPr>
          <a:xfrm>
            <a:off x="5315040" y="2068560"/>
            <a:ext cx="3095640" cy="30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5"/>
          <p:cNvSpPr/>
          <p:nvPr/>
        </p:nvSpPr>
        <p:spPr>
          <a:xfrm>
            <a:off x="6840360" y="3565440"/>
            <a:ext cx="122400" cy="12240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Line 6"/>
          <p:cNvSpPr/>
          <p:nvPr/>
        </p:nvSpPr>
        <p:spPr>
          <a:xfrm>
            <a:off x="6878520" y="3637080"/>
            <a:ext cx="1544760" cy="4608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22"/>
          <p:cNvSpPr/>
          <p:nvPr/>
        </p:nvSpPr>
        <p:spPr>
          <a:xfrm>
            <a:off x="8366040" y="3592440"/>
            <a:ext cx="122400" cy="12240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6"/>
          <p:cNvSpPr/>
          <p:nvPr/>
        </p:nvSpPr>
        <p:spPr>
          <a:xfrm>
            <a:off x="7060680" y="29368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27"/>
          <p:cNvSpPr/>
          <p:nvPr/>
        </p:nvSpPr>
        <p:spPr>
          <a:xfrm>
            <a:off x="8404200" y="2962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7"/>
          <p:cNvSpPr/>
          <p:nvPr/>
        </p:nvSpPr>
        <p:spPr>
          <a:xfrm flipV="1">
            <a:off x="6899400" y="2189160"/>
            <a:ext cx="374400" cy="1427040"/>
          </a:xfrm>
          <a:prstGeom prst="line">
            <a:avLst/>
          </a:prstGeom>
          <a:ln w="255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23"/>
          <p:cNvSpPr/>
          <p:nvPr/>
        </p:nvSpPr>
        <p:spPr>
          <a:xfrm>
            <a:off x="7216920" y="2095560"/>
            <a:ext cx="122040" cy="12204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28"/>
          <p:cNvSpPr/>
          <p:nvPr/>
        </p:nvSpPr>
        <p:spPr>
          <a:xfrm>
            <a:off x="7454880" y="150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10"/>
          <p:cNvSpPr/>
          <p:nvPr/>
        </p:nvSpPr>
        <p:spPr>
          <a:xfrm>
            <a:off x="5568840" y="2743200"/>
            <a:ext cx="1274760" cy="831960"/>
          </a:xfrm>
          <a:prstGeom prst="line">
            <a:avLst/>
          </a:prstGeom>
          <a:ln w="255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24"/>
          <p:cNvSpPr/>
          <p:nvPr/>
        </p:nvSpPr>
        <p:spPr>
          <a:xfrm>
            <a:off x="5533920" y="2698920"/>
            <a:ext cx="122400" cy="12204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31"/>
          <p:cNvSpPr/>
          <p:nvPr/>
        </p:nvSpPr>
        <p:spPr>
          <a:xfrm>
            <a:off x="5224320" y="19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8"/>
          <p:cNvSpPr/>
          <p:nvPr/>
        </p:nvSpPr>
        <p:spPr>
          <a:xfrm flipV="1">
            <a:off x="5832360" y="3630240"/>
            <a:ext cx="1067040" cy="1141560"/>
          </a:xfrm>
          <a:prstGeom prst="line">
            <a:avLst/>
          </a:prstGeom>
          <a:ln w="255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25"/>
          <p:cNvSpPr/>
          <p:nvPr/>
        </p:nvSpPr>
        <p:spPr>
          <a:xfrm>
            <a:off x="5759280" y="4660920"/>
            <a:ext cx="122400" cy="12204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30"/>
          <p:cNvSpPr/>
          <p:nvPr/>
        </p:nvSpPr>
        <p:spPr>
          <a:xfrm>
            <a:off x="5232240" y="4680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9"/>
          <p:cNvSpPr/>
          <p:nvPr/>
        </p:nvSpPr>
        <p:spPr>
          <a:xfrm>
            <a:off x="6927840" y="3651120"/>
            <a:ext cx="720720" cy="1368720"/>
          </a:xfrm>
          <a:prstGeom prst="line">
            <a:avLst/>
          </a:prstGeom>
          <a:ln w="255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21"/>
          <p:cNvSpPr/>
          <p:nvPr/>
        </p:nvSpPr>
        <p:spPr>
          <a:xfrm>
            <a:off x="7547040" y="4890960"/>
            <a:ext cx="122040" cy="12240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29"/>
          <p:cNvSpPr/>
          <p:nvPr/>
        </p:nvSpPr>
        <p:spPr>
          <a:xfrm>
            <a:off x="7461720" y="5032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Box 25"/>
          <p:cNvSpPr/>
          <p:nvPr/>
        </p:nvSpPr>
        <p:spPr>
          <a:xfrm>
            <a:off x="2050920" y="55278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= ОВ = О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= О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= О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066" name="Заголовок 1" descr=""/>
          <p:cNvPicPr/>
          <p:nvPr/>
        </p:nvPicPr>
        <p:blipFill>
          <a:blip r:embed="rId2"/>
          <a:stretch/>
        </p:blipFill>
        <p:spPr>
          <a:xfrm>
            <a:off x="450720" y="579600"/>
            <a:ext cx="8699760" cy="1029960"/>
          </a:xfrm>
          <a:prstGeom prst="rect">
            <a:avLst/>
          </a:prstGeom>
          <a:ln w="0">
            <a:noFill/>
          </a:ln>
        </p:spPr>
      </p:pic>
      <p:pic>
        <p:nvPicPr>
          <p:cNvPr id="1067" name="Содержимое 2" descr=""/>
          <p:cNvPicPr/>
          <p:nvPr/>
        </p:nvPicPr>
        <p:blipFill>
          <a:blip r:embed="rId3"/>
          <a:stretch/>
        </p:blipFill>
        <p:spPr>
          <a:xfrm>
            <a:off x="396720" y="907920"/>
            <a:ext cx="5680080" cy="4511880"/>
          </a:xfrm>
          <a:prstGeom prst="rect">
            <a:avLst/>
          </a:prstGeom>
          <a:ln w="0">
            <a:noFill/>
          </a:ln>
        </p:spPr>
      </p:pic>
      <p:sp>
        <p:nvSpPr>
          <p:cNvPr id="1068" name="Oval 25"/>
          <p:cNvSpPr/>
          <p:nvPr/>
        </p:nvSpPr>
        <p:spPr>
          <a:xfrm>
            <a:off x="6456240" y="2590920"/>
            <a:ext cx="2124360" cy="20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18"/>
          <p:cNvSpPr/>
          <p:nvPr/>
        </p:nvSpPr>
        <p:spPr>
          <a:xfrm flipV="1">
            <a:off x="6622920" y="3675240"/>
            <a:ext cx="879480" cy="536400"/>
          </a:xfrm>
          <a:prstGeom prst="line">
            <a:avLst/>
          </a:prstGeom>
          <a:ln w="255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Oval 19"/>
          <p:cNvSpPr/>
          <p:nvPr/>
        </p:nvSpPr>
        <p:spPr>
          <a:xfrm>
            <a:off x="6585120" y="4172040"/>
            <a:ext cx="122040" cy="12204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Oval 19"/>
          <p:cNvSpPr/>
          <p:nvPr/>
        </p:nvSpPr>
        <p:spPr>
          <a:xfrm>
            <a:off x="7472520" y="3575160"/>
            <a:ext cx="122040" cy="12204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2"/>
          <p:cNvSpPr/>
          <p:nvPr/>
        </p:nvSpPr>
        <p:spPr>
          <a:xfrm>
            <a:off x="5854320" y="4184640"/>
            <a:ext cx="6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7"/>
          <p:cNvSpPr/>
          <p:nvPr/>
        </p:nvSpPr>
        <p:spPr>
          <a:xfrm>
            <a:off x="6326640" y="471024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Ради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8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2">
            <a:hlinkClick r:id="" action="ppaction://hlinkshowjump?jump=nextslide"/>
          </p:cNvPr>
          <p:cNvSpPr/>
          <p:nvPr/>
        </p:nvSpPr>
        <p:spPr>
          <a:xfrm>
            <a:off x="2770200" y="606600"/>
            <a:ext cx="375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Times New Roman"/>
              </a:rPr>
              <a:t>и</a:t>
            </a:r>
            <a:r>
              <a:rPr b="1" lang="en-US" sz="6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́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рк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ул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Рисунок 2" descr=""/>
          <p:cNvPicPr/>
          <p:nvPr/>
        </p:nvPicPr>
        <p:blipFill>
          <a:blip r:embed="rId2"/>
          <a:stretch/>
        </p:blipFill>
        <p:spPr>
          <a:xfrm>
            <a:off x="2050920" y="1700280"/>
            <a:ext cx="6193080" cy="44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Практическое задани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черти окружность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крась к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2268360" y="4436640"/>
            <a:ext cx="6415200" cy="1692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09:40:13Z</dcterms:created>
  <dc:creator>АГПА</dc:creator>
  <dc:description/>
  <dc:language>en-US</dc:language>
  <cp:lastModifiedBy>Ученик№1</cp:lastModifiedBy>
  <cp:lastPrinted>2012-03-13T17:58:29Z</cp:lastPrinted>
  <dcterms:modified xsi:type="dcterms:W3CDTF">2012-11-29T06:59:14Z</dcterms:modified>
  <cp:revision>57</cp:revision>
  <dc:subject/>
  <dc:title>Слайд 1</dc:title>
</cp:coreProperties>
</file>