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DAA-3AF8-4CAA-A36B-DCD487F7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7E2-A97B-4B39-BA07-9E9C4A71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2BF-5843-4D84-B4C3-5FEC5F84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539-6C0F-4805-977D-842F3792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347-292F-45AB-89AA-56B8ACD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3C43-BC35-4F68-BBFD-6E993BB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5F4-13E3-4AB7-8C37-1F21112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96E9-6803-4554-9F11-1F2C5D85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BE6-1EEA-4265-8C7A-730F4F8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732A-CA12-4669-9ED6-E747C06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A01-B366-4127-A403-E0CBF33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E8E-53E7-44A4-A5A8-0A012A1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A2A-7D21-41DA-8896-83CF5147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016-C9C8-4649-A22A-97A9879A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AA6-D1FD-4A7A-B3D3-839F605E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E06-624C-4BBB-B399-0A54631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1D2-05DC-47B4-BD9A-0EC142F7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2AF-EF0C-475E-AFB2-ECB23ED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D7B-883C-4360-AED5-2F608573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9D8-0749-4E14-9A15-41255F7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1DD-489F-4E8F-A4EB-A0132AA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4D1-A41A-4266-A850-0CFBD1A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28B-47FF-4477-8AF1-16AF996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1CC-A745-48AC-84F2-7B25C8A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BB4-D635-4D65-96C2-FED3C7347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C28E-9D30-4647-A7FE-08DF53CB89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.П.Астафьев «Васюткино озеро»: «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Человек и  природа, или уроки мудрости и доброты»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272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пиграф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 - не только источник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и воспитатель душ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П. Астафье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-511920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67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тайский мыслитель Лу Синь считал: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Пути не открываются перед теми, кто не борется”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ая сказанное, сформулируем тему урока: “Васютка в зеркале природы, или Уроки мудрости и доброты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-776520"/>
            <a:ext cx="73008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716360" y="1916280"/>
            <a:ext cx="395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П.Астафьев – писатель со сложной, но интересной судьбой. Гибель родителей, детский дом, война, душевные раны – все это было в его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045800" y="6165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1924 -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4" descr="astaf.jpg"/>
          <p:cNvPicPr/>
          <p:nvPr/>
        </p:nvPicPr>
        <p:blipFill>
          <a:blip r:embed="rId1"/>
          <a:stretch/>
        </p:blipFill>
        <p:spPr>
          <a:xfrm>
            <a:off x="468360" y="1268280"/>
            <a:ext cx="3887640" cy="456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38275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Енис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4" descr="Енисей"/>
          <p:cNvPicPr/>
          <p:nvPr/>
        </p:nvPicPr>
        <p:blipFill>
          <a:blip r:embed="rId1"/>
          <a:stretch/>
        </p:blipFill>
        <p:spPr>
          <a:xfrm>
            <a:off x="179280" y="1341360"/>
            <a:ext cx="4753080" cy="5256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5076720" y="162864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было и другое - то, что давало ощущение радости и полноты жизни. Это - творчество и целительная сила природы, которая сопровождала его на протяжении вс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Сибирь-родина В.П.Астафьев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Рисунок 1" descr="3-1.jpg"/>
          <p:cNvPicPr/>
          <p:nvPr/>
        </p:nvPicPr>
        <p:blipFill>
          <a:blip r:embed="rId1"/>
          <a:srcRect l="0" t="0" r="0" b="4166"/>
          <a:stretch/>
        </p:blipFill>
        <p:spPr>
          <a:xfrm>
            <a:off x="611280" y="1484280"/>
            <a:ext cx="792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Times New Roman"/>
              </a:rPr>
              <a:t>Родное село Овсянка 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Times New Roman"/>
              </a:rPr>
              <a:t>В.П. Астафье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Рисунок 5" descr="art-Ovsyanka.jpg"/>
          <p:cNvPicPr/>
          <p:nvPr/>
        </p:nvPicPr>
        <p:blipFill>
          <a:blip r:embed="rId1"/>
          <a:stretch/>
        </p:blipFill>
        <p:spPr>
          <a:xfrm>
            <a:off x="395280" y="1773360"/>
            <a:ext cx="813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Дом В.П. Астафье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Рисунок 1" descr="2.jpg"/>
          <p:cNvPicPr/>
          <p:nvPr/>
        </p:nvPicPr>
        <p:blipFill>
          <a:blip r:embed="rId1"/>
          <a:stretch/>
        </p:blipFill>
        <p:spPr>
          <a:xfrm>
            <a:off x="1403280" y="2205000"/>
            <a:ext cx="6840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В музее под открытым небом есть еще один кусочек прежней жизни - дом бабушки Екатерины Петровны. Дом бабы Кати простоял 200 лет, дерево прогнило насквозь. Строители поставили точную копию старого дома по старинным технологиям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4" descr="Бабушка"/>
          <p:cNvPicPr/>
          <p:nvPr/>
        </p:nvPicPr>
        <p:blipFill>
          <a:blip r:embed="rId1"/>
          <a:stretch/>
        </p:blipFill>
        <p:spPr>
          <a:xfrm>
            <a:off x="179280" y="1916280"/>
            <a:ext cx="2376720" cy="3744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kks314100m.jpg"/>
          <p:cNvPicPr/>
          <p:nvPr/>
        </p:nvPicPr>
        <p:blipFill>
          <a:blip r:embed="rId2"/>
          <a:stretch/>
        </p:blipFill>
        <p:spPr>
          <a:xfrm>
            <a:off x="2771640" y="220500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ленький Вит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4" descr="семья копи"/>
          <p:cNvPicPr/>
          <p:nvPr/>
        </p:nvPicPr>
        <p:blipFill>
          <a:blip r:embed="rId1"/>
          <a:stretch/>
        </p:blipFill>
        <p:spPr>
          <a:xfrm>
            <a:off x="395280" y="1773360"/>
            <a:ext cx="3097080" cy="4824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924360" y="220500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Мальчиком Виктор Петрович рыбачил на озере, но кончилось детство, и он оказался в детдо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Детский дом. 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С любимой  воспитательницей  детдома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Рисунок 2" descr="astafiev200.jpg"/>
          <p:cNvPicPr/>
          <p:nvPr/>
        </p:nvPicPr>
        <p:blipFill>
          <a:blip r:embed="rId1"/>
          <a:stretch/>
        </p:blipFill>
        <p:spPr>
          <a:xfrm>
            <a:off x="324000" y="134136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3492360" y="4508640"/>
            <a:ext cx="547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"</a:t>
            </a: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Самостоятельную жизнь я начал сразу, безо всякой подготовки", - напишет впоследствии В. П. Астафь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94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4" descr="солдат копи"/>
          <p:cNvPicPr/>
          <p:nvPr/>
        </p:nvPicPr>
        <p:blipFill>
          <a:blip r:embed="rId1"/>
          <a:stretch/>
        </p:blipFill>
        <p:spPr>
          <a:xfrm>
            <a:off x="250920" y="1413000"/>
            <a:ext cx="2160360" cy="3816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556000" y="907920"/>
            <a:ext cx="6335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Но ему хотелось рассказать об озере,“открыть его таким, каким видел когда-то, чтобы написанное и не чувствовалось вовсе, а душа читателя таяла, знобило бы кожу у него, и от восторга, от любви захотелось бы ему перецеловать …каждое деревце в лесу, каждый лист… И был бы он счастлив тем, что есть мир прекрасный вокруг него и он в этом мире есть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И это озеро стало для писателя своеобразной путеводной звездой, он открыл его для читателя, чтобы каждый из нас, как и главный герой, через озеро смог понять себя, приобрести жизненную мудрость и стать добрее.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учающ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формировать умение анализа художественного произведения, формирование внимания к тексту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вающ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Развивать навыки групповой работ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Развивать умение высказывать своё мнение о прочитанно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итательны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звать глубокий эмоциональный отклик у юных читателей, 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воспитывать навыки сопротивления трудностям жизн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1781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«Васюткино озеро» — один из самых известных и любимых рассказов и детей, и взрослых. Вот история его появления на свет, рассказанная самим писател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н летом заблудился в тайге, преследуя глухаря, и провел один в лесу три дня. На уроке литературы учитель Игнатий Дмитриевич Рождественский задал писать сочинение, кто как провел лето. Астафьев написал рассказ под названием «Жив». Учитель похвалил ученика, и рассказ был помещен в школьном рукописном журнале. «И вот много-много лет спустя я вспомнил об этом и написал на основании этого школьного сочинения рассказ «Васюткино озеро»... Это первый детский рассказ Астафье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Чтение наизусть начала рассказ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Это озеро не отыщешь на карте. Небольшое оно. Небольшое, зато памятное Васютке. Ещё бы! Мала ли честь для тринадцатилетнего мальчишки - озеро, названное его именем! Пускай оно и не велико, не то что, скажем, Байкал, но Васютка сам нашёл его и людям показал. Да, да, не удивляйтесь и не думайте, что все озёра уже известны и что у каждого есть своё название. Много ещё, очень много в нашей стране безымянных озёр и речек. Потому что велика наша Родина, и сколько по ней ни броди, всё будешь находить что-нибудь новое, интересное.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Читая этот отрывок, мы чувствуем, что о Васютке, 13-летнем мальчике, автор говорит с уважением.                                                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-Почему Васютка не по годам мудр? Кто был его учителем?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Природа</a:t>
            </a: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6" descr="Сибирь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Природа в произведении это не фон, не декорация к изображаемому, а сложный мир, который вбирает в себя человека и определяет его ценности. Природа изначально мудра, она учит человека на ошибках, проводит через испытания, прощает и помогает в выборе пути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Природа - учитель и друг.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2" descr="D:\Елена\КАРТИНКИ\ПРИРОДА\wo_scn11.jpg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719320"/>
            <a:ext cx="4428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Деревья, деревья, деревья... Под ногами - мох и жухлая трава, над головой - равнодушные, безучастные к человеческой беде облака. А в сердце - холодный, липкий, пронизывающий ужас, заставляющий то бежать сломя голову, то без сил лежать на земле.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что почувствовал Васютка, главный герой рассказа В.П.Астафьева «Васюткино озеро», когда заблудился в бескрайней тайг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Астафьев писал: «Природа – не только источник жизни. Она и воспитатель души».</a:t>
            </a:r>
            <a:br>
              <a:rPr sz="2800"/>
            </a:b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герой попадает в ситуацию, которая требует от человека не только самообладания, смелости и силы воли, но и многих практических знаний и умений.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1374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1.  Природа - учитель и друг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, кто правильно указывает на мои ошибки, - мой учитель; тот, кто правильно отмечает мои верные поступки, - мой друг…” (Сюнь-цз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е: Какие ловушки устраивает природа? 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Чтение наизусть “Паук и его жертва”)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08000" y="-5119200"/>
            <a:ext cx="142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5280" y="333360"/>
            <a:ext cx="4824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пизод с паук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 Васютка нагнулся и увидел у ног своих истлевшую тушку птицы, паук растянул над мертвой птичкой паутину. Паука уже нет – убрался, должно быть, зимовать в какое-нибудь дупло, а ловушки бросил. Попалась в него сытая, крупная муха, бьется, бьется, жужжит слабеющими крыльями. Что-то начало беспокоить Васютку при виде беспомощной мухи, влипшей в тенета. И тут его будто стукнуло: да ведь он заблудился!)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Паук плетет паутину"/>
          <p:cNvPicPr/>
          <p:nvPr/>
        </p:nvPicPr>
        <p:blipFill>
          <a:blip r:embed="rId1"/>
          <a:stretch/>
        </p:blipFill>
        <p:spPr>
          <a:xfrm>
            <a:off x="179280" y="981000"/>
            <a:ext cx="3961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Что произошло с Васюткой в тайге?  Эпизод  «Глухарь-таежная птица»</a:t>
            </a: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к он ведет себя в этой ситуации?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пишите внутреннее состояние Васютки. 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Picture 4" descr="311289_html_m442937d0"/>
          <p:cNvPicPr/>
          <p:nvPr/>
        </p:nvPicPr>
        <p:blipFill>
          <a:blip r:embed="rId1"/>
          <a:stretch/>
        </p:blipFill>
        <p:spPr>
          <a:xfrm>
            <a:off x="250920" y="1844640"/>
            <a:ext cx="3168720" cy="403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8459640" y="3065400"/>
            <a:ext cx="73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64000" y="1916280"/>
            <a:ext cx="540072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Фу ты, черт! Где же затеси?- сердце у Васютки сжалось, на лбу выступила испарина.- Все этот глухарина! Понесся, как леший, теперь вот думай, куда идти-, заговорил Васютка вслух, чтобы отогнать подступающий страх.- Ничего, сейчас найду дорогу. Та-ак… Почти голая сосна у ели - значит, в ту сторону север, а где ветвей больше - юг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адно, не робей. Найдем избушку. Надо идти в одну сторону. На юг надо идти. У избушки Енисей поворот делает, мимо никак не пройдешь… Ну вот, все в порядк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- О чем разговаривает он с белкой? </a:t>
            </a:r>
            <a:br>
              <a:rPr sz="2000"/>
            </a:br>
            <a:r>
              <a:rPr b="0" i="1" lang="ru-RU" sz="2000" spc="-1" strike="noStrike">
                <a:solidFill>
                  <a:srgbClr val="ffffb7"/>
                </a:solidFill>
                <a:latin typeface="Arial Black"/>
              </a:rPr>
              <a:t>Разговор Васютки с белкой: </a:t>
            </a: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«Белка» 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4" descr="311289_html_m5862f66c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4681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3924360" y="1233360"/>
            <a:ext cx="489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А я заблудился. Понесся сдуру за глухарем и заблудился. Теперь меня по всему лесу ищут, мамка ревет… Не понимаешь ты ничего. А то бы сбегала, сказала нашим, где я. Ты вон какая проворная! Убирайся давай, рыжая, стрелять буду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3952800"/>
            <a:ext cx="514440" cy="86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5946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асютка вскинул ружье и выстрелил в воздух. Белка, будто пушинка, метнулась и пошла считать деревья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асютка выстрелил еще раз и долго ждал ответа. Тайга не откликалась. 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атронов осталось десять штук. Стрелять Васютка больше не решился. Он полез на дерево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5100120"/>
            <a:ext cx="442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521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величественна и похожа на оке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щедра и сур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таит в себе загадки и ответы на многие вопро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учит человека и наказывает за легкомыслие и эго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раскинулась широкой полосой по центру Сибири и северу Европейской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2-1.jpg"/>
          <p:cNvPicPr/>
          <p:nvPr/>
        </p:nvPicPr>
        <p:blipFill>
          <a:blip r:embed="rId1"/>
          <a:srcRect l="0" t="0" r="0" b="5209"/>
          <a:stretch/>
        </p:blipFill>
        <p:spPr>
          <a:xfrm>
            <a:off x="324000" y="1341360"/>
            <a:ext cx="3663720" cy="4319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4067280" y="549360"/>
            <a:ext cx="53290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й Сюх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страция к рассказу В.П.Астафьева «Васюткино озер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5661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И какой же Васютка увидел тайгу, забравшись на высокое дерево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3987360"/>
            <a:ext cx="144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айга… тайга… Без конца и края тянулась она во все стороны, молчаливая, равнодушная. С высоты она казалась огромным темным морем. Небо тянулось далеко-далеко, все ближе прижимаясь к вершинам леса. Облака над головой были редкие, но чем дольше смотрел Васютка, тем они делались гуще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олго Васютка отыскивал глазами желтую полоску лиственника среди неподвижного зеленого моря, но кругом темнел сплошной хвойник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идно, Енисей и тот затерялся в глухой, угрюмой тайге. Маленьким- маленьким почувствовал себя Васютка и закричал: 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Э-эй, мамка! Папка! Дедушка! Заблудился я!»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Чему учится Васютка, проходя через испытания? Какие подсказки дает природа мальчику? Можно ли назвать Васютку жертвой тайги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так, природа в рассказе многогранна: она, как змей-искуситель, соблазняет, запутывает следы, но в то же время дает подсказки, оставляет зна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ниге Пауло Коэль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хим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казано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“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найдешь туда путь по тем знакам, которыми Господь отмечает путь каждого в этом мире. Надо только суметь прочесть то, что написано для теб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2.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рирода – открытая книга 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“Природа – это книга, которую надо прочитать и правильно понять” (М. Налбандян)</a:t>
            </a:r>
            <a:br>
              <a:rPr sz="48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83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ffb7"/>
                </a:solidFill>
                <a:latin typeface="Arial"/>
              </a:rPr>
              <a:t>Почему тайга стала для Васютки открытой книгой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"/>
              </a:rPr>
              <a:t>-Что помогло ему познать законы приро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 мудрые слова дед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 опыт отца;                                                                             в) знания, полученные в школ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842320" y="-4947480"/>
            <a:ext cx="1224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Picture 4" descr="311289_html_m195e4510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5011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0" y="-36360"/>
            <a:ext cx="9325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посмотрим, как вы внимательно читали рассказ и знаете ли вы ответы на вопросы, которые спрятаны в мудрой книге приро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24000" y="189000"/>
            <a:ext cx="9468000" cy="72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Как в лесу без компаса определить стороны горизонта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«почти голая сосна у ели -  значит - север, а где ветвей больше - юг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Что свидетельствует о близости реки в тайге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(«…трава стала попадаться чаще…растёт обычно вдоль больших водоёмов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Что предвещает вечером смену погоды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(…облака над головой были редкие…делались гуще, и наконец голубые проёмы исчезли совсем, облака спрессованной ватой ложились на тайг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В чем особенность эха в лесу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(«…голос его пролетел немного над тайгой и упал невесомо-кедровой шишкой на мох.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5.   Как сберечь в тайге припасы от грызунов?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«сложил  остатки еды в мешок, подвесил его на сук»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-524376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94680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т, кто внимательно читал рассказ, узнал ответы на многие вопросы. Эти знания  пригодятся в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читателю известно, что трава в лесу растет обычно вблизи больших водоемов. Лиственный лес тянется по берегам р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хо в лесу откликается на ближнем водо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ти голая сторона у сосны – значит в ту сторону север, а где ветвей больше – ю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озере речная рыба, значит оно проточ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полярной тайге медведи встречаются редко, волков и змей нет. Встречаются рыси и песцы. Но осенью корма для них много, поэтому они не страшны дл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ду в лесу надо хранить, повесив на ветку, чтобы мыши не добрались до н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ное небо – к холоду. Кровянистое небо и  стонут гагары – к непог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ы  запомнили законы лес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о брать с собой в лес спички,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адо далеко отходить от затес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о запастись на ночь дро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о беречь па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вас"/>
          <p:cNvPicPr/>
          <p:nvPr/>
        </p:nvPicPr>
        <p:blipFill>
          <a:blip r:embed="rId1"/>
          <a:stretch/>
        </p:blipFill>
        <p:spPr>
          <a:xfrm>
            <a:off x="2700360" y="443700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244440"/>
            <a:ext cx="9325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нига не только даёт знания, но и учит переоценке ценностей: Васютка по достоинству оценил мудрость деда и те навыки, которые передал ему отец, заботу и любовь матер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1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"/>
              </a:rPr>
              <a:t>3.  </a:t>
            </a:r>
            <a:r>
              <a:rPr b="0" lang="ru-RU" sz="3600" spc="-1" strike="noStrike">
                <a:solidFill>
                  <a:srgbClr val="ffffb7"/>
                </a:solidFill>
                <a:latin typeface="Times New Roman"/>
              </a:rPr>
              <a:t>Природа </a:t>
            </a:r>
            <a:r>
              <a:rPr b="0" lang="ru-RU" sz="3600" spc="-1" strike="noStrike">
                <a:solidFill>
                  <a:srgbClr val="ffffb7"/>
                </a:solidFill>
                <a:latin typeface="Arial"/>
              </a:rPr>
              <a:t>–</a:t>
            </a:r>
            <a:r>
              <a:rPr b="0" lang="ru-RU" sz="3600" spc="-1" strike="noStrike">
                <a:solidFill>
                  <a:srgbClr val="ffffb7"/>
                </a:solidFill>
                <a:latin typeface="Times New Roman"/>
              </a:rPr>
              <a:t> мать, </a:t>
            </a:r>
            <a:r>
              <a:rPr b="0" lang="ru-RU" sz="3200" spc="-1" strike="noStrike">
                <a:solidFill>
                  <a:srgbClr val="ffffb7"/>
                </a:solidFill>
                <a:latin typeface="Times New Roman"/>
              </a:rPr>
              <a:t>корми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Тайга,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наша кормилица, хлипких не люби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рода, как вторая мать, помогает Васютке и выводит его из тайги, ведь она по своей сути гуманна и милостлива. Сам В.П.Астафьев говорил когда-то о природе такие слов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емлю свою люблю и не перестаю удивляться красоте её, неистощимому терпению и добр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Рано потерявший мат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на утонула в Енисее весной 1932 год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, естественно, тянулся ко второй моей и неизменной матер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емле. И жизнь предоставляла мне постоянную возможность быть на природе и с природ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дание: сортировка продуктов – кладовая природы, забота матери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ь-природа (Макошь – славянская богиня плодородия) и Енисей-батюшка указывают Васютке выход к дому, к родителям, к тому, о чем тосковал всю жизнь сам писатель, лишившийся родителей слишком р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ытания помогли Васютке оценить любовь и заботу матери, ведь по-настоящему начинаешь что-то ценить только тогда, когда лишаешься этого. Человек, оказавшийся в безысходной ситуации, невольно, на уровне подсознания, обращается за помощью не только к матери, но и к Бо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7683480" cy="64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йствительно, это тайг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то скрывает в себе тайга?                                           (Тайну, загадку, силу, мощь, велич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D:\Елена\КАРТИНКИ\ПРИРОДА\лес5.jpg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4. Природа – величественный храм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94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778560"/>
            <a:ext cx="585720" cy="94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72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сютка, оказавшись один на один с природой, начинает чувствовать ее живую душу: разговаривает с ней, ищет поддержки, замечает малейшие изменения, чувствует ее состояние. Через природу он пытается подать весточку родным, очищается  и   даже исповеду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и красота природы подобна великолепию хра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Природа – некий храм, где от живых колонн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Обрывки смутных фраз исходят временами.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Как в чаще символов, мы бродим в этом храме,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И взглядом родственным глядит на смертных он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Ш.Бодл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: работа в парах. Восстановить пропущенные эпитеты, сравнения и метафоры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питеты – красочные определения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йг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ла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чаливая, равнодушная, казалась огромным, темным море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убы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той спрессованной ложились на тай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описана пробудившаяся тайг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едровки крич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елна заплак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нички потрошили, пописки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елка пронеслась, вполошённо цо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авилась на Васю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в таком маленьком кусочке текста столько глаго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йдите среди этих красочных определений то, которое помогает нам понять отчаяние Васютки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питеты-синонимы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Равнодушна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зразличн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зучастн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покойн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счувственн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Холодн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еотзывчива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ечувственна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845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сота природы  показаны автором с помощью троп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ую роль играют и сравнение, и олицетворение, и метафор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уман росою (сравнение) пал (олицетворение) на деревья, на землю, мелкая пыль (метафора) искрилась (метафора) всюду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ствователь описывает, как по-разному кричат птицы. Кедровки «на манер базарных торговок», громко, перебивая друг д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на (черный дятел) плачет, кричит жалобно, тоскли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ички попискивают, издают высокие звуки. Птицы и звери своим поведением очень отличаются друг от друг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ицы потрошат старое дерево, ищут в нем насеко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ка завтракает, наверное, ест орехи или тех же насекомых. Она цокает, бежит, издавая короткие звонкие звуки. Лес полон шума, звуков, дви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описана пробудившаяся тайг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едровки крич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елна заплак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нички потрошили, пописки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елка пронеслась, вполошённо цо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авилась на Васю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в таком маленьком кусочке текста столько глагол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Давайте найдем и запишем в таблицу цветообразы, звукообразы и работа в тетради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Picture 4" descr="12359_html_25b58cf5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-5119200"/>
            <a:ext cx="514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лёное море, жёлтая полоска лиственника,  зелёная кашица ряс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уки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кий шум ветра, робкий свист пичушки,стук дятла по дереву, протрубит дикий олен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252360" y="692280"/>
            <a:ext cx="9097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Лес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ял неподвижно тихий  в своей унылой задумчив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акой же редкий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гол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плошь хвойный. Лишь кое-где виднелис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илые берез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желтыми листьями». (Олицетворение, эпит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 лес бесшумн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сова, приле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чь».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авнение, метафор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айга…Тайга…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конца и края тянулас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на во все стороны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чаливая, равнодуш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 высоты она казалась огромным темным небом. Облак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рессованной ват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жились на тайг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Гипербола, эпитеты, сравн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3778560"/>
            <a:ext cx="585720" cy="94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8455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маленький, как песчинка в океане, как звездочка во Вселе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беззащитный и в то же время си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сын и одновременно хозя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-детски легкомысленный и по взрослому мудр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совершает ошибку и исправляет е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76690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так, природа научила Васютку ценить своих близких, не поддаваться соблазнам и гордыне, помогла увидеть красоту окружающего ми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са учат человека понимать прекрасное”,- писал А.П.Чехов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5. Природа – зеркало душ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24000" y="1483920"/>
            <a:ext cx="946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ие через природу понимать и видеть человека пришло к В.П.Астафьеву постепенно. Ведь его учителем была не только природа, но и великая русская литер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М.Пришвин в “Кладовой солнца” так говорил о “зеркале” природы, в котором отражается челове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 “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вает, наклонишься в лесу к тихой заводи ручья и там, как в зеркале, увидишь – весь-то человек, большой, прекрасный…из-за твоей спины наклонился и тоже смотрит в заводь, как в зеркало. И так он прекрасен там, в зеркале, со своей природой, с облаками, лесами, и солнышко там внизу тоже садится, и молодой месяц показывается, и частые звездочк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адание: работа в группах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сюткино озеро – “озеро надежды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ему озеро называется Васюткино? Только ли потому, что его нашел наш гер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ему отражение в Енисее удивило Васютк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изменился внешне, но изменения произошли и во внутреннем мире: Васютка за 5 неполных дней повзрослел, научился ценить то, что раньше считал обыденным, незначительным для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сюткино озеро – отражение души подростка, чистой, глубокой, щедрой. Не мог он погибнуть в тайге: как лесное озеро питают реки и речушки, сама мать Тайга и батюшка Енисей, так и Васютку спасает опыт взрослых людей, вера, надежда, любовь - любовь к своим родителям, к природе, к великой и могучей Ро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6040" y="-53636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455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наше путешествие по тайге подошло к кон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-Что же мы узнали о природе и человеке, об их взаимоотношения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а – мудрый наставник, учитель, друг, иногда судия. Она наказывает за легкомыслие и эгоизм, за пренебрежение законами и традициями. Она же и прощает, помогает людям выбраться из тайги, указывает человеку верный пу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цы, звезды, месяц – предвестники добра и справедливости. Однако основную задачу спасения должен решить сам человек. Только тогда он станет настоящим сыном и хозяином природы (Значение имени Васютк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 - вожак, властелин; букв.: василевс, царь (греч.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природу человек лучше понимает самого себя, учится ценить своих близк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Попытаемся отразить наши размышления в виде синквейна или стихотворения собственного сочинения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квейн (пятистишие) – свободная поэтическая форма, состоящая из 5 стро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я существительное, определяющее т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рилагательных – описание 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глагола  (деепричастия) – название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слова: фраза – отношение к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 – метафора, суть, смысл, синоним темы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Arial"/>
              </a:rPr>
              <a:t>. тайг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Arial"/>
              </a:rPr>
              <a:t>2. Равнодушная,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безразличная, безучастная, спокойная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бесчувственная, холодная, неотзывчивая,нечувственная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Природа посылает Васютке озеро-загадку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21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на д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си – это зарубки на деревьях, указывающие путь людям. Читая произведение, мы тоже оставляем в душе какие-то впечатления, зарубки на сердце, постигаем тайну произ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предлагается написать сочинение-размышление на одну из тем нашего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тайна Васюткина озера?”, “Зарубки на сердце”. Ответ на эти вопросы каждый даст индивидуально в форме сочинения – размышления. Помогут вам в работе тези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ие считали, что родник, озеро, источник - глаз Божий на земл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рода посылает Васютке озеро-загадку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еро - отражение души Васютки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йга-матушка, Енисей-батюшка, озеро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Помогут вам  в работе тезисы: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  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евние считали, что родник, озеро, источник - глаз Божий на земле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 посылает Васютке озеро-загадку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еро - отражение души Васютки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йга-матушка, Енисей-батюшка, озеро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736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76280"/>
            <a:ext cx="79819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убки на 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и мужества, уроки доброт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 в сердце сохранишь навеки,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озеро, как символ чистот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бе откроется, пусть на изломе ле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идишь в струях чистого ручья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ы первозданной отражень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обственная грешная душ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увствует истоки очищень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ьется в сердце неба синев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звезд на небе тихое мерцани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щебет птиц, и росная трава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сюткиного озера си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97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урок 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8" name="Рисунок 2" descr="Рисунок2.png"/>
          <p:cNvPicPr/>
          <p:nvPr/>
        </p:nvPicPr>
        <p:blipFill>
          <a:blip r:embed="rId1"/>
          <a:stretch/>
        </p:blipFill>
        <p:spPr>
          <a:xfrm>
            <a:off x="2268360" y="4149720"/>
            <a:ext cx="3895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5119200"/>
            <a:ext cx="369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Рисунок 1" descr="5-1.jpg"/>
          <p:cNvPicPr/>
          <p:nvPr/>
        </p:nvPicPr>
        <p:blipFill>
          <a:blip r:embed="rId1"/>
          <a:srcRect l="0" t="0" r="0" b="5380"/>
          <a:stretch/>
        </p:blipFill>
        <p:spPr>
          <a:xfrm>
            <a:off x="1692360" y="1484280"/>
            <a:ext cx="3671640" cy="2952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6443640" y="1628640"/>
            <a:ext cx="27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гей Сюхин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страция к рассказу В.П.Астафьева «Васюткино озеро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189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главный герой рассказа В.П.Астафьева “Васюткино озеро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9072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акое противоречие возникает из сказанного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енькая песчинка легко теряется в океане, а человек в тайге. (Вспомним жизненную ситуацию: несколько лет назад в конце июля в Слободском районе погиб 14-летний подросток. Он заблудился в тайге. Он умер не от голода, нет! Он поддался страху, панике, который сковал его и лишил сил, то есть возможности выжить. Он провел в тайге всего сутки и погиб от переохлаждения.)                                                                                Находясь вдали от близких и родного дома, оставшись один на один с суровой и величавой природой, Васютка борется за выжи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Но не только самообладание помогло герою. Что же ещ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о поддерживали мудрость деда, навыки, сформированные отцом, доброта матери и умение разгадать тайны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Можно ли назвать наш урок «Поединок Васютки  и тайги?»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т, в поединке участвуют враги, противники, в этом же рассказе они находят общий язык: Васютка смог прочитать “книгу тайги”, жил по ее законам, и она указала мальчику выход из тупика, преподала уроки мудрости и добр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Ребята, попытайтесь сформулировать проблемные вопросы сегодняшнего уро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-4065120"/>
            <a:ext cx="2160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07316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рода – друг или враг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ение Васютки – чудо или закономер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уроки дает природа герою и читателю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5:35:36Z</dcterms:created>
  <dc:creator>Admin</dc:creator>
  <dc:description/>
  <dc:language>en-US</dc:language>
  <cp:lastModifiedBy>Ксения</cp:lastModifiedBy>
  <dcterms:modified xsi:type="dcterms:W3CDTF">2012-11-28T15:29:10Z</dcterms:modified>
  <cp:revision>122</cp:revision>
  <dc:subject/>
  <dc:title>Мальчик и тайга</dc:title>
</cp:coreProperties>
</file>