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56F-2765-40D6-BA3E-1A75EE86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B45-6D90-4AF7-9A29-C465E6D3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57A-54A1-45A0-BF62-F52C2C93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9E8-AD05-4650-8370-4AAB98DB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E1C-8AB9-4E10-8350-A9790BCB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56A1-97C9-4980-B3AE-463D2B83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0A6-9488-455C-8338-63331B6D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714-9950-4690-A652-7EAA1967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8113-7DBD-4DE1-8EE4-996A63F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8F60-E97B-4CA1-8FF7-BE13AD3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BCE-6945-4A1D-A894-F1F543B9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93A-C6DD-42A4-A6B6-B85A7D12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DBF4-A2C1-4AF1-967D-B378893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C022-CBCE-48B3-A083-4F777D9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DD6A-10E3-4D89-A5B4-F7018F7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01EF-900B-429D-9CF2-771D3E37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3FF-4C83-4A83-A48C-650DBF40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779-3204-4908-A6DF-D365D75D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A67-6BAD-40B0-9771-345A4DB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816-EE5A-4AFF-9F87-F53E0B1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5E1-F377-4584-8FF5-A7E061F9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77C-1D6B-4A12-A2BF-49CB9C3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A75-D602-40E4-AAB6-96E9665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EFB-25C5-4DF2-8280-2676AA5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6D3A-B1FD-4FC2-869C-0B91DF88A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C247-6AFD-4F1E-810B-BF5556510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8207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Times New Roman"/>
              </a:rPr>
              <a:t>Влияние экологических факторов на здоровье школьников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58100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У «Серединская средня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щеобразовательная школ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Шаховской рай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овская обла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еница 10 кла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овойтова Юлия Михайло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уководитель: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иселева Светлана Николаевн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Отношение к алкогол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773360"/>
          <a:ext cx="8316720" cy="46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31672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Употребление алкоголя учащимис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628640"/>
          <a:ext cx="842472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42472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Употребление пива среди подростков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841400" y="3193920"/>
            <a:ext cx="952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14720" y="3573360"/>
            <a:ext cx="95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54320" y="3141720"/>
            <a:ext cx="66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445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сновная причина употребления пива -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угощение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Доля учащихся по группам здоровь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0728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20728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Заболевания школьников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197000"/>
          <a:ext cx="874872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487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КОЛИЧЕСТВО ДЕТЕЙ, ПОСЕЩАЮЩИХ СЕКЦИИ И КРУЖКИ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844640"/>
          <a:ext cx="799308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9930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ЗАНЯТОСТЬ УЧАЩИХСЯ ВО ВНЕУРОЧНОЕ ВРЕМ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1700280"/>
          <a:ext cx="835164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35164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ОХВАТ ГОРЯЧИМ ПИТАНИЕМ ШКОЛЬНИКОВ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1916280"/>
          <a:ext cx="835344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35344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Times New Roman"/>
              </a:rPr>
              <a:t>Программы   и   мероприятия,   направленные   на   сохранение   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ffffb7"/>
                </a:solidFill>
                <a:latin typeface="Times New Roman"/>
              </a:rPr>
              <a:t>укрепление здоровья учащихс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6407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Times New Roman"/>
              </a:rPr>
              <a:t>Практическое использование результатов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яснение школьникам необходимости вести здоровый образ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агандистское информирование учащихся всех классов о вреде здоровью различных экологических фактор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дение общешкольных конференций под общим девизом: «Мы за здоровый образ жизн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лечение к занятиям спортом (спортивные секции, ДЮСШ, молодежный центр «Факел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ровень здоровья у учеников, занимающихся спортом с начальных классов гораздо выше, чем у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Times New Roman"/>
              </a:rPr>
              <a:t>Цели нашей работы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ать факторы, влияющие на здоров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ение продуктов питания, наиболее используемых в пит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ение   уровня   здоровья   учащихся   нашей   школы   (на   основе медицинского осмотр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паганда    здорового    образа    жизни,    исходя    из    результатов ис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ffffb7"/>
                </a:solidFill>
                <a:uFillTx/>
                <a:latin typeface="Times New Roman"/>
              </a:rPr>
              <a:t>Методы достижения поставленных целе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ение теоретического матери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ние   продуктов   на  содержание   нитратов,   свинца  и   на содержание генетически модифицированных компон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учение статистических данных по шко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я общешкольной конференции  «Мы выбираем здоровь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Химические загрязнения среды и здоровье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425080" cy="50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4250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Биологические загрязнения и здоровье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733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иродной среде встречаются и биологические, вызывающие у человека различные заболевания. Это болезнетворные микроорганизмы, вирусы, гельминты, простейшие. Они могут находиться в атмосфере, воде, почве, в теле других живых организмов, в том числе и в самом челове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314520" cy="2981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400536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Влияние звуков на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Питание и здоровье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636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16684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03640" y="3789360"/>
            <a:ext cx="2808360" cy="104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851280" y="191628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667640" y="3860640"/>
            <a:ext cx="952560" cy="1257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651640" y="5300640"/>
            <a:ext cx="1008000" cy="113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771640" y="5229360"/>
            <a:ext cx="9525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b7"/>
                </a:solidFill>
                <a:uFillTx/>
                <a:latin typeface="Times New Roman"/>
              </a:rPr>
              <a:t>Список продуктов, которые могут содержат ГМ - компоненты с указанием компании-производителя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н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дел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Hershey's, Cadbury (FruitScNut), Mars (M&amp;cM, Snickers, Twix, Milky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алкогольн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ит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ca-Cola (Coca-Cola, Sprite), Pepsi Co (Pepsi, 7-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ный напито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quik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leBen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оизводител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огурт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пс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tar&amp;cGam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хие завтрак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llogg'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п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ус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r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p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чень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ma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вательные резинк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motol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gley'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ское питание от компани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tl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 Lab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д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Влияние вредных привычек на здоровье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55:44Z</dcterms:created>
  <dc:creator>Светлана Николаевна</dc:creator>
  <dc:description/>
  <dc:language>en-US</dc:language>
  <cp:lastModifiedBy>Светлана Николаевна</cp:lastModifiedBy>
  <dcterms:modified xsi:type="dcterms:W3CDTF">2008-10-24T14:09:56Z</dcterms:modified>
  <cp:revision>5</cp:revision>
  <dc:subject/>
  <dc:title>«Влияние экологических факторов на здоровье школьников Серединского сельского поселения Шаховского района Московской области»</dc:title>
</cp:coreProperties>
</file>