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5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5B0A-67C0-4096-8AC2-01B7A6EA9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2534-D4C3-48BF-971E-F01F49DA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D871F-C42E-4542-89C7-CE53066C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64D7A1-9702-4313-A86B-BA247248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244EE-F826-423F-843B-3D67A024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C6DA1-B35E-4880-AC5E-D2CFA994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A883E-355A-4884-A1B7-9196EA75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287DB-CC6B-49D2-9ADC-83BF76A9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123C8F-FCCD-4AE9-8490-1AD37F8E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C032E9-C0B8-484A-872C-08FC4BEA4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2A4DEA-9FC3-4C4B-9835-379F6FCC5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B5FC-FB07-4AF1-9ECF-37BC0F10B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D79B-E82E-4261-992D-3B4371E6F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BD76-093F-4498-9605-55E60452B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549BB-B1CA-4EC0-A703-979F6441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BF0F-C920-4487-A480-526B359F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EB91-480C-48BC-8F93-2AAE28E4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D1DE-2482-49F2-A75D-C411F4AC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DBB7-44B0-4A14-810E-11792331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D3E0-C26A-40AB-B727-B1B6A16B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12C9-E5CE-4399-BE1F-5C33B843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14A6-729C-43F2-8786-A0C7CA17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EBF1-317C-4B8F-BC3C-F269624D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282B-8FEA-469C-BCBB-51D574B7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E022-5823-4A5F-AF53-2B6B278B3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CA9B-9004-4C0A-B3B2-5AB816073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2073D-3676-4225-9ED7-A3C0AF446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9F31C-EE0D-4257-A264-2375C60F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8AC15-4E80-4089-9B20-A8B62196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E2B24-A0C6-4B21-AD11-C2AD4D10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73FE6-E041-463C-8022-005AA6A5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5B3F-5973-4745-A085-1241449E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10C31-BD70-4BB8-889B-79454406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10729-A6A5-4B6C-B174-504AF7AB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B3BC9-39EB-4F5C-BDBD-C652A9F4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C07AF-AB93-4964-A401-5C152C04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B3DF5-49A2-40B0-87DB-0FB34301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DB07B-6C41-42A2-8558-EAEE005DB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E25C5-74E8-4FD4-A3D1-F928D98C2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5BAC7-BE70-4590-A55F-CD5A5719A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D0815-E2F9-4B5B-9FEE-35854F77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B1C4A-85FD-4015-936A-089E96A1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CDF2-60B0-44A4-8DDB-19B26EB0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5E6EA-D30D-4E26-A0F7-566A68EF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CEFCD-13FB-4FFE-93F8-D2AE2A12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35813-8230-4456-BA5C-637C2425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0AFE4-29DA-4DFD-882B-4A4D49C4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D9E5E-0F28-4191-ABDB-B3B16426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FAED7-A9D8-468D-944F-AEE8C8FC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1B737-37F9-4834-B84D-74BF0748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686E6-3DC9-4663-BC34-91BF66D12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B68BB-7DF0-4DFD-95ED-6DFEF62E2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305F3-F548-4768-89E9-A74739604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3881-7AE5-4024-A070-3CEFFFCE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70915-5285-46C5-8FBB-3027CFE5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DF387-F2D0-4C92-AF85-89C360D8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1F307-F5BE-4C18-B226-449DB308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C1B42-49FB-4B4A-8801-6ADA4B1E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AC284-CF04-4488-9A8C-D83490D7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523AD-8B43-4FB2-8293-14668C91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593A6-02E9-41CF-AC9E-6AFCE789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A86F5-3612-43C0-8F96-C572D584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4DBBB-B718-4D65-8991-B8D06D85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2DAE3-03AE-4242-AC7F-127BF3F4E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53EF-6C43-4E20-B408-23E44358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F2BB2-F87C-4079-9D36-C5049F6D0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52727-12EB-411E-8F3F-30C8EFEE9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44794-57D4-4D66-8BB6-BDCD4F80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2BCC0-67E4-4593-A14F-C4BDA0D5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57281-6F6B-4F89-A26A-10EAFD4D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0D4A1-8529-4DE0-BE56-DEE11EAF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31B9C-6D30-4F91-A2BB-2C61BB60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0638C-4458-4B52-960E-48704102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BC518-D2C5-42EC-B95B-167FEEFF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10CE3-E2FC-4C29-8456-8B6C0CCD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900E-3F58-4AB7-BEE2-121E5FA1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07ABB-5D52-4185-AFB3-778DA473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2EF46-14AB-41FB-BB3F-80715F80A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90A9B-A07A-41A7-BB78-C7BAE140F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2C8F3-0277-4F7A-B4E8-B5A0A749A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532A0-8121-420F-922C-C8267BAB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B4CA1-6334-4E3F-9AA6-5DB0EF06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74029-0A61-4B14-8867-200A44CE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7757B-B710-4A37-9F3F-22AE92C8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910D8-DF63-49ED-AB36-8BB32062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CBCE2-6F10-45B6-B311-098174A9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E01C-3472-4696-BB08-7684F28D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B3D7E-4B00-4C18-89AE-EF0FB855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D9386-6FDF-4F21-8811-FC3C5FA0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489A3-34BA-4E09-B2EE-961C0494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269D7-4526-4FBB-A0CD-240CD7B72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7128C-EA15-4B31-BBF0-07F692A14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8FA7F-84ED-4A1B-B45A-1A1DD80A3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3E9DA-3622-48CF-B9D3-23DA4BA1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80904-EA2D-40C6-BDD3-A5A92A75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46038-104D-46AD-AE00-CB37EE3C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6FFA8-ED53-4F4F-9342-3EBE7329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35FA-C05D-46FE-B3CB-DBF47E3F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7168A-C671-4C3E-9F0B-A22C350D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1BD43-5CE4-472B-99DD-AF7ED042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F8894-126D-421E-A1D3-46809D5F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FBEE6-0160-419F-8C58-525068E2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41727-582A-4601-893D-CE35B091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912A9-A06B-4256-8232-167648CB4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A22E3-94B8-47FB-9189-2A3416E0F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2ECCDE-111E-464F-92B4-AAA805CF9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54A18B-6061-469F-A66D-B1273E6F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4747B3-B88F-4EB0-85A2-5927B24E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3CD7-A464-47CF-B4CD-A6EBFE370C5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77C4-7534-4E64-8F1F-0A3CB508D85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CB7E-8BE9-477F-BBA2-94064127C44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3321-E4AE-4F90-89C6-72148BC391D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26AC-7C4D-4465-B427-52CBEDE050E2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CD5A-3F83-4DEC-AA04-95FEACC5913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1FBD-52F8-4B0E-A130-028DF72FDCC6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8051-3568-4D4D-8AE5-83C699195BC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F9FF-1872-4F96-9B01-79B418AC419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hyperlink" Target="http://rozamira.ucoz.ru/_pu/13/35712596.png" TargetMode="External"/><Relationship Id="rId4" Type="http://schemas.openxmlformats.org/officeDocument/2006/relationships/image" Target="../media/image8.png"/><Relationship Id="rId5" Type="http://schemas.openxmlformats.org/officeDocument/2006/relationships/hyperlink" Target="http://upload.wikimedia.org/wikipedia/commons/6/6d/Mastaba.jpg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hyperlink" Target="http://cs5753.vkontakte.ru/u2008214/138062462/x_31f48057.jp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hyperlink" Target="http://www.freegots.ru/_pu/0/91366641.jpg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hyperlink" Target="http://www.tampereclub.ru/uploads/posts/2011-12/1323264364_dostoprimechatelnosti-05.jpg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hyperlink" Target="http://zakazhisebetur.ru/wp-content/uploads/2012/04/giza2.jpg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2"/>
          <a:stretch/>
        </p:blipFill>
        <p:spPr>
          <a:xfrm>
            <a:off x="353880" y="304920"/>
            <a:ext cx="8466120" cy="27241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3329"/>
              </a:solidFill>
              <a:latin typeface="Franklin Gothic Book"/>
            </a:endParaRPr>
          </a:p>
        </p:txBody>
      </p:sp>
      <p:pic>
        <p:nvPicPr>
          <p:cNvPr id="401" name="Picture 2" descr="C:\Users\Таня\Desktop\swggpe1[1].jpg"/>
          <p:cNvPicPr/>
          <p:nvPr/>
        </p:nvPicPr>
        <p:blipFill>
          <a:blip r:embed="rId3"/>
          <a:stretch/>
        </p:blipFill>
        <p:spPr>
          <a:xfrm>
            <a:off x="1928880" y="2786040"/>
            <a:ext cx="528804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2"/>
          <a:stretch/>
        </p:blipFill>
        <p:spPr>
          <a:xfrm>
            <a:off x="281160" y="281160"/>
            <a:ext cx="8697600" cy="11509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304920" y="4857480"/>
            <a:ext cx="8686800" cy="122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9" name="Picture 2" descr="http://1.1.1.4/bmi/img-fotki.yandex.ru/get/5506/6586706.1/0_6ebf1_a014af2_XL"/>
          <p:cNvPicPr/>
          <p:nvPr/>
        </p:nvPicPr>
        <p:blipFill>
          <a:blip r:embed="rId3"/>
          <a:stretch/>
        </p:blipFill>
        <p:spPr>
          <a:xfrm>
            <a:off x="1500120" y="1571760"/>
            <a:ext cx="622620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2"/>
          <a:stretch/>
        </p:blipFill>
        <p:spPr>
          <a:xfrm>
            <a:off x="208080" y="5638680"/>
            <a:ext cx="8697960" cy="11527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457200" y="2714400"/>
            <a:ext cx="8686800" cy="29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2" name="Picture 2" descr="http://1.1.1.5/bmi/artendschool.ru/wp-content/uploads/2011/11/%D0%92%D0%B5%D0%B4%D0%B5%D1%80%D0%BD%D0%B8%D0%BA%D0%BE%D0%B2%D0%B0cr.jpg"/>
          <p:cNvPicPr/>
          <p:nvPr/>
        </p:nvPicPr>
        <p:blipFill>
          <a:blip r:embed="rId3"/>
          <a:stretch/>
        </p:blipFill>
        <p:spPr>
          <a:xfrm>
            <a:off x="2571840" y="285840"/>
            <a:ext cx="38383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Заголовок 1" descr=""/>
          <p:cNvPicPr/>
          <p:nvPr/>
        </p:nvPicPr>
        <p:blipFill>
          <a:blip r:embed="rId2"/>
          <a:stretch/>
        </p:blipFill>
        <p:spPr>
          <a:xfrm>
            <a:off x="281160" y="133200"/>
            <a:ext cx="8697600" cy="13669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214200" y="2286000"/>
            <a:ext cx="868680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писать архитектурный пейзаж с использованием изображений памятников Древнего Египта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1" descr=""/>
          <p:cNvPicPr/>
          <p:nvPr/>
        </p:nvPicPr>
        <p:blipFill>
          <a:blip r:embed="rId2"/>
          <a:stretch/>
        </p:blipFill>
        <p:spPr>
          <a:xfrm>
            <a:off x="353880" y="1530360"/>
            <a:ext cx="8466120" cy="187812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3329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499680"/>
            <a:ext cx="86868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 в немой дали застыли</a:t>
            </a:r>
            <a:endParaRPr b="0" lang="en-US" sz="3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ирамиды фараонов</a:t>
            </a:r>
            <a:endParaRPr b="0" lang="en-US" sz="3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аркофаги древней были,</a:t>
            </a:r>
            <a:endParaRPr b="0" lang="en-US" sz="3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еличавые, как вечность,</a:t>
            </a:r>
            <a:endParaRPr b="0" lang="en-US" sz="3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олчаливые, как смерть.</a:t>
            </a:r>
            <a:endParaRPr b="0" lang="en-US" sz="3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                                                           </a:t>
            </a:r>
            <a:r>
              <a:rPr b="0" i="1" lang="ru-RU" sz="3000" spc="-1" strike="noStrike">
                <a:solidFill>
                  <a:srgbClr val="4e3b30"/>
                </a:solidFill>
                <a:latin typeface="Franklin Gothic Book"/>
              </a:rPr>
              <a:t>М. Эмилеску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49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2571840" y="1499760"/>
            <a:ext cx="58579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гробницы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ирамиды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храмы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белиск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2"/>
          <a:stretch/>
        </p:blipFill>
        <p:spPr>
          <a:xfrm>
            <a:off x="298440" y="-146160"/>
            <a:ext cx="8699400" cy="20113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04920" y="4642920"/>
            <a:ext cx="8686800" cy="14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8" name="Picture 2" descr="http://1.1.1.1/bmi/rozamira.ucoz.ru/_pu/13/35712596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4200" y="1571760"/>
            <a:ext cx="4143600" cy="26431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http://1.1.1.1/bmi/upload.wikimedia.org/wikipedia/commons/6/6d/Mastaba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57760" y="3429000"/>
            <a:ext cx="498636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2"/>
          <a:stretch/>
        </p:blipFill>
        <p:spPr>
          <a:xfrm>
            <a:off x="281160" y="208080"/>
            <a:ext cx="8697600" cy="11509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142640"/>
            <a:ext cx="8686800" cy="21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фараона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III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династии Джосера в Саккар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2" name="Picture 2" descr="http://1.1.1.5/bmi/cs5753.vkontakte.ru/u2008214/138062462/x_31f48057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28880" y="2143080"/>
            <a:ext cx="56912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2"/>
          <a:stretch/>
        </p:blipFill>
        <p:spPr>
          <a:xfrm>
            <a:off x="450720" y="208080"/>
            <a:ext cx="8699760" cy="13651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214200" y="5643720"/>
            <a:ext cx="8686800" cy="14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зодчий периода Древнего царств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5" name="Picture 2" descr="http://1.1.1.3/bmi/www.freegots.ru/_pu/0/9136664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71880" y="1285920"/>
            <a:ext cx="335736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2"/>
          <a:stretch/>
        </p:blipFill>
        <p:spPr>
          <a:xfrm>
            <a:off x="281160" y="133200"/>
            <a:ext cx="8697600" cy="13906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457200" y="128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(Хеопса, Хефрена и Микерина)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8" name="Picture 2" descr="http://1.1.1.4/bmi/www.tampereclub.ru/uploads/posts/2011-12/1323264364_dostoprimechatelnosti-05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85960" y="2214720"/>
            <a:ext cx="611172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2"/>
          <a:stretch/>
        </p:blipFill>
        <p:spPr>
          <a:xfrm>
            <a:off x="450720" y="208080"/>
            <a:ext cx="8699760" cy="11509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285840" y="600048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лина 50 м, высота 20 м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1" name="Picture 5" descr="http://1.1.1.4/bmi/zakazhisebetur.ru/wp-content/uploads/2012/04/giza2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43040" y="1143000"/>
            <a:ext cx="63943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9520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28400" y="3500280"/>
            <a:ext cx="4190760" cy="8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амессеум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714480" y="5571720"/>
            <a:ext cx="556236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кальный храм Рамзеса </a:t>
            </a:r>
            <a:r>
              <a:rPr b="1" lang="en-US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III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в Абу-Симбел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5" name="Picture 2" descr="http://1.1.1.3/bmi/www.tourshow.ru/download/fotogallery/original/1320227449.jpg"/>
          <p:cNvPicPr/>
          <p:nvPr/>
        </p:nvPicPr>
        <p:blipFill>
          <a:blip r:embed="rId2"/>
          <a:stretch/>
        </p:blipFill>
        <p:spPr>
          <a:xfrm>
            <a:off x="214200" y="214200"/>
            <a:ext cx="4500720" cy="31147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" descr="http://1.1.1.2/bmi/dic.academic.ru/pictures/enc_colier/ph03715.jpg"/>
          <p:cNvPicPr/>
          <p:nvPr/>
        </p:nvPicPr>
        <p:blipFill>
          <a:blip r:embed="rId3"/>
          <a:stretch/>
        </p:blipFill>
        <p:spPr>
          <a:xfrm>
            <a:off x="4857840" y="2786040"/>
            <a:ext cx="368280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4T13:41:21Z</dcterms:created>
  <dc:creator>Таня</dc:creator>
  <dc:description/>
  <dc:language>en-US</dc:language>
  <cp:lastModifiedBy>Андрей</cp:lastModifiedBy>
  <dcterms:modified xsi:type="dcterms:W3CDTF">2012-11-29T07:19:42Z</dcterms:modified>
  <cp:revision>26</cp:revision>
  <dc:subject/>
  <dc:title>Памятники культуры Древнего египта. Архитектура. монументальная живопись</dc:title>
</cp:coreProperties>
</file>