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B16-562B-4316-BE9F-2DD4D207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7A9-9691-4767-A17E-543C0413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AEA8F-A6E8-48BD-A4B2-D385B01D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D347E-1C67-4BB7-92BE-C0339C8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F0897-999A-47AA-9154-F447A02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FC27-CBBE-4AF3-91D7-5B674C2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A2C3F-EE3B-4105-9EEB-FCFB2B1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74F7-61F8-4D0F-BD2E-DDFC9EB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3C4B4-7AC2-4EA1-8C5D-01DF50DA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415A9-4B7E-4C39-AEA7-6CBC0B81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67D1-783F-4EE9-8B38-601BE7AF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4DF-EB9F-45BD-B47F-89C30258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343-3A2A-4648-A6D1-6B1E735E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CF9-BBC0-46D1-8187-6ADC7C06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D0FD-A837-426A-B8CE-D87989D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78AA-8363-40E8-9C5D-5759F96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E7A8-2BD7-4C7D-82E5-F54AB17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C45-B10A-42DE-A285-3117295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CD2F-2644-4C65-B6CB-A1A8971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F02-1634-47E2-9923-9865EA4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A1A-338A-4853-AD8D-C0F5B4B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778-A9D0-4688-A1FF-05DB865F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CE24-890B-44DA-A135-69F14B1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6D4-8D31-4747-A844-A601A2D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F51-CA7C-4A4C-8903-20782A17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288-D84D-4CA3-A5BE-D46D8A05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B3CF-B22D-4E1E-BE48-51581CE3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EBC1-8100-4808-ACFD-DD0D3B52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1805C-14E9-4193-87E4-3E49CF8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81F2-4297-427D-BB90-40F4A05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4996-E90C-451B-90EC-92869C69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607-4806-42FF-BCCA-B3E37F02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8C21-12ED-42DE-9AAB-79B5A60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67A4-9403-422B-9240-CE87517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7C7F-A691-49E6-B2C6-5DB8427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7D0F-950A-4A21-8523-013B026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5921-C1FE-430C-A764-5C64823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F8FD-37B9-4984-A4E4-41768B7D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38E8-E553-4820-88C6-D139F01D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2C65-EDD0-4B54-A68E-70883FEA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8F6A-4876-4F34-A9BB-634D664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2FD5-B278-4B7E-8C6E-28CB0F8D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9D4-9E03-4D42-922A-DDCB0310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3E28-11BA-47C2-AD5E-755E340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92EE-497A-4251-A6D2-4B2E40ED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51BA-1009-4E50-A45E-2639957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8ED7-F3FC-42CC-8E17-229D74D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08A0-6A12-4A98-8D67-39038BE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98AB-18D8-453E-BA56-2447094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E3AC-BF09-47D6-AF87-6401946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90A6-76FE-48DE-A16C-8E0111B2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B560-B6F0-4A87-9043-71E79051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A987-597E-4C93-A4EC-FD71BEB2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0CF-A304-402F-90F5-4F5358C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659E-CAA7-4659-AFE8-ACBBF654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D071-822B-4264-A2D6-63FB49C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97820-E208-4EDC-BE40-8341D5B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D528-28CC-44EA-9DE6-14C9115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3EFA-D83A-4B8F-9431-CA4BDE2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9A74-4563-4E78-816F-D3449FE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48E9-A9A0-42A8-B35E-D9A39E8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4AD9E-22B0-4DEE-B8EF-2247A47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544A-B9C0-4C3F-BAA8-55CA9F9D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0E86-25A1-4F46-AFA6-BB7A62D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BE9-9619-4865-B048-F6417A4A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0A3A-4ECA-45C8-AD09-EB051907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E08A-1D87-4DA9-A155-6B93B929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88F2-64FA-4778-979E-0C6286B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B8F6-476A-4DC5-B4BC-97FDD00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AD0D-3BCC-4C15-BF3A-CA456ECA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A68E-D477-45FF-8E5E-612DFD6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AF75E-8063-4F9C-8883-ECDF911F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5F55-76CB-45F8-B70A-26D1502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7792-A466-4063-8B40-A20674E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23A8-FD98-43C0-8F1B-7738AAF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057-8B16-4A4D-8851-4E174F0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8406-B7D5-4E1E-A5A8-BAAB1ED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35FE-5FE7-4BBC-9D44-3A34A17F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1167A-58E9-4914-B164-1BA3A15B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1ADC-F9C6-49E8-B953-779ACA65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4F14-B54C-4F46-AC85-CF4836C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8C72-0214-46E2-9010-E59D9CC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BD825-6A7C-4A8E-B7E5-C41EE70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C6173-64F8-424B-AA8C-45593CA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5E18-F2D2-472F-84F6-5D9BA4F4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C955-9282-4C6F-944C-21E023A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992-B506-4CD7-9F91-BF46B0F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1BCB-78F0-4336-AC5C-3D2D1E1F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7F44-1C75-4B41-97A7-05266CD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66C7-0962-4ED5-8D48-42E2076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0BE7-F80E-4960-A2E4-578EDBD1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4640-5B3C-4541-A60E-2D7F9EC4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A920-3391-48C4-88F7-597AD66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EE74-D903-4571-BE58-F63247D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50EE-9DF2-4992-A097-2772472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11A2-DAFB-4C30-B074-7FFB136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BF078-4F31-415B-B2B3-366F1E4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84C-2710-417F-A9EC-7CEB48C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CBE0-E435-4B6F-B84C-FB0A2DB4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C9A1-CDA8-46DB-A760-8EE20CC8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0D63-56E4-4325-8EB8-1392796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479F-5BC4-4C57-B63A-B005826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4D92-197C-40DE-90C9-8914F2F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2214-1BD6-41C7-A5EC-6B8AB9FE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48247-C941-493B-B35B-6AEA2424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05B5-34AD-481C-8B4D-95097558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87E6-B407-44F2-8D14-94A49737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8EF37-E340-4CD9-90A5-97F0603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11B6-7CFC-4BA2-8BEC-6B58A25967D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D6B-B292-46F5-977A-B3737CD14BE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D14-CD16-48EE-8AAE-73B2BEF3168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9DC-C330-4B5E-927B-3C92D670C01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4A6-A840-4B80-869B-A58F487E491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30AE-754F-4870-8D79-3BA0150B2B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D1D-BAF4-45A1-A277-1A0844BF142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95D-BB5A-4340-8AEE-EBED674442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BC52-E6A7-42DF-8DE5-D273A72F99A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rozamira.ucoz.ru/_pu/13/35712596.pn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upload.wikimedia.org/wikipedia/commons/6/6d/Mastaba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cs5753.vkontakte.ru/u2008214/138062462/x_31f48057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freegots.ru/_pu/0/9136664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tampereclub.ru/uploads/posts/2011-12/1323264364_dostoprimechatelnosti-05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zakazhisebetur.ru/wp-content/uploads/2012/04/giza2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353880" y="304920"/>
            <a:ext cx="8466120" cy="272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2" descr="C:\Users\Таня\Desktop\swggpe1[1].jpg"/>
          <p:cNvPicPr/>
          <p:nvPr/>
        </p:nvPicPr>
        <p:blipFill>
          <a:blip r:embed="rId3"/>
          <a:stretch/>
        </p:blipFill>
        <p:spPr>
          <a:xfrm>
            <a:off x="1928880" y="2786040"/>
            <a:ext cx="5288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281160" y="28116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485748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http://1.1.1.4/bmi/img-fotki.yandex.ru/get/5506/6586706.1/0_6ebf1_a014af2_XL"/>
          <p:cNvPicPr/>
          <p:nvPr/>
        </p:nvPicPr>
        <p:blipFill>
          <a:blip r:embed="rId3"/>
          <a:stretch/>
        </p:blipFill>
        <p:spPr>
          <a:xfrm>
            <a:off x="1500120" y="1571760"/>
            <a:ext cx="62262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208080" y="5638680"/>
            <a:ext cx="869796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2714400"/>
            <a:ext cx="8686800" cy="29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http://1.1.1.5/bmi/artendschool.ru/wp-content/uploads/2011/11/%D0%92%D0%B5%D0%B4%D0%B5%D1%80%D0%BD%D0%B8%D0%BA%D0%BE%D0%B2%D0%B0cr.jpg"/>
          <p:cNvPicPr/>
          <p:nvPr/>
        </p:nvPicPr>
        <p:blipFill>
          <a:blip r:embed="rId3"/>
          <a:stretch/>
        </p:blipFill>
        <p:spPr>
          <a:xfrm>
            <a:off x="2571840" y="285840"/>
            <a:ext cx="3838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281160" y="133200"/>
            <a:ext cx="8697600" cy="136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14200" y="2286000"/>
            <a:ext cx="86868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писать архитектурный пейзаж с использованием изображений памятников Древнего Египт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353880" y="1530360"/>
            <a:ext cx="8466120" cy="1878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49968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в немой дали застыли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рамиды фараонов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ркофаги древней были,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личавые, как вечность,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лчаливые, как смерть.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</a:t>
            </a: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М. Эмилеску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571840" y="149976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бниц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рамид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рамы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елиск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298440" y="-146160"/>
            <a:ext cx="8699400" cy="201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4642920"/>
            <a:ext cx="868680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1.1.1.1/bmi/rozamira.ucoz.ru/_pu/13/35712596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157176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ttp://1.1.1.1/bmi/upload.wikimedia.org/wikipedia/commons/6/6d/Mastab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3429000"/>
            <a:ext cx="4986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81160" y="20808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142640"/>
            <a:ext cx="86868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фараона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династии Джосера в Сакка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ttp://1.1.1.5/bmi/cs5753.vkontakte.ru/u2008214/138062462/x_31f4805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8880" y="2143080"/>
            <a:ext cx="5691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365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14200" y="5643720"/>
            <a:ext cx="8686800" cy="14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зодчий периода Древнего цар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http://1.1.1.3/bmi/www.freegots.ru/_pu/0/913666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1285920"/>
            <a:ext cx="33573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281160" y="133200"/>
            <a:ext cx="8697600" cy="13906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28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Хеопса, Хефрена и Микерина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http://1.1.1.4/bmi/www.tampereclub.ru/uploads/posts/2011-12/1323264364_dostoprimechatelnosti-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85960" y="2214720"/>
            <a:ext cx="6111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50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85840" y="600048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50 м, высота 20 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5" descr="http://1.1.1.4/bmi/zakazhisebetur.ru/wp-content/uploads/2012/04/giza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43040" y="1143000"/>
            <a:ext cx="63943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9520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400" y="3500280"/>
            <a:ext cx="4190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мессеу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714480" y="5571720"/>
            <a:ext cx="55623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кальный храм Рамзеса 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 Абу-Симбел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1.1.1.3/bmi/www.tourshow.ru/download/fotogallery/original/1320227449.jpg"/>
          <p:cNvPicPr/>
          <p:nvPr/>
        </p:nvPicPr>
        <p:blipFill>
          <a:blip r:embed="rId2"/>
          <a:stretch/>
        </p:blipFill>
        <p:spPr>
          <a:xfrm>
            <a:off x="214200" y="214200"/>
            <a:ext cx="4500720" cy="311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1.1.1.2/bmi/dic.academic.ru/pictures/enc_colier/ph03715.jpg"/>
          <p:cNvPicPr/>
          <p:nvPr/>
        </p:nvPicPr>
        <p:blipFill>
          <a:blip r:embed="rId3"/>
          <a:stretch/>
        </p:blipFill>
        <p:spPr>
          <a:xfrm>
            <a:off x="4857840" y="2786040"/>
            <a:ext cx="36828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41:21Z</dcterms:created>
  <dc:creator>Таня</dc:creator>
  <dc:description/>
  <dc:language>en-US</dc:language>
  <cp:lastModifiedBy>Андрей</cp:lastModifiedBy>
  <dcterms:modified xsi:type="dcterms:W3CDTF">2012-11-29T07:19:42Z</dcterms:modified>
  <cp:revision>26</cp:revision>
  <dc:subject/>
  <dc:title>Памятники культуры Древнего египта. Архитектура. монументальная живопись</dc:title>
</cp:coreProperties>
</file>