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D1F4-DC6F-4816-8AB1-0C16E716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E219-2C45-490F-B80B-A0108B99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8DD0-00DC-4131-8BF1-92BDC3BC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E5BE-D5C3-442C-8316-2921881A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F284-6F86-4BBC-920A-F12246CD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865A-4DAB-4E40-99C3-491C2522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23C7-8927-4332-BC8D-AD0F39FC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2C9F-A098-454E-9B45-D7F4443D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F69E-4D4A-466B-97B1-6220BE3C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BEA5-A5B6-4A14-82C9-C0E0063B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4A3B-1D36-4190-B3BB-583B8A6F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E3F5-6C81-4CFA-A1EA-F55841DA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D797-3D9C-4F2D-8AA9-AEAA36F6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A383-60F2-4C37-BAB0-929501FC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6109-8B36-41E1-8BF7-68270CB5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F1E7-2F02-432C-BE24-04AD3C37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A7FA-F3D1-4D22-870B-78521F3E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C9C8-1EC2-448B-B79B-F8294C05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0C5A-9BA8-4DDF-985D-4830CBEA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0F57-D7BD-4248-9A6A-98526A88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9A6-D618-43E6-BF7D-2E137B90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8C4E-59DC-4476-AD5F-C1DDF762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4354-2CDE-4F8F-A367-0465C2AC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C628-B02C-44A8-B2C3-CBA8FEFA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1182-CAAA-496E-BA2C-0FE4B92933F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55F5-0D7F-4630-B72D-6AED406EC14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737712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Мальчики и девочки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24000" y="5589360"/>
            <a:ext cx="39607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Педагог высшей категории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Медянникова Светлана Анатольевна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189000"/>
            <a:ext cx="4572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Муниципальное бюджетное дошкольное образовательное учреждение детский сад общеразвивающего вида «Светлячок» с приоритетным осуществлением деятельности по социально-личностному развитию дете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Успехи выпускников: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Цель: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 развивать диалогическую речь детей, учить анализировать ситуацию, делать выводы. Закрепить умение аппелировать к ответу товарища, формирование дружеских отношений в группе.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самовыражение детей в речевой и игровой деятельности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79246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Организационная структура: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едварительная работа: Беседы «Как я помогаю маме, папе»,«Во что играют девочки, мальчики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/и «Кому что нужно»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омашнее задание: рисунки на тему: «Мамина, папина работа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атериалы: куклы мальчиков и девочек, кубики «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go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»: 3 города- Солнечный, Цветочный, Разноцветны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3280" y="3068640"/>
            <a:ext cx="4104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Организационный момент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4 минуты.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Цель: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2349360"/>
            <a:ext cx="64069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приемной. Дети стоят в кругу. Воспитатель: «Какие вы красивые, и мальчики и девочки, я приглашаю вас в путешествие в волшебную страну. Туда берут только настоящих мальчиков и девочек». Игровое упражнение: «Мне нравится быть …» с волшебным шар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Теперь я вижу, что вы настоящие мальчики и девочки. Занимаем места в поезде и едем в волшебную страну. Дорогу туда нам покажет волшебная палочка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Звучит музыка, поезд отправляетс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377028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Основная часть: </a:t>
            </a:r>
            <a:r>
              <a:rPr b="1" lang="en-US" sz="1600" spc="-1" strike="noStrike">
                <a:solidFill>
                  <a:srgbClr val="cc99ff"/>
                </a:solidFill>
                <a:latin typeface="Arial"/>
              </a:rPr>
              <a:t>… минут.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Цель: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ервый город Солнечный. Догадайтесь, кто там живет? Дети отвечают. В какие игры любят играть только мальчики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Следующий город Цветочный. А как вы думаете, кто здесь живет? В какие игры любят играть только девочки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А этот город Разноцветный. Кто здесь живет? В какие игры дети любят играть вмест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Воспитатель обобщает ответы детей. Дети садятся на стульчик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Какую работу лучше всего умеют делать мужчины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Какую работу обычно выполняют работу женщины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Беседа: Можно ли по одежде отличить девочку от мальчика? А по прическе? А по поведению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88000" y="476280"/>
            <a:ext cx="3889440" cy="2481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788000" y="3429000"/>
            <a:ext cx="4032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Физминутка. </a:t>
            </a:r>
            <a:r>
              <a:rPr b="0" lang="ru-RU" sz="1800" spc="-1" strike="noStrike">
                <a:solidFill>
                  <a:srgbClr val="cc99ff"/>
                </a:solidFill>
                <a:latin typeface="Arial"/>
              </a:rPr>
              <a:t>…минут.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Цель: Развивать умение имитировать походку, двигаться в ритм музыки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А по походке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зобразите как ходят девочки-красавицы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 ходят сильные мальчики, супермен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00720" y="3068640"/>
            <a:ext cx="43923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Виды детской деятельности.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Интеграция образовательных областей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3384720" cy="2158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3746520" cy="2389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116000" y="3933720"/>
            <a:ext cx="3743280" cy="2386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003640" y="3933720"/>
            <a:ext cx="3745080" cy="23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Заключительная часть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…минут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Цель: Учить детей самостоятельно принимать решение, высказывать свои мысли, делать выводы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думайте, в каком городе вы хотели бы жить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азойдитесь по города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Объясните, почему вы решили жить в этом городе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ак вы думаете, в каком городе будет удобнее и веселее жить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то хочет переселиться в другой город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се вместе танцуют в круг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0" y="3068640"/>
            <a:ext cx="43210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Результаты детской деятельности: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Материал усвоен: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на высоком уровне…%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на достаточном уровне…%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на низком уровне 0%.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07:03:14Z</dcterms:created>
  <dc:creator>Admin</dc:creator>
  <dc:description/>
  <dc:language>en-US</dc:language>
  <cp:lastModifiedBy>WiZaRd</cp:lastModifiedBy>
  <dcterms:modified xsi:type="dcterms:W3CDTF">2012-10-08T17:14:43Z</dcterms:modified>
  <cp:revision>9</cp:revision>
  <dc:subject/>
  <dc:title>Космическое путешествие</dc:title>
</cp:coreProperties>
</file>