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3A030-7348-44D0-A9F8-70B90F14B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AD8D8-D458-481E-A7E4-6EDBBB26F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56526-47D6-471B-9391-55BBCAF52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131C9-FB44-4DA3-8E6A-F20626F04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76C29-6A09-4BE8-A390-B2DBE10B3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D5CF0-66BF-414D-B47D-C13A8211B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2979C-E781-46FF-A5B0-47680278F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58EE4-9BA4-4B6F-9900-9D6B5E0E7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FAB74-A490-4C77-84A8-D9C6EDE77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375D2-35B6-4C7E-80DF-E06C1596B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FFA15-DB3F-43D5-88D6-1B98F6F73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F2ABC-D8EA-4DB2-9D44-C8CE01240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7E9D9-5009-4EE6-84BD-1A9C74FD4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A9B02-578D-464E-85BB-1CB17BB8F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0A98F-B3A2-4BE3-ADA9-F2D7500EE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CCCF5-6246-4F54-8A0E-420A23534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1F22B-FB53-46F9-B05C-7C212EDD7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42F42-10CE-475A-B464-7C984D627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871BA-8F20-4911-9CDB-0AD638DCC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610F1-A1F2-4909-9113-270BEED67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EC03C-3E8A-470A-8018-9FA42B192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8A26B-BF45-4659-85F4-BCD808736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E171C-B8F6-4283-B14D-066BA80C5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AD5D8-37DB-4325-ADBD-01064DE1F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1BFF9-AFE1-4C77-B459-9F4EAF2EEB4B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F8CFC-85B5-48B8-8614-0737E1CA3C79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7377120" cy="19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Arial"/>
              </a:rPr>
              <a:t>Мальчики и девочки</a:t>
            </a: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324000" y="5589360"/>
            <a:ext cx="39607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Педагог высшей категории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Медянникова Светлана Анатольевна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572000" y="189000"/>
            <a:ext cx="45720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Arial"/>
              </a:rPr>
              <a:t>Муниципальное бюджетное дошкольное образовательное учреждение детский сад общеразвивающего вида «Светлячок» с приоритетным осуществлением деятельности по социально-личностному развитию детей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Успехи выпускников: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Arial"/>
              </a:rPr>
              <a:t>Цель: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Arial"/>
              </a:rPr>
              <a:t>- развивать диалогическую речь детей, учить анализировать ситуацию, делать выводы. Закрепить умение аппелировать к ответу товарища, формирование дружеских отношений в группе.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Arial"/>
              </a:rPr>
              <a:t>-самовыражение детей в речевой и игровой деятельности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Задачи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55280" y="764640"/>
            <a:ext cx="792468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Организационная структура: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Предварительная работа: Беседы «Как я помогаю маме, папе»,«Во что играют девочки, мальчики»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Д/и «Кому что нужно»</a:t>
            </a:r>
            <a:br>
              <a:rPr sz="2000"/>
            </a:b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Домашнее задание: рисунки на тему: «Мамина, папина работа»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Материалы: куклы мальчиков и девочек, кубики «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lego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»: 3 города- Солнечный, Цветочный, Разноцветный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643280" y="3068640"/>
            <a:ext cx="4104000" cy="26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Arial"/>
              </a:rPr>
              <a:t>Организационный момент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Arial"/>
              </a:rPr>
              <a:t>4 минуты.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Arial"/>
              </a:rPr>
              <a:t>Цель: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4000" y="2349360"/>
            <a:ext cx="640692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В приемной. Дети стоят в кругу. Воспитатель: «Какие вы красивые, и мальчики и девочки, я приглашаю вас в путешествие в волшебную страну. Туда берут только настоящих мальчиков и девочек». Игровое упражнение: «Мне нравится быть …» с волшебным шаром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Теперь я вижу, что вы настоящие мальчики и девочки. Занимаем места в поезде и едем в волшебную страну. Дорогу туда нам покажет волшебная палочка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Звучит музыка, поезд отправляется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5076720" y="0"/>
            <a:ext cx="3770280" cy="240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66"/>
                </a:solidFill>
                <a:latin typeface="Arial"/>
              </a:rPr>
              <a:t>Основная часть: </a:t>
            </a:r>
            <a:r>
              <a:rPr b="1" lang="en-US" sz="1600" spc="-1" strike="noStrike">
                <a:solidFill>
                  <a:srgbClr val="cc99ff"/>
                </a:solidFill>
                <a:latin typeface="Arial"/>
              </a:rPr>
              <a:t>… минут.</a:t>
            </a:r>
            <a:br>
              <a:rPr sz="1600"/>
            </a:br>
            <a:r>
              <a:rPr b="1" lang="en-US" sz="1600" spc="-1" strike="noStrike">
                <a:solidFill>
                  <a:srgbClr val="006666"/>
                </a:solidFill>
                <a:latin typeface="Arial"/>
              </a:rPr>
              <a:t>Цель:</a:t>
            </a:r>
            <a:endParaRPr b="1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Первый город Солнечный. Догадайтесь, кто там живет? Дети отвечают. В какие игры любят играть только мальчики?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Следующий город Цветочный. А как вы думаете, кто здесь живет? В какие игры любят играть только девочки?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А этот город Разноцветный. Кто здесь живет? В какие игры дети любят играть вместе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Воспитатель обобщает ответы детей. Дети садятся на стульчики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Какую работу лучше всего умеют делать мужчины?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Какую работу обычно выполняют работу женщины?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Беседа: Можно ли по одежде отличить девочку от мальчика? А по прическе? А по поведению?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788000" y="476280"/>
            <a:ext cx="3889440" cy="24811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788000" y="3429000"/>
            <a:ext cx="403200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69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66"/>
                </a:solidFill>
                <a:latin typeface="Arial"/>
              </a:rPr>
              <a:t>Физминутка. </a:t>
            </a:r>
            <a:r>
              <a:rPr b="0" lang="ru-RU" sz="1800" spc="-1" strike="noStrike">
                <a:solidFill>
                  <a:srgbClr val="cc99ff"/>
                </a:solidFill>
                <a:latin typeface="Arial"/>
              </a:rPr>
              <a:t>…минут.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Arial"/>
              </a:rPr>
              <a:t>Цель: Развивать умение имитировать походку, двигаться в ритм музыки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А по походке?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Изобразите как ходят девочки-красавицы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Как ходят сильные мальчики, супермены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4500720" y="3068640"/>
            <a:ext cx="4392360" cy="28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1760" y="762120"/>
            <a:ext cx="79246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66"/>
                </a:solidFill>
                <a:latin typeface="Arial"/>
              </a:rPr>
              <a:t>Виды детской деятельности.</a:t>
            </a:r>
            <a:br>
              <a:rPr sz="1600"/>
            </a:br>
            <a:r>
              <a:rPr b="0" lang="en-US" sz="1600" spc="-1" strike="noStrike">
                <a:solidFill>
                  <a:srgbClr val="006666"/>
                </a:solidFill>
                <a:latin typeface="Arial"/>
              </a:rPr>
              <a:t>Интеграция образовательных областей.</a:t>
            </a:r>
            <a:endParaRPr b="1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116000" y="1484280"/>
            <a:ext cx="3384720" cy="21589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5003640" y="1268280"/>
            <a:ext cx="3746520" cy="23893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1116000" y="3933720"/>
            <a:ext cx="3743280" cy="23860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5003640" y="3933720"/>
            <a:ext cx="3745080" cy="238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66"/>
                </a:solidFill>
                <a:latin typeface="Arial"/>
              </a:rPr>
              <a:t>Заключительная часть</a:t>
            </a:r>
            <a:br>
              <a:rPr sz="1600"/>
            </a:br>
            <a:r>
              <a:rPr b="1" lang="en-US" sz="1600" spc="-1" strike="noStrike">
                <a:solidFill>
                  <a:srgbClr val="006666"/>
                </a:solidFill>
                <a:latin typeface="Arial"/>
              </a:rPr>
              <a:t>…минут</a:t>
            </a:r>
            <a:br>
              <a:rPr sz="1600"/>
            </a:br>
            <a:r>
              <a:rPr b="1" lang="en-US" sz="1600" spc="-1" strike="noStrike">
                <a:solidFill>
                  <a:srgbClr val="006666"/>
                </a:solidFill>
                <a:latin typeface="Arial"/>
              </a:rPr>
              <a:t>Цель: Учить детей самостоятельно принимать решение, высказывать свои мысли, делать выводы.</a:t>
            </a:r>
            <a:endParaRPr b="1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Подумайте, в каком городе вы хотели бы жить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Разойдитесь по городам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Объясните, почему вы решили жить в этом городе?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Как вы думаете, в каком городе будет удобнее и веселее жить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Кто хочет переселиться в другой город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Все вместе танцуют в кругу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4572000" y="3068640"/>
            <a:ext cx="4321080" cy="27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66"/>
                </a:solidFill>
                <a:latin typeface="Arial"/>
              </a:rPr>
              <a:t>Результаты детской деятельности:</a:t>
            </a:r>
            <a:br>
              <a:rPr sz="1400"/>
            </a:br>
            <a:r>
              <a:rPr b="1" lang="en-US" sz="1400" spc="-1" strike="noStrike">
                <a:solidFill>
                  <a:srgbClr val="006666"/>
                </a:solidFill>
                <a:latin typeface="Arial"/>
              </a:rPr>
              <a:t>Материал усвоен:</a:t>
            </a:r>
            <a:br>
              <a:rPr sz="1400"/>
            </a:br>
            <a:r>
              <a:rPr b="1" lang="en-US" sz="1400" spc="-1" strike="noStrike">
                <a:solidFill>
                  <a:srgbClr val="006666"/>
                </a:solidFill>
                <a:latin typeface="Arial"/>
              </a:rPr>
              <a:t>на высоком уровне…%</a:t>
            </a:r>
            <a:br>
              <a:rPr sz="1400"/>
            </a:br>
            <a:r>
              <a:rPr b="1" lang="en-US" sz="1400" spc="-1" strike="noStrike">
                <a:solidFill>
                  <a:srgbClr val="006666"/>
                </a:solidFill>
                <a:latin typeface="Arial"/>
              </a:rPr>
              <a:t>на достаточном уровне…%</a:t>
            </a:r>
            <a:br>
              <a:rPr sz="1400"/>
            </a:br>
            <a:r>
              <a:rPr b="1" lang="en-US" sz="1400" spc="-1" strike="noStrike">
                <a:solidFill>
                  <a:srgbClr val="006666"/>
                </a:solidFill>
                <a:latin typeface="Arial"/>
              </a:rPr>
              <a:t>на низком уровне 0%.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838080" y="2361960"/>
            <a:ext cx="769320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27T07:03:14Z</dcterms:created>
  <dc:creator>Admin</dc:creator>
  <dc:description/>
  <dc:language>en-US</dc:language>
  <cp:lastModifiedBy>WiZaRd</cp:lastModifiedBy>
  <dcterms:modified xsi:type="dcterms:W3CDTF">2012-10-08T17:14:43Z</dcterms:modified>
  <cp:revision>9</cp:revision>
  <dc:subject/>
  <dc:title>Космическое путешествие</dc:title>
</cp:coreProperties>
</file>