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9BA-09DF-493F-B69D-A2BB568C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65E-E367-4787-B4B9-39CD264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6FF-012A-4CBE-AC63-36104911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815-D656-449D-A45C-23A28ABA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653C-A76C-4012-9967-A277B53D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AFD5-E150-4002-99BB-A9B110FD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BAC-DEBC-4760-A028-00FAFCA0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078A-EC68-49E9-A1CE-FCA5CD10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E385-2762-4142-B3FB-0D8D054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E822-93B5-4C6E-A110-BC2C924D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987C-957B-420E-8AA3-4503C13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402-E6E0-4DA3-8394-A2803C7E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A1B7-291B-4F86-99E7-A903A0BA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5C2E-C723-4386-BFA2-72312CC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0A0A-FF11-4F47-934B-306E4022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C36F-756A-4174-9267-EDE75B16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B5EB-4FB6-4271-9F76-A87E4477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2B3013-20A3-42C3-BA4A-14EACFD9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12DE4-C655-4530-90E3-452B065A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CBDB9-C13B-482D-AD39-334B8415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2536A-ADB7-4CA6-BDCF-6B6FCAC6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5E25C-95BD-4792-B05C-B8E1E414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675-04F8-4554-9D2A-8DA478D2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0213A-3F66-4C71-8710-1E9811B7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89F73A-84EF-47E4-9ABA-B1A91539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F1B26-D399-4AE6-B33C-5A1D6042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D7CE3-16D0-4F47-B06A-AB1751C7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FC034-D858-42BF-AFE1-246A626C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22823A-6882-4EC4-8132-167D7201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298D2-FEA5-4114-8C3A-3B4F73CB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F95-D35B-46D0-90A5-5F723785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A10-1315-49CF-BA33-9096CE77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171-605D-4574-AD90-A57A4DDE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0A1-4A05-4AD5-964A-72A9C79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A15-922B-43E4-8226-726C794A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12F-8218-45E2-9F38-BE99B18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870-0EB6-4169-AF6D-94A7C779E37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250-A533-42AF-9D81-400AE99C224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5B8C-D193-4972-8E62-D4C37361957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одзаголовок 2"/>
          <p:cNvSpPr/>
          <p:nvPr/>
        </p:nvSpPr>
        <p:spPr>
          <a:xfrm>
            <a:off x="0" y="177336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nstantia"/>
              </a:rPr>
              <a:t>при травмах тазовой области, позвоночника, сп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1413000"/>
            <a:ext cx="828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2e104"/>
                </a:solidFill>
                <a:latin typeface="Times New Roman"/>
              </a:rPr>
              <a:t>Травма</a:t>
            </a:r>
            <a:r>
              <a:rPr b="1" i="1" lang="ru-RU" sz="4000" spc="-1" strike="noStrike">
                <a:solidFill>
                  <a:srgbClr val="f2e104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(от греч.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rauma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– рана)</a:t>
            </a: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это нарушение тканей организма человека с нарушением их целостности и функций, вызванное внешним воздейств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561636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12000" y="1341360"/>
            <a:ext cx="31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вая медицинская помощ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ложить больного на спи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ги немного согнуть и развести в сторо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жить под колени валик из одеяла, одеж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ть обезболивающее средств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рыть рану асептическими повязк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место раны положить холод (снег или лед в полиэтиленовых мешочка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58972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ДОПУСТИМО накладывать шины на ноги, если пострадавший лежит в позе "лягушки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e104"/>
                </a:solidFill>
                <a:latin typeface="Times New Roman"/>
              </a:rPr>
              <a:t>Травма тазовой обл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20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Arial"/>
              </a:rPr>
              <a:t>Травмы тазовой области – комплекс разнообразных повреждений костей таза и прилегающих к нему мягких тканей и внутренних орга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e104"/>
                </a:solidFill>
                <a:latin typeface="Times New Roman"/>
              </a:rPr>
              <a:t>Травма позвоночника, сп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1557360"/>
            <a:ext cx="26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ac9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яжелое состоя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льная боль в месте ушиб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ушение дыха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лабление мышц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рата физиологических фун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57592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072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219640" y="981000"/>
            <a:ext cx="39243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пострадавший потерял сознание, следите за его дых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пострадавший не дышит, приступайте к реани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ксируйте голову и туловище пострадавшего в том положении, в каком они наход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вы вынуждены самостоятельно транспортировать пострадавшего, позовите нескольких помощников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ксируйте голову и туловище пострадавшего в том положении, в каком они наход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e104"/>
                </a:solidFill>
                <a:latin typeface="Times New Roman"/>
              </a:rPr>
              <a:t>Первая помощь при травме позвоноч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771280" y="1197000"/>
            <a:ext cx="2592360" cy="0"/>
          </a:xfrm>
          <a:prstGeom prst="line">
            <a:avLst/>
          </a:prstGeom>
          <a:ln w="34920">
            <a:solidFill>
              <a:srgbClr val="444d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427280" y="2133720"/>
            <a:ext cx="865080" cy="0"/>
          </a:xfrm>
          <a:prstGeom prst="line">
            <a:avLst/>
          </a:prstGeom>
          <a:ln w="34920">
            <a:solidFill>
              <a:srgbClr val="444d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2520720" cy="1652760"/>
          </a:xfrm>
          <a:prstGeom prst="rect">
            <a:avLst/>
          </a:prstGeom>
          <a:ln w="9360">
            <a:solidFill>
              <a:srgbClr val="444d26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1941480" cy="2016000"/>
          </a:xfrm>
          <a:prstGeom prst="rect">
            <a:avLst/>
          </a:prstGeom>
          <a:ln w="9360">
            <a:solidFill>
              <a:srgbClr val="444d26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24000" y="2997360"/>
            <a:ext cx="2663640" cy="1711080"/>
          </a:xfrm>
          <a:prstGeom prst="rect">
            <a:avLst/>
          </a:prstGeom>
          <a:ln w="9360">
            <a:solidFill>
              <a:srgbClr val="444d26"/>
            </a:solidFill>
            <a:miter/>
          </a:ln>
        </p:spPr>
      </p:pic>
      <p:sp>
        <p:nvSpPr>
          <p:cNvPr id="144" name=""/>
          <p:cNvSpPr/>
          <p:nvPr/>
        </p:nvSpPr>
        <p:spPr>
          <a:xfrm flipH="1">
            <a:off x="2987280" y="2852640"/>
            <a:ext cx="2305080" cy="1081080"/>
          </a:xfrm>
          <a:prstGeom prst="line">
            <a:avLst/>
          </a:prstGeom>
          <a:ln w="34920">
            <a:solidFill>
              <a:srgbClr val="444d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2556000" y="4005360"/>
            <a:ext cx="2657520" cy="1639800"/>
          </a:xfrm>
          <a:prstGeom prst="rect">
            <a:avLst/>
          </a:prstGeom>
          <a:ln w="9360">
            <a:solidFill>
              <a:srgbClr val="444d26"/>
            </a:solidFill>
            <a:miter/>
          </a:ln>
        </p:spPr>
      </p:pic>
      <p:sp>
        <p:nvSpPr>
          <p:cNvPr id="146" name=""/>
          <p:cNvSpPr/>
          <p:nvPr/>
        </p:nvSpPr>
        <p:spPr>
          <a:xfrm flipH="1">
            <a:off x="4932000" y="4076640"/>
            <a:ext cx="360360" cy="189000"/>
          </a:xfrm>
          <a:prstGeom prst="line">
            <a:avLst/>
          </a:prstGeom>
          <a:ln w="34920">
            <a:solidFill>
              <a:srgbClr val="444d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684360" y="5084640"/>
            <a:ext cx="1942920" cy="1579680"/>
          </a:xfrm>
          <a:prstGeom prst="rect">
            <a:avLst/>
          </a:prstGeom>
          <a:ln w="9360">
            <a:solidFill>
              <a:srgbClr val="444d26"/>
            </a:solidFill>
            <a:miter/>
          </a:ln>
        </p:spPr>
      </p:pic>
      <p:sp>
        <p:nvSpPr>
          <p:cNvPr id="148" name=""/>
          <p:cNvSpPr/>
          <p:nvPr/>
        </p:nvSpPr>
        <p:spPr>
          <a:xfrm flipH="1">
            <a:off x="2627280" y="5589720"/>
            <a:ext cx="2665440" cy="576000"/>
          </a:xfrm>
          <a:prstGeom prst="line">
            <a:avLst/>
          </a:prstGeom>
          <a:ln w="34920">
            <a:solidFill>
              <a:srgbClr val="444d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Admin</dc:creator>
  <dc:description/>
  <dc:language>en-US</dc:language>
  <cp:lastModifiedBy>Victor</cp:lastModifiedBy>
  <dcterms:modified xsi:type="dcterms:W3CDTF">2007-11-10T15:24:10Z</dcterms:modified>
  <cp:revision>43</cp:revision>
  <dc:subject/>
  <dc:title>Лесков</dc:title>
</cp:coreProperties>
</file>