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4B1-91F7-4B73-8975-FD0CA8CA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42F-1146-445C-A968-BA93C890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9C9-CD35-46F3-8AB2-9661B9E1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771-702E-4F5C-8810-EC9C528D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2E9-8045-4E5A-9AF0-83D6BE0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308-EE91-415D-9094-8E5F2088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354-802E-481D-AF67-09BA0E2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899-EF69-4F60-9756-EA54823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E76-7CAB-4339-9AE6-B3BFA240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831-0C28-4557-94AA-DD6E3C2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578-E736-4619-85EB-2D40F6E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F02-721E-495C-830E-9B9D616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88CE-B060-4D04-94AD-9AB2F29AF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иц-опро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мя существительное-это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мена существительные бывают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 каждого предмета есть своё имя-название.  Как называются такие имена сущ.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остоянный признак имен 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000080" y="22147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4714920" y="2286000"/>
            <a:ext cx="2428920" cy="107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6000840" y="4786200"/>
            <a:ext cx="2600280" cy="1895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285840" y="4786200"/>
            <a:ext cx="265752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214800" y="4786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214280" y="1357200"/>
          <a:ext cx="6886800" cy="5286600"/>
        </p:xfrm>
        <a:graphic>
          <a:graphicData uri="http://schemas.openxmlformats.org/drawingml/2006/table">
            <a:tbl>
              <a:tblPr/>
              <a:tblGrid>
                <a:gridCol w="2008440"/>
                <a:gridCol w="1493640"/>
                <a:gridCol w="1656000"/>
                <a:gridCol w="172872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к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к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н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WordArt 241" descr=""/>
          <p:cNvPicPr/>
          <p:nvPr/>
        </p:nvPicPr>
        <p:blipFill>
          <a:blip r:embed="rId1"/>
          <a:stretch/>
        </p:blipFill>
        <p:spPr>
          <a:xfrm>
            <a:off x="2255760" y="536400"/>
            <a:ext cx="43275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5  классе</a:t>
            </a:r>
            <a:br>
              <a:rPr sz="36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и склон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ён существительны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dmin\Рабочий стол\45386715_1245530981_pero2.png"/>
          <p:cNvPicPr/>
          <p:nvPr/>
        </p:nvPicPr>
        <p:blipFill>
          <a:blip r:embed="rId1"/>
          <a:stretch/>
        </p:blipFill>
        <p:spPr>
          <a:xfrm>
            <a:off x="285840" y="3143160"/>
            <a:ext cx="8643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1642680"/>
            <a:ext cx="84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умение определять склонение имён существительных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кло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40402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енский род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ат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28760" y="2928960"/>
            <a:ext cx="3429000" cy="3500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жской 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</a:t>
            </a:r>
            <a:r>
              <a:rPr b="1" lang="en-GB" sz="4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400"/>
            <a:ext cx="4041720" cy="30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986_thumbnail"/>
          <p:cNvPicPr/>
          <p:nvPr/>
        </p:nvPicPr>
        <p:blipFill>
          <a:blip r:embed="rId2"/>
          <a:srcRect l="21992" t="11925" r="15286" b="19371"/>
          <a:stretch/>
        </p:blipFill>
        <p:spPr>
          <a:xfrm>
            <a:off x="4500720" y="2997360"/>
            <a:ext cx="3786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кло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0920" y="1143000"/>
            <a:ext cx="374652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ий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блак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072040" y="292896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7280" y="1285560"/>
            <a:ext cx="3600360" cy="25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жской род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    лимон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e25dee725ffb"/>
          <p:cNvPicPr/>
          <p:nvPr/>
        </p:nvPicPr>
        <p:blipFill>
          <a:blip r:embed="rId2"/>
          <a:stretch/>
        </p:blipFill>
        <p:spPr>
          <a:xfrm>
            <a:off x="3000240" y="4071960"/>
            <a:ext cx="171468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2467080" cy="1928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5867280" y="2133720"/>
            <a:ext cx="214560" cy="357120"/>
          </a:xfrm>
          <a:prstGeom prst="rect">
            <a:avLst/>
          </a:prstGeom>
          <a:solidFill>
            <a:srgbClr val="99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7596360" y="2133720"/>
            <a:ext cx="214200" cy="357120"/>
          </a:xfrm>
          <a:prstGeom prst="rect">
            <a:avLst/>
          </a:prstGeom>
          <a:solidFill>
            <a:srgbClr val="99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кло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28600" y="1535040"/>
            <a:ext cx="578628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енский род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071800"/>
            <a:ext cx="40402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ыш</a:t>
            </a:r>
            <a:r>
              <a:rPr b="1" lang="en-GB" sz="44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1999800"/>
            <a:ext cx="4041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5840" y="2928960"/>
            <a:ext cx="4286160" cy="356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857840" y="2928960"/>
            <a:ext cx="3809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пределить склонение        существительного нуж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тавить сущ. в начальную форму     (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п.  в ед.ч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род; выделить оконча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роду и окончанию определить склон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б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б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олодёж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8568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н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як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Третий лишний»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нь, тень, пен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ена, доска, лож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мыш, тишь, мыш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еро, яблоня, дерев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0:30:25Z</dcterms:created>
  <dc:creator>1</dc:creator>
  <dc:description/>
  <dc:language>en-US</dc:language>
  <cp:lastModifiedBy>User</cp:lastModifiedBy>
  <dcterms:modified xsi:type="dcterms:W3CDTF">2012-12-04T17:47:36Z</dcterms:modified>
  <cp:revision>59</cp:revision>
  <dc:subject/>
  <dc:title>Слайд 1</dc:title>
</cp:coreProperties>
</file>