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E82-BD03-446E-85FB-FD379607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B0C-7C2B-4448-8A74-0D29D778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704-FD7B-4413-B321-1B53717A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113-1864-4038-8DDC-99A3A707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38A-42C3-4214-872D-A72CDEA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0BD-3C67-47A0-978D-3B94CA1C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8D1-9C0C-47AF-9AE9-86A7C28E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A96-34EA-4900-8E61-889217B2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4AB-C0A6-4823-ABAA-B51938A3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784-9618-40DE-A32F-0BF5C41C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667-E402-4FA0-A4B9-F5FF0C18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48F-10CB-4F33-8064-B42C48D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DE40-1531-4E5D-A02B-5F1B7057D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рный вопр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040280" cy="264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ни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е 1 скло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498920" cy="27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ни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этого существительного нельзя определить склон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427640" y="3860640"/>
            <a:ext cx="4032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фограмм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28760" y="2357280"/>
            <a:ext cx="3500280" cy="392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4646520" y="2533680"/>
            <a:ext cx="3310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фограмм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402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аш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71680" y="2143080"/>
            <a:ext cx="3143160" cy="4357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6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ож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0481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фограмм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404028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2846160" cy="4143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85724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ёж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4788000" y="2349360"/>
            <a:ext cx="25146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0:30:25Z</dcterms:created>
  <dc:creator>1</dc:creator>
  <dc:description/>
  <dc:language>en-US</dc:language>
  <cp:lastModifiedBy>User</cp:lastModifiedBy>
  <dcterms:modified xsi:type="dcterms:W3CDTF">2012-12-04T17:48:12Z</dcterms:modified>
  <cp:revision>60</cp:revision>
  <dc:subject/>
  <dc:title>Слайд 1</dc:title>
</cp:coreProperties>
</file>