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8.jpeg" ContentType="image/jpeg"/>
  <Override PartName="/ppt/media/image7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4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900-C6A0-4604-945E-3DECABB7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0D9-7B4D-44FD-A56A-2A3BC368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F99-8612-4484-BF09-E7C8DC31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735-C49D-400B-A1C7-652B1EA5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A4DD-3051-4CD0-8768-C41B18F1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F439-8115-4285-8AF7-DB21E8E7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4FF8-9ABD-450A-9575-D2029E53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5553-0140-41CE-95C5-B5546573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82AF-5482-4E17-A497-C6300546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DD06-5AF4-45FE-9CFC-805B68D5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1DD6-42FB-460A-A9ED-C2A84827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117-D7FD-4FDF-A9CA-7BD20D78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680F-449B-4982-A7AE-64FD43D6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9840-4419-40AD-A681-9A508657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3C9F-05B7-450A-B328-E976C46B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FB22-D5D1-4330-B8CD-AB86C4EF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F0D4-9C98-4227-AFB5-7BBBC2DB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2A9-763A-4C1F-8D71-FDA33AB6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766-9117-4B67-9B1F-B207D8ED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E09-9D45-44CF-9545-BCD69BDF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D10-4E9F-4D57-9D26-0C98CC90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7B1-3B34-48DD-867C-C0136C62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178-C03A-4193-B0E9-91AB71B1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75C-9036-4A19-A5E9-9B5CF54A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4480" cy="5324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>
              <a:gd name="textAreaLeft" fmla="*/ 0 w 8956800"/>
              <a:gd name="textAreaRight" fmla="*/ 8956800 w 895680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3856-B4CA-46C7-91F5-E3C874705C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>
                <a:gd name="textAreaLeft" fmla="*/ 0 w 2366640"/>
                <a:gd name="textAreaRight" fmla="*/ 2367000 w 23666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1B90-187D-417F-BE35-BDDE9BA220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elvira1215.ucoz.ru/index/2_chetvert_2011_2012/0-22" TargetMode="External"/><Relationship Id="rId3" Type="http://schemas.openxmlformats.org/officeDocument/2006/relationships/hyperlink" Target="http://elvira1215.ucoz.ru/index/2_chetvert_2011_2012/0-22" TargetMode="External"/><Relationship Id="rId4" Type="http://schemas.openxmlformats.org/officeDocument/2006/relationships/hyperlink" Target="http://elvira1215.ucoz.ru/index/2_chetvert_2011_2012/0-22" TargetMode="External"/><Relationship Id="rId5" Type="http://schemas.openxmlformats.org/officeDocument/2006/relationships/hyperlink" Target="http://elvira1215.ucoz.ru/index/2_chetvert_2011_2012/0-22" TargetMode="External"/><Relationship Id="rId6" Type="http://schemas.openxmlformats.org/officeDocument/2006/relationships/hyperlink" Target="http://elvira1215.ucoz.ru/index/2_chetvert_2011_2012/0-22" TargetMode="External"/><Relationship Id="rId7" Type="http://schemas.openxmlformats.org/officeDocument/2006/relationships/hyperlink" Target="http://elvira1215.ucoz.ru/index/2_chetvert_2011_2012/0-22" TargetMode="External"/><Relationship Id="rId8" Type="http://schemas.openxmlformats.org/officeDocument/2006/relationships/hyperlink" Target="http://elvira1215.ucoz.ru/index/2_chetvert_2011_2012/0-22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2349360"/>
            <a:ext cx="7388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692000" y="4149360"/>
            <a:ext cx="684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автор: Потехина Ольг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МБОУ Иванов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читель математ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рвая квалификационная катег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76438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лгоритм построения графика функции у=ах</a:t>
            </a:r>
            <a:r>
              <a:rPr b="1" lang="ru-RU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c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14d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4dd9"/>
                </a:solidFill>
                <a:latin typeface="Times New Roman"/>
                <a:ea typeface="Times New Roman"/>
              </a:rPr>
              <a:t>Составить таблицу значений зависимости переменной У от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ем в ячейку А1 -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ем в ячейку А2 - у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ем в ячейку В1 начальное значение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ем в ячейку  С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е значение х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м содержимое ячеек В1 и С1..., затем с помощью маркера автозаполнения  получим соответстветствующие значения 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ем в ячейку В2 формулу -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1^2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пируем формулу из ячейки В2 методом автозаполнения д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че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ru-RU" sz="1800" spc="-1" strike="noStrike">
                <a:solidFill>
                  <a:srgbClr val="314dd9"/>
                </a:solidFill>
                <a:latin typeface="Times New Roman"/>
                <a:ea typeface="Times New Roman"/>
              </a:rPr>
              <a:t>2.   Построение граф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ь подготовленные данные, начиная с заголовка (А1:Н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ем Мастер диаграмм и выберем вид диаграммы - точечная, тип - со сглаженными линиями без марк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ем заголовок - (график   у=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х-3) и оси -  (х,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щаем диаграмму на имеющемся листе – гот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ес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5075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Алгебра щедра. Зачастую она дает больше, чем у нее спрашивают.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                                    </a:t>
            </a:r>
            <a:r>
              <a:rPr b="0" lang="ru-RU" sz="3200" spc="-1" strike="noStrike">
                <a:solidFill>
                  <a:srgbClr val="3c216d"/>
                </a:solidFill>
                <a:latin typeface="Arial"/>
              </a:rPr>
              <a:t>Ж.Даламб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4" descr="MCj04281230000[1]"/>
          <p:cNvPicPr/>
          <p:nvPr/>
        </p:nvPicPr>
        <p:blipFill>
          <a:blip r:embed="rId1"/>
          <a:stretch/>
        </p:blipFill>
        <p:spPr>
          <a:xfrm>
            <a:off x="971640" y="3429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5" descr=""/>
          <p:cNvPicPr/>
          <p:nvPr/>
        </p:nvPicPr>
        <p:blipFill>
          <a:blip r:embed="rId2"/>
          <a:stretch/>
        </p:blipFill>
        <p:spPr>
          <a:xfrm>
            <a:off x="2779560" y="3949560"/>
            <a:ext cx="652320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Немного истори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11280" y="1268280"/>
            <a:ext cx="469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216d"/>
                </a:solidFill>
                <a:latin typeface="Arial"/>
              </a:rPr>
              <a:t>Математики Древней Греции открыли параболу  ещё в 260-170 г.г. До нашей  эры при изучении конических сечений. Уже в 17 веке Галилео Галилей  доказал, что тело , брошенное под углом к горизонту ,двигается по параболе. Параболу мы наблюдаем в реальной жизни, как траекторию движения какого-либо тела. Баскетболист бросает мяч и он летит в корзину почти по параболе. Струя фонтана «рисует» линию , которая близка к параболе. Парабола обладает очень важным оптическим свой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Содержимое 6" descr="Изображение0001.JPG"/>
          <p:cNvPicPr/>
          <p:nvPr/>
        </p:nvPicPr>
        <p:blipFill>
          <a:blip r:embed="rId1"/>
          <a:stretch/>
        </p:blipFill>
        <p:spPr>
          <a:xfrm>
            <a:off x="96840" y="1847880"/>
            <a:ext cx="4267080" cy="390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Ольга\Desktop\120px-Parabolic_orbit.gif"/>
          <p:cNvPicPr/>
          <p:nvPr/>
        </p:nvPicPr>
        <p:blipFill>
          <a:blip r:embed="rId1"/>
          <a:stretch/>
        </p:blipFill>
        <p:spPr>
          <a:xfrm rot="16200000">
            <a:off x="6657840" y="1703160"/>
            <a:ext cx="2160720" cy="20113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972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араболы в физическом пространстве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болическая орбита и движение спутника по 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дение </a:t>
            </a:r>
            <a:r>
              <a:rPr b="0" lang="ru-RU" sz="3200" spc="-1" strike="noStrike">
                <a:solidFill>
                  <a:srgbClr val="3c216d"/>
                </a:solidFill>
                <a:latin typeface="Arial"/>
              </a:rPr>
              <a:t>баскетбольного 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болические траектории струй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C:\Users\Ольга\Desktop\120px-Bouncing_ball_strobe_edit.jpg"/>
          <p:cNvPicPr/>
          <p:nvPr/>
        </p:nvPicPr>
        <p:blipFill>
          <a:blip r:embed="rId2"/>
          <a:stretch/>
        </p:blipFill>
        <p:spPr>
          <a:xfrm>
            <a:off x="4211640" y="3789360"/>
            <a:ext cx="3036960" cy="1957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C:\Users\Ольга\Desktop\90px-ParabolicWaterTrajectory.jpg"/>
          <p:cNvPicPr/>
          <p:nvPr/>
        </p:nvPicPr>
        <p:blipFill>
          <a:blip r:embed="rId3"/>
          <a:srcRect l="0" t="12497" r="0" b="6544"/>
          <a:stretch/>
        </p:blipFill>
        <p:spPr>
          <a:xfrm>
            <a:off x="971640" y="3429000"/>
            <a:ext cx="2160360" cy="2332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12T2"/>
          <p:cNvPicPr/>
          <p:nvPr/>
        </p:nvPicPr>
        <p:blipFill>
          <a:blip r:embed="rId1"/>
          <a:stretch/>
        </p:blipFill>
        <p:spPr>
          <a:xfrm>
            <a:off x="-108000" y="1628640"/>
            <a:ext cx="1522440" cy="1440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250920" y="3068640"/>
            <a:ext cx="81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216d"/>
                </a:solidFill>
                <a:latin typeface="Arial"/>
              </a:rPr>
              <a:t>Вторая космическая скорость, 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наименьшая скорость (начальная), которую нужно сообщить телу у поверхности Земли, чтобы оно, преодолев действие земного притяжения, навсегда покинуло Землю. Вторая космическая скорость равна примерно 11,2 </a:t>
            </a:r>
            <a:r>
              <a:rPr b="0" i="1" lang="ru-RU" sz="1800" spc="-1" strike="noStrike">
                <a:solidFill>
                  <a:srgbClr val="3c216d"/>
                </a:solidFill>
                <a:latin typeface="Arial"/>
              </a:rPr>
              <a:t>км/сек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. Тело, обладающее второй космической скоростью, движется по отношению к Земле по параболической орбите; таким образом, вторая космическая скорость является параболической скоростью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8" name="Блок-схема: узел 11"/>
          <p:cNvSpPr/>
          <p:nvPr/>
        </p:nvSpPr>
        <p:spPr>
          <a:xfrm>
            <a:off x="1692360" y="1628640"/>
            <a:ext cx="1439640" cy="1079640"/>
          </a:xfrm>
          <a:prstGeom prst="flowChartConnector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314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6065 C 0.36806 0.08264 0.73612 0.10509 0.75487 0.06482 C 0.77362 0.02454 0.22848 -0.13333 0.11216 -0.18032 C -0.00416 -0.22708 0.06823 -0.21111 0.0573 -0.21759 C 0.04636 -0.22407 0.04636 -0.22199 0.04636 -0.21967 E">
                                      <p:cBhvr>
                                        <p:cTn id="12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езные сайт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ecc4c"/>
                </a:solidFill>
                <a:uFillTx/>
                <a:latin typeface="Arial"/>
                <a:hlinkClick r:id="rId1"/>
              </a:rPr>
              <a:t>http://ru.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ecc4c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6ecc4c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3200" spc="-1" strike="noStrike" u="sng">
                <a:solidFill>
                  <a:srgbClr val="6ecc4c"/>
                </a:solidFill>
                <a:uFillTx/>
                <a:latin typeface="Arial"/>
                <a:hlinkClick r:id="rId4"/>
              </a:rPr>
              <a:t>elvira</a:t>
            </a:r>
            <a:r>
              <a:rPr b="0" lang="ru-RU" sz="3200" spc="-1" strike="noStrike" u="sng">
                <a:solidFill>
                  <a:srgbClr val="6ecc4c"/>
                </a:solidFill>
                <a:uFillTx/>
                <a:latin typeface="Arial"/>
                <a:hlinkClick r:id="rId5"/>
              </a:rPr>
              <a:t>1215.</a:t>
            </a:r>
            <a:r>
              <a:rPr b="0" lang="en-US" sz="3200" spc="-1" strike="noStrike" u="sng">
                <a:solidFill>
                  <a:srgbClr val="6ecc4c"/>
                </a:solidFill>
                <a:uFillTx/>
                <a:latin typeface="Arial"/>
                <a:hlinkClick r:id="rId6"/>
              </a:rPr>
              <a:t>ucoz</a:t>
            </a:r>
            <a:r>
              <a:rPr b="0" lang="ru-RU" sz="3200" spc="-1" strike="noStrike" u="sng">
                <a:solidFill>
                  <a:srgbClr val="6ecc4c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3200" spc="-1" strike="noStrike" u="sng">
                <a:solidFill>
                  <a:srgbClr val="6ecc4c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/2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etvert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_2011_2012/0-2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410920" y="3789360"/>
            <a:ext cx="4681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101c56"/>
                </a:solidFill>
                <a:latin typeface="Times New Roman"/>
              </a:rPr>
              <a:t>Итак,  начнём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5280" y="1267920"/>
            <a:ext cx="850752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1c56"/>
                </a:solidFill>
                <a:latin typeface="Arial"/>
              </a:rPr>
              <a:t>Отгадав  ребус, вы  узнаете  тему  нашего 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332000" y="2708280"/>
            <a:ext cx="611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25" name="Picture 13" descr="ребус2"/>
          <p:cNvPicPr/>
          <p:nvPr/>
        </p:nvPicPr>
        <p:blipFill>
          <a:blip r:embed="rId1"/>
          <a:stretch/>
        </p:blipFill>
        <p:spPr>
          <a:xfrm>
            <a:off x="611280" y="3068640"/>
            <a:ext cx="786924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2349000"/>
            <a:ext cx="8281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f26c5"/>
                </a:solidFill>
                <a:latin typeface="Arial"/>
              </a:rPr>
              <a:t>Квадратичная функция</a:t>
            </a:r>
            <a:br>
              <a:rPr sz="6000"/>
            </a:b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гип"/>
          <p:cNvPicPr/>
          <p:nvPr/>
        </p:nvPicPr>
        <p:blipFill>
          <a:blip r:embed="rId1"/>
          <a:stretch/>
        </p:blipFill>
        <p:spPr>
          <a:xfrm>
            <a:off x="250920" y="3068640"/>
            <a:ext cx="2160360" cy="3341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Users\Ольга\Desktop\350px-Polynomialdeg2.svg.png"/>
          <p:cNvPicPr/>
          <p:nvPr/>
        </p:nvPicPr>
        <p:blipFill>
          <a:blip r:embed="rId2"/>
          <a:stretch/>
        </p:blipFill>
        <p:spPr>
          <a:xfrm>
            <a:off x="5651640" y="306864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вторить свойства функци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Решать задачи, используя свойства функци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именить компьютерные технологии для построения графиков функци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1c56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аполни  пропуски 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50920" y="1268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1.  Функция  у = </a:t>
            </a:r>
            <a:r>
              <a:rPr b="0" lang="en-US" sz="1800" spc="-1" strike="noStrike">
                <a:solidFill>
                  <a:srgbClr val="3c216d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х</a:t>
            </a:r>
            <a:r>
              <a:rPr b="0" lang="ru-RU" sz="1800" spc="-1" strike="noStrike" baseline="30000">
                <a:solidFill>
                  <a:srgbClr val="3c216d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3c216d"/>
                </a:solidFill>
                <a:latin typeface="Arial"/>
              </a:rPr>
              <a:t>bx + c,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 где а,  </a:t>
            </a:r>
            <a:r>
              <a:rPr b="0" lang="en-US" sz="1800" spc="-1" strike="noStrike">
                <a:solidFill>
                  <a:srgbClr val="3c216d"/>
                </a:solidFill>
                <a:latin typeface="Arial"/>
              </a:rPr>
              <a:t>b,  c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 – заданные  действительные числа,  а </a:t>
            </a:r>
            <a:r>
              <a:rPr b="0" lang="ru-RU" sz="1800" spc="-1" strike="noStrike">
                <a:solidFill>
                  <a:srgbClr val="3c216d"/>
                </a:solidFill>
                <a:latin typeface="Symbol"/>
                <a:ea typeface="Symbol"/>
              </a:rPr>
              <a:t>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 0, называется  …  функцией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0" y="1989000"/>
            <a:ext cx="83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2.  График  функции  у = ах</a:t>
            </a:r>
            <a:r>
              <a:rPr b="0" lang="ru-RU" sz="1800" spc="-1" strike="noStrike" baseline="30000">
                <a:solidFill>
                  <a:srgbClr val="3c216d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 +</a:t>
            </a:r>
            <a:r>
              <a:rPr b="0" lang="en-US" sz="1800" spc="-1" strike="noStrike">
                <a:solidFill>
                  <a:srgbClr val="3c216d"/>
                </a:solidFill>
                <a:latin typeface="Arial"/>
              </a:rPr>
              <a:t>b+c</a:t>
            </a:r>
            <a:r>
              <a:rPr b="0" lang="ru-RU" sz="1800" spc="-1" strike="noStrike" baseline="30000">
                <a:solidFill>
                  <a:srgbClr val="3c216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при  любом  а </a:t>
            </a:r>
            <a:r>
              <a:rPr b="0" lang="ru-RU" sz="1800" spc="-1" strike="noStrike">
                <a:solidFill>
                  <a:srgbClr val="3c216d"/>
                </a:solidFill>
                <a:latin typeface="Symbol"/>
                <a:ea typeface="Symbol"/>
              </a:rPr>
              <a:t>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 0  называют  … 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2708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3.  Функция  у = х</a:t>
            </a:r>
            <a:r>
              <a:rPr b="0" lang="ru-RU" sz="1800" spc="-1" strike="noStrike" baseline="30000">
                <a:solidFill>
                  <a:srgbClr val="3c216d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 является  …   (возрастающей, убывающей)  на  промежутке  х </a:t>
            </a:r>
            <a:r>
              <a:rPr b="0" lang="ru-RU" sz="1800" spc="-1" strike="noStrike">
                <a:solidFill>
                  <a:srgbClr val="3c216d"/>
                </a:solidFill>
                <a:latin typeface="Symbol"/>
                <a:ea typeface="Symbol"/>
              </a:rPr>
              <a:t>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11280" y="342900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4.  Область определения функции  у = </a:t>
            </a:r>
            <a:r>
              <a:rPr b="0" lang="en-US" sz="1800" spc="-1" strike="noStrike">
                <a:solidFill>
                  <a:srgbClr val="3c216d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х</a:t>
            </a:r>
            <a:r>
              <a:rPr b="0" lang="ru-RU" sz="1800" spc="-1" strike="noStrike" baseline="30000">
                <a:solidFill>
                  <a:srgbClr val="3c216d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3c216d"/>
                </a:solidFill>
                <a:latin typeface="Arial"/>
              </a:rPr>
              <a:t>bx + c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 (а </a:t>
            </a:r>
            <a:r>
              <a:rPr b="0" lang="ru-RU" sz="1800" spc="-1" strike="noStrike">
                <a:solidFill>
                  <a:srgbClr val="3c216d"/>
                </a:solidFill>
                <a:latin typeface="Symbol"/>
                <a:ea typeface="Symbol"/>
              </a:rPr>
              <a:t>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 0) ……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50920" y="41497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5.  Точку  пересечения  параболы с  осью  симметрии  называют  …  параболы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50920" y="486900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6.  При  а </a:t>
            </a:r>
            <a:r>
              <a:rPr b="0" lang="en-US" sz="1800" spc="-1" strike="noStrike">
                <a:solidFill>
                  <a:srgbClr val="3c216d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0  ветви  параболы у = ах</a:t>
            </a:r>
            <a:r>
              <a:rPr b="0" lang="ru-RU" sz="1800" spc="-1" strike="noStrike" baseline="30000">
                <a:solidFill>
                  <a:srgbClr val="3c216d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  направлены  …  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-828720" y="5229360"/>
            <a:ext cx="961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3c216d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Если  а</a:t>
            </a:r>
            <a:r>
              <a:rPr b="0" lang="en-US" sz="1800" spc="-1" strike="noStrike">
                <a:solidFill>
                  <a:srgbClr val="3c216d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 о  и х </a:t>
            </a:r>
            <a:r>
              <a:rPr b="0" lang="ru-RU" sz="1800" spc="-1" strike="noStrike">
                <a:solidFill>
                  <a:srgbClr val="3c216d"/>
                </a:solidFill>
                <a:latin typeface="Symbol"/>
                <a:ea typeface="Symbol"/>
              </a:rPr>
              <a:t>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 0,  то  функция  у = ах</a:t>
            </a:r>
            <a:r>
              <a:rPr b="0" lang="ru-RU" sz="1800" spc="-1" strike="noStrike" baseline="30000">
                <a:solidFill>
                  <a:srgbClr val="3c216d"/>
                </a:solidFill>
                <a:latin typeface="Arial"/>
              </a:rPr>
              <a:t>2  </a:t>
            </a: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принимает  …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216d"/>
                </a:solidFill>
                <a:latin typeface="Arial"/>
              </a:rPr>
              <a:t>(положительные,  отрицательные)  значения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72360" y="162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вадратичной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372360" y="234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раболой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393960" y="306864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бывающей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5684760" y="450864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ершиной параболы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6735960" y="486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верх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6760800" y="55897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рицательные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45" name="Прямоугольник 18" descr=""/>
          <p:cNvPicPr/>
          <p:nvPr/>
        </p:nvPicPr>
        <p:blipFill>
          <a:blip r:embed="rId1"/>
          <a:stretch/>
        </p:blipFill>
        <p:spPr>
          <a:xfrm>
            <a:off x="7308720" y="3371760"/>
            <a:ext cx="61596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870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думай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244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йдите  координаты  вершины  параболы  у=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4х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987640" y="31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72320" y="2349360"/>
            <a:ext cx="19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твет:   (2;0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2708280"/>
            <a:ext cx="81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3c216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Найдите  для графика функции </a:t>
            </a:r>
            <a:r>
              <a:rPr b="1" lang="ru-RU" sz="2800" spc="-1" strike="noStrike">
                <a:solidFill>
                  <a:srgbClr val="3c216d"/>
                </a:solidFill>
                <a:latin typeface="Century Gothic"/>
              </a:rPr>
              <a:t>у=х</a:t>
            </a:r>
            <a:r>
              <a:rPr b="1" lang="ru-RU" sz="2800" spc="-1" strike="noStrike" baseline="30000">
                <a:solidFill>
                  <a:srgbClr val="3c216d"/>
                </a:solidFill>
                <a:latin typeface="Century Gothic"/>
              </a:rPr>
              <a:t>2</a:t>
            </a:r>
            <a:r>
              <a:rPr b="1" lang="ru-RU" sz="2800" spc="-1" strike="noStrike">
                <a:solidFill>
                  <a:srgbClr val="3c216d"/>
                </a:solidFill>
                <a:latin typeface="Century Gothic"/>
              </a:rPr>
              <a:t>+х-2  </a:t>
            </a: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координаты точки пересечения с осью Ох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53200" y="378936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твет:  (-2; 0), (1; 0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-108000" y="4149720"/>
            <a:ext cx="925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3c216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Не  производя  построение  графика, определите,  наибольшее  или наименьшее  значение 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принимает квадратичная  функция    </a:t>
            </a:r>
            <a:r>
              <a:rPr b="1" lang="en-US" sz="2800" spc="-1" strike="noStrike">
                <a:solidFill>
                  <a:srgbClr val="3c216d"/>
                </a:solidFill>
                <a:latin typeface="Arial"/>
              </a:rPr>
              <a:t>y</a:t>
            </a:r>
            <a:r>
              <a:rPr b="1" lang="ru-RU" sz="2800" spc="-1" strike="noStrike">
                <a:solidFill>
                  <a:srgbClr val="3c216d"/>
                </a:solidFill>
                <a:latin typeface="Arial"/>
              </a:rPr>
              <a:t>=2-5х-3х</a:t>
            </a:r>
            <a:r>
              <a:rPr b="1" lang="ru-RU" sz="2800" spc="-1" strike="noStrike" baseline="30000">
                <a:solidFill>
                  <a:srgbClr val="3c216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783160" y="595008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твет:  наибольшее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8" descr=""/>
          <p:cNvPicPr/>
          <p:nvPr/>
        </p:nvPicPr>
        <p:blipFill>
          <a:blip r:embed="rId1"/>
          <a:stretch/>
        </p:blipFill>
        <p:spPr>
          <a:xfrm>
            <a:off x="0" y="1989000"/>
            <a:ext cx="5127480" cy="486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0" y="1268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buClr>
                <a:srgbClr val="3c216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По  графику  функции у=х</a:t>
            </a:r>
            <a:r>
              <a:rPr b="0" lang="ru-RU" sz="2800" spc="-1" strike="noStrike" baseline="30000">
                <a:solidFill>
                  <a:srgbClr val="3c216d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- 5х + 6 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а)промежутки  возрастания  и  убывания  функции.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б)уравнение оси симметрии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в) координаты точки пересечения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с осями Ох и Оу.  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5127480" y="2733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5040360" y="3429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2771640" y="3789360"/>
            <a:ext cx="70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) Функция  возрастает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2,5; +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∞)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 убывает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- ∞;2,5]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)</a:t>
            </a:r>
            <a:r>
              <a:rPr b="0" lang="ru-RU" sz="2000" spc="-1" strike="noStrike">
                <a:solidFill>
                  <a:srgbClr val="314dd9"/>
                </a:solidFill>
                <a:latin typeface="Arial"/>
              </a:rPr>
              <a:t> х=2,5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4dd9"/>
                </a:solidFill>
                <a:latin typeface="Arial"/>
              </a:rPr>
              <a:t>в) (2;0) и (3;0)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4dd9"/>
                </a:solidFill>
                <a:latin typeface="Arial"/>
              </a:rPr>
              <a:t>(0;5)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0" y="1628280"/>
            <a:ext cx="91440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1.  Постройте графики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 algn="ctr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16d"/>
                </a:solidFill>
                <a:latin typeface="Arial"/>
              </a:rPr>
              <a:t>y=2x</a:t>
            </a:r>
            <a:r>
              <a:rPr b="0" lang="en-US" sz="3600" spc="-1" strike="noStrike" baseline="30000">
                <a:solidFill>
                  <a:srgbClr val="3c216d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c216d"/>
                </a:solidFill>
                <a:latin typeface="Arial"/>
              </a:rPr>
              <a:t>+8x-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 algn="ctr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16d"/>
                </a:solidFill>
                <a:latin typeface="Arial"/>
              </a:rPr>
              <a:t>y=-3x</a:t>
            </a:r>
            <a:r>
              <a:rPr b="0" lang="en-US" sz="3600" spc="-1" strike="noStrike" baseline="30000">
                <a:solidFill>
                  <a:srgbClr val="3c216d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c216d"/>
                </a:solidFill>
                <a:latin typeface="Arial"/>
              </a:rPr>
              <a:t> +6x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2. По  графикам   функций укаж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промежутки  возрастания  и  убывания 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уравнение оси симме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c216d"/>
                </a:solidFill>
                <a:latin typeface="Arial"/>
              </a:rPr>
              <a:t>координаты точки пересечения с осями Ох и О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 algn="ctr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 algn="ctr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спользуя  программу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crosoft Exc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3" descr="D:\Olga\картинки\school2224.gif"/>
          <p:cNvPicPr/>
          <p:nvPr/>
        </p:nvPicPr>
        <p:blipFill>
          <a:blip r:embed="rId1"/>
          <a:stretch/>
        </p:blipFill>
        <p:spPr>
          <a:xfrm>
            <a:off x="6669000" y="1268280"/>
            <a:ext cx="247500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Ольга</cp:lastModifiedBy>
  <dcterms:modified xsi:type="dcterms:W3CDTF">2012-03-07T17:07:02Z</dcterms:modified>
  <cp:revision>45</cp:revision>
  <dc:subject/>
  <dc:title>Слайд 1</dc:title>
</cp:coreProperties>
</file>