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3904-5342-47CB-BEA1-4A7D324AE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1E99-D7B7-4AE1-BFE9-AD0B4D3ED6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767-8861-4D43-B6F9-9DC032A0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08A-D99E-4792-9B37-07A75302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A11-2767-4150-98BE-C8DFE4EF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217-6D9C-4801-BECC-9D6EBF11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5937-7CED-4DAB-9F9E-30F3B9DC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3170-F12D-4F83-9858-8CECE099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C836-337B-4D61-98CB-274567BF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C8E1-E78F-45D4-B49F-BBE29AD8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BA12-68AB-4E87-A1D5-BB7B3574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4409-4C82-4260-A5B4-3F7143F2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CDB9-4C73-4420-80E4-1432A033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69E-B9C0-4E8E-B070-CB9ED27B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27B3-D43E-478D-B28F-638A7401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0D3B-3EDF-4696-A1D1-D13AB553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B1D8-F698-48E1-8C75-8EEB6B5A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D0FA-CC5F-43C0-8173-795181F8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8B8A-5849-4168-9E21-4B03BBED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0FE-22CF-4534-80D1-7F72AA34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327-B458-425B-AE08-B5B2082D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7B2-B433-4A3A-BD1D-66617548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A7C-E5D5-4E37-AEBC-B37F71B0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436-9D0A-408A-9F44-AA1775D5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005-BAEE-466E-AEA7-27C55ED5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5ED-692D-4C02-AE16-F901CAD0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6A97-ADAF-4307-928C-A616EF7E72C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2641-0CF2-4156-8DE1-A24D8E5BA1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hyperlink" Target="file:///tmp/home/.config/libreoffice/4/user/gallery/Windows%20XP%20-%20&#1082;&#1086;&#1088;&#1079;&#1080;&#1085;&#1072;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hyperlink" Target="file:///tmp/home/.config/libreoffice/4/user/gallery/Windows%20XP%20-%20&#1082;&#1086;&#1088;&#1079;&#1080;&#1085;&#1072;.wav" TargetMode="External"/><Relationship Id="rId6" Type="http://schemas.openxmlformats.org/officeDocument/2006/relationships/hyperlink" Target="file:///tmp/home/.config/libreoffice/4/user/gallery/Windows%20XP%20-%20&#1082;&#1086;&#1088;&#1079;&#1080;&#1085;&#1072;.wav" TargetMode="Externa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19.xml"/><Relationship Id="rId5" Type="http://schemas.openxmlformats.org/officeDocument/2006/relationships/hyperlink" Target="file:///tmp/home/.config/libreoffice/4/user/gallery/Windows%20XP%20-%20&#1082;&#1086;&#1088;&#1079;&#1080;&#1085;&#1072;.wav" TargetMode="External"/><Relationship Id="rId6" Type="http://schemas.openxmlformats.org/officeDocument/2006/relationships/hyperlink" Target="file:///tmp/home/.config/libreoffice/4/user/gallery/Windows%20XP%20-%20&#1082;&#1086;&#1088;&#1079;&#1080;&#1085;&#1072;.wav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hyperlink" Target="file:///tmp/home/.config/libreoffice/4/user/gallery/Windows%20XP%20-%20&#1082;&#1086;&#1088;&#1079;&#1080;&#1085;&#1072;.wav" TargetMode="External"/><Relationship Id="rId10" Type="http://schemas.openxmlformats.org/officeDocument/2006/relationships/hyperlink" Target="file:///tmp/home/.config/libreoffice/4/user/gallery/Windows%20XP%20-%20&#1082;&#1086;&#1088;&#1079;&#1080;&#1085;&#1072;.wav" TargetMode="Externa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hyperlink" Target="file:///tmp/home/.config/libreoffice/4/user/gallery/Windows%20XP%20-%20&#1082;&#1086;&#1088;&#1079;&#1080;&#1085;&#1072;.wav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Century Gothic"/>
              </a:rPr>
              <a:t>Аварии на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60" name="Picture 11" descr="1146028084"/>
          <p:cNvPicPr/>
          <p:nvPr/>
        </p:nvPicPr>
        <p:blipFill>
          <a:blip r:embed="rId1"/>
          <a:stretch/>
        </p:blipFill>
        <p:spPr>
          <a:xfrm>
            <a:off x="1763640" y="2060640"/>
            <a:ext cx="5256360" cy="42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2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15">
            <a:hlinkClick r:id="rId3" action="ppaction://hlinksldjump"/>
          </p:cNvPr>
          <p:cNvSpPr/>
          <p:nvPr/>
        </p:nvSpPr>
        <p:spPr>
          <a:xfrm>
            <a:off x="39528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6">
            <a:hlinkClick r:id="" action="ppaction://hlinkshowjump?jump=nextslide"/>
          </p:cNvPr>
          <p:cNvSpPr/>
          <p:nvPr/>
        </p:nvSpPr>
        <p:spPr>
          <a:xfrm>
            <a:off x="802800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3794"/>
                </a:moveTo>
                <a:lnTo>
                  <a:pt x="34081" y="10800"/>
                </a:lnTo>
                <a:lnTo>
                  <a:pt x="2006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600"/>
                            </p:stCondLst>
                            <p:childTnLst>
                              <p:par>
                                <p:cTn id="1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27c3a"/>
                                      </p:to>
                                    </p:animClr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27c3a"/>
                                      </p:to>
                                    </p:animClr>
                                    <p:set>
                                      <p:cBhvr>
                                        <p:cTn id="15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6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836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Факторы радиационной опасности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ри нахождении личного состава в районе аварийной АЭС необходимо иметь ввиду следующие возможные пути облучения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1. Внешнее облучение (гамма-, бета-жесткое) и поступление РВ внутрь организма при прохождении первичного газоаэрозольного облака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2. Внешнее облучение (гамма-) на радиоактивно зараженной местности (РЗМ). Вклад данного фактора в общую дозу облучения на различных этапах после аварии составляет от 30-40% до 80-90%. вешнее облучение является ведущим при правильном использовании средств индивидуальной защиты (СИЗ), а начиная с 2-3 мес после аварии - и без использования СИЗ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17928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Факторы радиационной опасности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Внутреннее облучение (альфа-, бета-, гамма-) за счет ингаляционного поступления радионуклидов при нахождении на РЗМ. Вклад данного фактора в общую дозу облучения зависит от степени РЗМ, радионуклидного состава РВ (особенно наличия альфа-излучателей), времени прошедшего после аварии, характера работы личного состава, использования средств индивидуальной защиты органов дыхания и может составлять до 70%(!!!) в первый месяц, до 40-50% - во второй, до 20-30% - в третий месяц после авар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Внутреннее облучение при пероральном поступлении радионуклидов с загрязненными пищевыми продуктами и вод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Контактное облучение (бета-, гамма-) при загрязнении кожи и одежды, а также дистанционное бета-облучение кожи от РЗ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250920" y="6308640"/>
            <a:ext cx="826920" cy="360360"/>
          </a:xfrm>
          <a:custGeom>
            <a:avLst/>
            <a:gdLst>
              <a:gd name="textAreaLeft" fmla="*/ 23040 w 826920"/>
              <a:gd name="textAreaRight" fmla="*/ 803880 w 826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538" h="21600">
                <a:moveTo>
                  <a:pt x="0" y="0"/>
                </a:moveTo>
                <a:lnTo>
                  <a:pt x="49538" y="0"/>
                </a:lnTo>
                <a:lnTo>
                  <a:pt x="49538" y="21600"/>
                </a:lnTo>
                <a:lnTo>
                  <a:pt x="0" y="21600"/>
                </a:lnTo>
                <a:close/>
              </a:path>
              <a:path fill="lightenLess" w="49538" h="21600">
                <a:moveTo>
                  <a:pt x="0" y="0"/>
                </a:moveTo>
                <a:lnTo>
                  <a:pt x="49538" y="0"/>
                </a:lnTo>
                <a:lnTo>
                  <a:pt x="48138" y="1400"/>
                </a:lnTo>
                <a:lnTo>
                  <a:pt x="1400" y="1400"/>
                </a:lnTo>
                <a:close/>
              </a:path>
              <a:path fill="darken" w="49538" h="21600">
                <a:moveTo>
                  <a:pt x="49538" y="0"/>
                </a:moveTo>
                <a:lnTo>
                  <a:pt x="49538" y="21600"/>
                </a:lnTo>
                <a:lnTo>
                  <a:pt x="48138" y="20200"/>
                </a:lnTo>
                <a:lnTo>
                  <a:pt x="48138" y="1400"/>
                </a:lnTo>
                <a:close/>
              </a:path>
              <a:path fill="darkenLess" w="49538" h="21600">
                <a:moveTo>
                  <a:pt x="49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38" y="20200"/>
                </a:lnTo>
                <a:close/>
              </a:path>
              <a:path fill="lighten" w="49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538" h="21600">
                <a:moveTo>
                  <a:pt x="17762" y="10800"/>
                </a:moveTo>
                <a:lnTo>
                  <a:pt x="31775" y="3794"/>
                </a:lnTo>
                <a:lnTo>
                  <a:pt x="31775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101080" y="6237360"/>
            <a:ext cx="718920" cy="3585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3287" h="21600">
                <a:moveTo>
                  <a:pt x="0" y="0"/>
                </a:moveTo>
                <a:lnTo>
                  <a:pt x="43287" y="0"/>
                </a:lnTo>
                <a:lnTo>
                  <a:pt x="43287" y="21600"/>
                </a:lnTo>
                <a:lnTo>
                  <a:pt x="0" y="21600"/>
                </a:lnTo>
                <a:close/>
              </a:path>
              <a:path fill="lightenLess" w="43287" h="21600">
                <a:moveTo>
                  <a:pt x="0" y="0"/>
                </a:moveTo>
                <a:lnTo>
                  <a:pt x="43287" y="0"/>
                </a:lnTo>
                <a:lnTo>
                  <a:pt x="41887" y="1400"/>
                </a:lnTo>
                <a:lnTo>
                  <a:pt x="1400" y="1400"/>
                </a:lnTo>
                <a:close/>
              </a:path>
              <a:path fill="darken" w="43287" h="21600">
                <a:moveTo>
                  <a:pt x="43287" y="0"/>
                </a:moveTo>
                <a:lnTo>
                  <a:pt x="43287" y="21600"/>
                </a:lnTo>
                <a:lnTo>
                  <a:pt x="41887" y="20200"/>
                </a:lnTo>
                <a:lnTo>
                  <a:pt x="41887" y="1400"/>
                </a:lnTo>
                <a:close/>
              </a:path>
              <a:path fill="darkenLess" w="43287" h="21600">
                <a:moveTo>
                  <a:pt x="43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7" y="20200"/>
                </a:lnTo>
                <a:close/>
              </a:path>
              <a:path fill="lighten" w="43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7" h="21600">
                <a:moveTo>
                  <a:pt x="14637" y="3794"/>
                </a:moveTo>
                <a:lnTo>
                  <a:pt x="28650" y="10800"/>
                </a:lnTo>
                <a:lnTo>
                  <a:pt x="1463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Оценка радиационной опасности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ценка радиационной обстановки при аварии на АЭС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диационная обстановка представляет собой совокупность условий, возникающих в результате загрязнения местности, приземного слоя воздуха и водоисточников, оказывающих влияние на действия войск, аварийно-спасательные работы и жизнедеятельность населения.Оценка наземной радиационной обстановки предусматривает определение масштабов и степени РЗМ и приземного слоя атмосферы с целью определения степени их влияния на действия войск и выбора оптимального режима их деятельности. Радиационная обстановка может быть выявлена и оценена как по результатам прогнозирования последствий разрушения АЭС, так и по данным радиационной развед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2400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101080" y="6308640"/>
            <a:ext cx="792000" cy="35892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637" h="21600">
                <a:moveTo>
                  <a:pt x="0" y="0"/>
                </a:moveTo>
                <a:lnTo>
                  <a:pt x="47637" y="0"/>
                </a:lnTo>
                <a:lnTo>
                  <a:pt x="47637" y="21600"/>
                </a:lnTo>
                <a:lnTo>
                  <a:pt x="0" y="21600"/>
                </a:lnTo>
                <a:close/>
              </a:path>
              <a:path fill="lightenLess" w="47637" h="21600">
                <a:moveTo>
                  <a:pt x="0" y="0"/>
                </a:moveTo>
                <a:lnTo>
                  <a:pt x="47637" y="0"/>
                </a:lnTo>
                <a:lnTo>
                  <a:pt x="46237" y="1400"/>
                </a:lnTo>
                <a:lnTo>
                  <a:pt x="1400" y="1400"/>
                </a:lnTo>
                <a:close/>
              </a:path>
              <a:path fill="darken" w="47637" h="21600">
                <a:moveTo>
                  <a:pt x="47637" y="0"/>
                </a:moveTo>
                <a:lnTo>
                  <a:pt x="47637" y="21600"/>
                </a:lnTo>
                <a:lnTo>
                  <a:pt x="46237" y="20200"/>
                </a:lnTo>
                <a:lnTo>
                  <a:pt x="46237" y="1400"/>
                </a:lnTo>
                <a:close/>
              </a:path>
              <a:path fill="darkenLess" w="47637" h="21600">
                <a:moveTo>
                  <a:pt x="4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37" y="20200"/>
                </a:lnTo>
                <a:close/>
              </a:path>
              <a:path fill="lighten" w="4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37" h="21600">
                <a:moveTo>
                  <a:pt x="16812" y="3794"/>
                </a:moveTo>
                <a:lnTo>
                  <a:pt x="30825" y="10800"/>
                </a:lnTo>
                <a:lnTo>
                  <a:pt x="16812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Лечебно-профилактические работы в очагах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п 1 -до 15 мин после авар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ует персонал смены на рабочем месте. Медицинская помощь пострадавшим оказывает в порядке само- и взаимопомощи. Эвакуация пострадавших на здравпункт проводится по заранее определенным путям. Для оказания помощи используются аптечка и носилки. Уточняется характер аварии. Обученный персонал локализует зону аварии и открывает дуги к эвакуации. Вступает в действие схема оповещения об аварии, захватывающая медицинские учреждения и медперсона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2400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02800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8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Лечебно-профилактические работы в очагах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Этап 2 - 15-30 мин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роходит на ближайшем здравпункте. Неотложная помощь оказывается фельдшером. Проводится сортировка пораженных с выделением по клиническим признакам 2 групп - нуждающихся в неотложной медицинской помощи и не нуждающихся в таковой. Как второстепенное мероприятие осуществляется сортировка по данным физической дозиметрии с выделением пораженных в дозе до 600 рад, более 1200 рад (порог радиационного ожога) и промежуточных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95280" y="6237360"/>
            <a:ext cx="792000" cy="3585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7685" h="21600">
                <a:moveTo>
                  <a:pt x="0" y="0"/>
                </a:moveTo>
                <a:lnTo>
                  <a:pt x="47685" y="0"/>
                </a:lnTo>
                <a:lnTo>
                  <a:pt x="47685" y="21600"/>
                </a:lnTo>
                <a:lnTo>
                  <a:pt x="0" y="21600"/>
                </a:lnTo>
                <a:close/>
              </a:path>
              <a:path fill="lightenLess" w="47685" h="21600">
                <a:moveTo>
                  <a:pt x="0" y="0"/>
                </a:moveTo>
                <a:lnTo>
                  <a:pt x="47685" y="0"/>
                </a:lnTo>
                <a:lnTo>
                  <a:pt x="46285" y="1400"/>
                </a:lnTo>
                <a:lnTo>
                  <a:pt x="1400" y="1400"/>
                </a:lnTo>
                <a:close/>
              </a:path>
              <a:path fill="darken" w="47685" h="21600">
                <a:moveTo>
                  <a:pt x="47685" y="0"/>
                </a:moveTo>
                <a:lnTo>
                  <a:pt x="47685" y="21600"/>
                </a:lnTo>
                <a:lnTo>
                  <a:pt x="46285" y="20200"/>
                </a:lnTo>
                <a:lnTo>
                  <a:pt x="46285" y="1400"/>
                </a:lnTo>
                <a:close/>
              </a:path>
              <a:path fill="darkenLess" w="47685" h="21600">
                <a:moveTo>
                  <a:pt x="47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85" y="20200"/>
                </a:lnTo>
                <a:close/>
              </a:path>
              <a:path fill="lighten" w="47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85" h="21600">
                <a:moveTo>
                  <a:pt x="16836" y="10800"/>
                </a:moveTo>
                <a:lnTo>
                  <a:pt x="30849" y="3794"/>
                </a:lnTo>
                <a:lnTo>
                  <a:pt x="30849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7812000" y="6237360"/>
            <a:ext cx="936720" cy="3585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6394" h="21600">
                <a:moveTo>
                  <a:pt x="0" y="0"/>
                </a:moveTo>
                <a:lnTo>
                  <a:pt x="56394" y="0"/>
                </a:lnTo>
                <a:lnTo>
                  <a:pt x="56394" y="21600"/>
                </a:lnTo>
                <a:lnTo>
                  <a:pt x="0" y="21600"/>
                </a:lnTo>
                <a:close/>
              </a:path>
              <a:path fill="lightenLess" w="56394" h="21600">
                <a:moveTo>
                  <a:pt x="0" y="0"/>
                </a:moveTo>
                <a:lnTo>
                  <a:pt x="56394" y="0"/>
                </a:lnTo>
                <a:lnTo>
                  <a:pt x="54994" y="1400"/>
                </a:lnTo>
                <a:lnTo>
                  <a:pt x="1400" y="1400"/>
                </a:lnTo>
                <a:close/>
              </a:path>
              <a:path fill="darken" w="56394" h="21600">
                <a:moveTo>
                  <a:pt x="56394" y="0"/>
                </a:moveTo>
                <a:lnTo>
                  <a:pt x="56394" y="21600"/>
                </a:lnTo>
                <a:lnTo>
                  <a:pt x="54994" y="20200"/>
                </a:lnTo>
                <a:lnTo>
                  <a:pt x="54994" y="1400"/>
                </a:lnTo>
                <a:close/>
              </a:path>
              <a:path fill="darkenLess" w="56394" h="21600">
                <a:moveTo>
                  <a:pt x="5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94" y="20200"/>
                </a:lnTo>
                <a:close/>
              </a:path>
              <a:path fill="lighten" w="5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94" h="21600">
                <a:moveTo>
                  <a:pt x="21191" y="3794"/>
                </a:moveTo>
                <a:lnTo>
                  <a:pt x="35203" y="10800"/>
                </a:lnTo>
                <a:lnTo>
                  <a:pt x="21191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Лечебно-профилактические работы в очагах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 этап - 30 мин -З ча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п действий в приемном покое, желательно специально оборудованном и оснащенном. В принципе спецприемное отделение должно иметь: раздевалку с комнатой для упаковки в целлофан "грязных" предметов помещение (пост) для первичной радиометрии, душевую для санитарной обработки, желательно на несколько кабин и со столом для обработки лежачих больных; помещение (пост) для повторной радиометрии; комнату для врачебного обследования и оказания неотложной помощ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95280" y="6381720"/>
            <a:ext cx="863640" cy="333360"/>
          </a:xfrm>
          <a:custGeom>
            <a:avLst/>
            <a:gdLst>
              <a:gd name="textAreaLeft" fmla="*/ 21600 w 863640"/>
              <a:gd name="textAreaRight" fmla="*/ 842040 w 863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5922" h="21600">
                <a:moveTo>
                  <a:pt x="0" y="0"/>
                </a:moveTo>
                <a:lnTo>
                  <a:pt x="55922" y="0"/>
                </a:lnTo>
                <a:lnTo>
                  <a:pt x="55922" y="21600"/>
                </a:lnTo>
                <a:lnTo>
                  <a:pt x="0" y="21600"/>
                </a:lnTo>
                <a:close/>
              </a:path>
              <a:path fill="lightenLess" w="55922" h="21600">
                <a:moveTo>
                  <a:pt x="0" y="0"/>
                </a:moveTo>
                <a:lnTo>
                  <a:pt x="55922" y="0"/>
                </a:lnTo>
                <a:lnTo>
                  <a:pt x="54522" y="1400"/>
                </a:lnTo>
                <a:lnTo>
                  <a:pt x="1400" y="1400"/>
                </a:lnTo>
                <a:close/>
              </a:path>
              <a:path fill="darken" w="55922" h="21600">
                <a:moveTo>
                  <a:pt x="55922" y="0"/>
                </a:moveTo>
                <a:lnTo>
                  <a:pt x="55922" y="21600"/>
                </a:lnTo>
                <a:lnTo>
                  <a:pt x="54522" y="20200"/>
                </a:lnTo>
                <a:lnTo>
                  <a:pt x="54522" y="1400"/>
                </a:lnTo>
                <a:close/>
              </a:path>
              <a:path fill="darkenLess" w="55922" h="21600">
                <a:moveTo>
                  <a:pt x="55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22" y="20200"/>
                </a:lnTo>
                <a:close/>
              </a:path>
              <a:path fill="lighten" w="55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22" h="21600">
                <a:moveTo>
                  <a:pt x="20955" y="10800"/>
                </a:moveTo>
                <a:lnTo>
                  <a:pt x="34968" y="3794"/>
                </a:lnTo>
                <a:lnTo>
                  <a:pt x="3496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028000" y="6237360"/>
            <a:ext cx="792000" cy="333360"/>
          </a:xfrm>
          <a:custGeom>
            <a:avLst/>
            <a:gdLst>
              <a:gd name="textAreaLeft" fmla="*/ 21600 w 792000"/>
              <a:gd name="textAreaRight" fmla="*/ 770400 w 79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1285" h="21600">
                <a:moveTo>
                  <a:pt x="0" y="0"/>
                </a:moveTo>
                <a:lnTo>
                  <a:pt x="51285" y="0"/>
                </a:lnTo>
                <a:lnTo>
                  <a:pt x="51285" y="21600"/>
                </a:lnTo>
                <a:lnTo>
                  <a:pt x="0" y="21600"/>
                </a:lnTo>
                <a:close/>
              </a:path>
              <a:path fill="lightenLess" w="51285" h="21600">
                <a:moveTo>
                  <a:pt x="0" y="0"/>
                </a:moveTo>
                <a:lnTo>
                  <a:pt x="51285" y="0"/>
                </a:lnTo>
                <a:lnTo>
                  <a:pt x="49885" y="1400"/>
                </a:lnTo>
                <a:lnTo>
                  <a:pt x="1400" y="1400"/>
                </a:lnTo>
                <a:close/>
              </a:path>
              <a:path fill="darken" w="51285" h="21600">
                <a:moveTo>
                  <a:pt x="51285" y="0"/>
                </a:moveTo>
                <a:lnTo>
                  <a:pt x="51285" y="21600"/>
                </a:lnTo>
                <a:lnTo>
                  <a:pt x="49885" y="20200"/>
                </a:lnTo>
                <a:lnTo>
                  <a:pt x="49885" y="1400"/>
                </a:lnTo>
                <a:close/>
              </a:path>
              <a:path fill="darkenLess" w="51285" h="21600">
                <a:moveTo>
                  <a:pt x="51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85" y="20200"/>
                </a:lnTo>
                <a:close/>
              </a:path>
              <a:path fill="lighten" w="51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85" h="21600">
                <a:moveTo>
                  <a:pt x="18636" y="3794"/>
                </a:moveTo>
                <a:lnTo>
                  <a:pt x="32649" y="10800"/>
                </a:lnTo>
                <a:lnTo>
                  <a:pt x="18636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же через 21 год после аварии радиационая картина не пришла в норму. Доказательство – следующие кадры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4" descr="аэс6"/>
          <p:cNvPicPr/>
          <p:nvPr/>
        </p:nvPicPr>
        <p:blipFill>
          <a:blip r:embed="rId1"/>
          <a:stretch/>
        </p:blipFill>
        <p:spPr>
          <a:xfrm>
            <a:off x="611280" y="2349360"/>
            <a:ext cx="3800520" cy="2847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аэс7"/>
          <p:cNvPicPr/>
          <p:nvPr/>
        </p:nvPicPr>
        <p:blipFill>
          <a:blip r:embed="rId2"/>
          <a:stretch/>
        </p:blipFill>
        <p:spPr>
          <a:xfrm>
            <a:off x="4572000" y="2421000"/>
            <a:ext cx="3024360" cy="276696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324000" y="623736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AutoShape 7">
            <a:hlinkClick r:id="" action="ppaction://hlinkshowjump?jump=nextslide"/>
            <a:hlinkClick r:id="rId4"/>
          </p:cNvPr>
          <p:cNvSpPr/>
          <p:nvPr/>
        </p:nvSpPr>
        <p:spPr>
          <a:xfrm>
            <a:off x="8101080" y="6165720"/>
            <a:ext cx="792000" cy="35892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637" h="21600">
                <a:moveTo>
                  <a:pt x="0" y="0"/>
                </a:moveTo>
                <a:lnTo>
                  <a:pt x="47637" y="0"/>
                </a:lnTo>
                <a:lnTo>
                  <a:pt x="47637" y="21600"/>
                </a:lnTo>
                <a:lnTo>
                  <a:pt x="0" y="21600"/>
                </a:lnTo>
                <a:close/>
              </a:path>
              <a:path fill="lightenLess" w="47637" h="21600">
                <a:moveTo>
                  <a:pt x="0" y="0"/>
                </a:moveTo>
                <a:lnTo>
                  <a:pt x="47637" y="0"/>
                </a:lnTo>
                <a:lnTo>
                  <a:pt x="46237" y="1400"/>
                </a:lnTo>
                <a:lnTo>
                  <a:pt x="1400" y="1400"/>
                </a:lnTo>
                <a:close/>
              </a:path>
              <a:path fill="darken" w="47637" h="21600">
                <a:moveTo>
                  <a:pt x="47637" y="0"/>
                </a:moveTo>
                <a:lnTo>
                  <a:pt x="47637" y="21600"/>
                </a:lnTo>
                <a:lnTo>
                  <a:pt x="46237" y="20200"/>
                </a:lnTo>
                <a:lnTo>
                  <a:pt x="46237" y="1400"/>
                </a:lnTo>
                <a:close/>
              </a:path>
              <a:path fill="darkenLess" w="47637" h="21600">
                <a:moveTo>
                  <a:pt x="4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37" y="20200"/>
                </a:lnTo>
                <a:close/>
              </a:path>
              <a:path fill="lighten" w="4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37" h="21600">
                <a:moveTo>
                  <a:pt x="16812" y="3794"/>
                </a:moveTo>
                <a:lnTo>
                  <a:pt x="30825" y="10800"/>
                </a:lnTo>
                <a:lnTo>
                  <a:pt x="16812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алее Вам предлагается викторина на тему: «Аварии на АЭС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9528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8" y="3794"/>
                </a:lnTo>
                <a:lnTo>
                  <a:pt x="2858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7812000" y="6093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AutoShape 6">
            <a:hlinkClick r:id="rId3" action="ppaction://hlinksldjump"/>
          </p:cNvPr>
          <p:cNvSpPr/>
          <p:nvPr/>
        </p:nvSpPr>
        <p:spPr>
          <a:xfrm>
            <a:off x="4067280" y="616572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 (1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личают три типа аварий: локальная, общая и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1" action="ppaction://hlinksldjump"/>
              </a:rPr>
              <a:t>1. Мест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2" action="ppaction://hlinksldjump"/>
              </a:rPr>
              <a:t>2.Масштаб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3" action="ppaction://hlinksldjump"/>
              </a:rPr>
              <a:t>3.Специа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4" action="ppaction://hlinksldjump"/>
              </a:rPr>
              <a:t>4.Време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AutoShape 7">
            <a:hlinkClick r:id="" action="ppaction://hlinkshowjump?jump=previousslide"/>
            <a:hlinkClick r:id="rId5"/>
          </p:cNvPr>
          <p:cNvSpPr/>
          <p:nvPr/>
        </p:nvSpPr>
        <p:spPr>
          <a:xfrm>
            <a:off x="395280" y="6237360"/>
            <a:ext cx="863640" cy="28728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481" y="1400"/>
                </a:lnTo>
                <a:lnTo>
                  <a:pt x="1400" y="140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481" y="20200"/>
                </a:lnTo>
                <a:lnTo>
                  <a:pt x="63481" y="140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81" y="2020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81" h="21600">
                <a:moveTo>
                  <a:pt x="25434" y="10800"/>
                </a:moveTo>
                <a:lnTo>
                  <a:pt x="39447" y="3794"/>
                </a:lnTo>
                <a:lnTo>
                  <a:pt x="3944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AutoShape 8">
            <a:hlinkClick r:id="" action="ppaction://hlinkshowjump?jump=nextslide"/>
            <a:hlinkClick r:id="rId6"/>
          </p:cNvPr>
          <p:cNvSpPr/>
          <p:nvPr/>
        </p:nvSpPr>
        <p:spPr>
          <a:xfrm>
            <a:off x="7885080" y="6165720"/>
            <a:ext cx="934920" cy="289080"/>
          </a:xfrm>
          <a:custGeom>
            <a:avLst/>
            <a:gdLst>
              <a:gd name="textAreaLeft" fmla="*/ 18720 w 934920"/>
              <a:gd name="textAreaRight" fmla="*/ 916200 w 934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69797" h="21600">
                <a:moveTo>
                  <a:pt x="0" y="0"/>
                </a:moveTo>
                <a:lnTo>
                  <a:pt x="69797" y="0"/>
                </a:lnTo>
                <a:lnTo>
                  <a:pt x="69797" y="21600"/>
                </a:lnTo>
                <a:lnTo>
                  <a:pt x="0" y="21600"/>
                </a:lnTo>
                <a:close/>
              </a:path>
              <a:path fill="lightenLess" w="69797" h="21600">
                <a:moveTo>
                  <a:pt x="0" y="0"/>
                </a:moveTo>
                <a:lnTo>
                  <a:pt x="69797" y="0"/>
                </a:lnTo>
                <a:lnTo>
                  <a:pt x="68397" y="1400"/>
                </a:lnTo>
                <a:lnTo>
                  <a:pt x="1400" y="1400"/>
                </a:lnTo>
                <a:close/>
              </a:path>
              <a:path fill="darken" w="69797" h="21600">
                <a:moveTo>
                  <a:pt x="69797" y="0"/>
                </a:moveTo>
                <a:lnTo>
                  <a:pt x="69797" y="21600"/>
                </a:lnTo>
                <a:lnTo>
                  <a:pt x="68397" y="20200"/>
                </a:lnTo>
                <a:lnTo>
                  <a:pt x="68397" y="1400"/>
                </a:lnTo>
                <a:close/>
              </a:path>
              <a:path fill="darkenLess" w="69797" h="21600">
                <a:moveTo>
                  <a:pt x="69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97" y="20200"/>
                </a:lnTo>
                <a:close/>
              </a:path>
              <a:path fill="lighten" w="69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97" h="21600">
                <a:moveTo>
                  <a:pt x="27892" y="3794"/>
                </a:moveTo>
                <a:lnTo>
                  <a:pt x="41905" y="10800"/>
                </a:lnTo>
                <a:lnTo>
                  <a:pt x="27892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(2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колько аварий было зарегистрировано к 1984 году в мир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1" action="ppaction://hlinksldjump"/>
              </a:rPr>
              <a:t>1. 3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2" action="ppaction://hlinksldjump"/>
              </a:rPr>
              <a:t>2.27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3" action="ppaction://hlinksldjump"/>
              </a:rPr>
              <a:t>3.1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4" action="ppaction://hlinksldjump"/>
              </a:rPr>
              <a:t>4.2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6">
            <a:hlinkClick r:id="" action="ppaction://hlinkshowjump?jump=previousslide"/>
            <a:hlinkClick r:id="rId5"/>
          </p:cNvPr>
          <p:cNvSpPr/>
          <p:nvPr/>
        </p:nvSpPr>
        <p:spPr>
          <a:xfrm>
            <a:off x="324000" y="623736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7">
            <a:hlinkClick r:id="" action="ppaction://hlinkshowjump?jump=nextslide"/>
            <a:hlinkClick r:id="rId6"/>
          </p:cNvPr>
          <p:cNvSpPr/>
          <p:nvPr/>
        </p:nvSpPr>
        <p:spPr>
          <a:xfrm>
            <a:off x="795672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Century Gothic"/>
              </a:rPr>
              <a:t>План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1" action="ppaction://hlinksldjump"/>
              </a:rPr>
              <a:t>Технические характерис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2" action="ppaction://hlinksldjump"/>
              </a:rPr>
              <a:t>Авария РБ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3" action="ppaction://hlinksldjump"/>
              </a:rPr>
              <a:t>Подробнее о Чернобы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4" action="ppaction://hlinksldjump"/>
              </a:rPr>
              <a:t>Факторы радиационной опас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5" action="ppaction://hlinksldjump"/>
              </a:rPr>
              <a:t>Особенности работ при ликвид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6" action="ppaction://hlinksldjump"/>
              </a:rPr>
              <a:t>Лечебно-профилактические работы в очаг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7" action="ppaction://hlinksldjump"/>
              </a:rPr>
              <a:t>Чернобыль в наши д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8" action="ppaction://hlinksldjump"/>
              </a:rPr>
              <a:t>Виктор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4">
            <a:hlinkClick r:id="" action="ppaction://hlinkshowjump?jump=nextslide"/>
            <a:hlinkClick r:id="rId9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5">
            <a:hlinkClick r:id="" action="ppaction://hlinkshowjump?jump=previousslide"/>
            <a:hlinkClick r:id="rId10"/>
          </p:cNvPr>
          <p:cNvSpPr/>
          <p:nvPr/>
        </p:nvSpPr>
        <p:spPr>
          <a:xfrm>
            <a:off x="250920" y="6237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10800"/>
                </a:moveTo>
                <a:lnTo>
                  <a:pt x="22376" y="3794"/>
                </a:lnTo>
                <a:lnTo>
                  <a:pt x="22376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(3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нешнее облучение - 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1" action="ppaction://hlinksldjump"/>
              </a:rPr>
              <a:t>1. Бет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Гам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Альф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Альфа-жёст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6">
            <a:hlinkClick r:id="" action="ppaction://hlinkshowjump?jump=nextslide"/>
            <a:hlinkClick r:id="rId2"/>
          </p:cNvPr>
          <p:cNvSpPr/>
          <p:nvPr/>
        </p:nvSpPr>
        <p:spPr>
          <a:xfrm>
            <a:off x="7956720" y="6165720"/>
            <a:ext cx="936360" cy="360360"/>
          </a:xfrm>
          <a:custGeom>
            <a:avLst/>
            <a:gdLst>
              <a:gd name="textAreaLeft" fmla="*/ 23040 w 936360"/>
              <a:gd name="textAreaRight" fmla="*/ 913320 w 93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91" h="21600">
                <a:moveTo>
                  <a:pt x="0" y="0"/>
                </a:moveTo>
                <a:lnTo>
                  <a:pt x="56091" y="0"/>
                </a:lnTo>
                <a:lnTo>
                  <a:pt x="56091" y="21600"/>
                </a:lnTo>
                <a:lnTo>
                  <a:pt x="0" y="21600"/>
                </a:lnTo>
                <a:close/>
              </a:path>
              <a:path fill="lightenLess" w="56091" h="21600">
                <a:moveTo>
                  <a:pt x="0" y="0"/>
                </a:moveTo>
                <a:lnTo>
                  <a:pt x="56091" y="0"/>
                </a:lnTo>
                <a:lnTo>
                  <a:pt x="54691" y="1400"/>
                </a:lnTo>
                <a:lnTo>
                  <a:pt x="1400" y="1400"/>
                </a:lnTo>
                <a:close/>
              </a:path>
              <a:path fill="darken" w="56091" h="21600">
                <a:moveTo>
                  <a:pt x="56091" y="0"/>
                </a:moveTo>
                <a:lnTo>
                  <a:pt x="56091" y="21600"/>
                </a:lnTo>
                <a:lnTo>
                  <a:pt x="54691" y="20200"/>
                </a:lnTo>
                <a:lnTo>
                  <a:pt x="54691" y="1400"/>
                </a:lnTo>
                <a:close/>
              </a:path>
              <a:path fill="darkenLess" w="56091" h="21600">
                <a:moveTo>
                  <a:pt x="56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1" y="20200"/>
                </a:lnTo>
                <a:close/>
              </a:path>
              <a:path fill="lighten" w="56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91" h="21600">
                <a:moveTo>
                  <a:pt x="21039" y="3794"/>
                </a:moveTo>
                <a:lnTo>
                  <a:pt x="35052" y="10800"/>
                </a:lnTo>
                <a:lnTo>
                  <a:pt x="21039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AutoShape 7">
            <a:hlinkClick r:id="" action="ppaction://hlinkshowjump?jump=previousslide"/>
            <a:hlinkClick r:id="rId3"/>
          </p:cNvPr>
          <p:cNvSpPr/>
          <p:nvPr/>
        </p:nvSpPr>
        <p:spPr>
          <a:xfrm>
            <a:off x="324000" y="616572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81" h="21600">
                <a:moveTo>
                  <a:pt x="23184" y="10800"/>
                </a:moveTo>
                <a:lnTo>
                  <a:pt x="37197" y="3794"/>
                </a:lnTo>
                <a:lnTo>
                  <a:pt x="3719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(4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ап 1 – до ? мину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AutoShape 6">
            <a:hlinkClick r:id="" action="ppaction://hlinkshowjump?jump=previousslide"/>
            <a:hlinkClick r:id="rId1"/>
          </p:cNvPr>
          <p:cNvSpPr/>
          <p:nvPr/>
        </p:nvSpPr>
        <p:spPr>
          <a:xfrm>
            <a:off x="468360" y="6165720"/>
            <a:ext cx="792000" cy="35892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637" h="21600">
                <a:moveTo>
                  <a:pt x="0" y="0"/>
                </a:moveTo>
                <a:lnTo>
                  <a:pt x="47637" y="0"/>
                </a:lnTo>
                <a:lnTo>
                  <a:pt x="47637" y="21600"/>
                </a:lnTo>
                <a:lnTo>
                  <a:pt x="0" y="21600"/>
                </a:lnTo>
                <a:close/>
              </a:path>
              <a:path fill="lightenLess" w="47637" h="21600">
                <a:moveTo>
                  <a:pt x="0" y="0"/>
                </a:moveTo>
                <a:lnTo>
                  <a:pt x="47637" y="0"/>
                </a:lnTo>
                <a:lnTo>
                  <a:pt x="46237" y="1400"/>
                </a:lnTo>
                <a:lnTo>
                  <a:pt x="1400" y="1400"/>
                </a:lnTo>
                <a:close/>
              </a:path>
              <a:path fill="darken" w="47637" h="21600">
                <a:moveTo>
                  <a:pt x="47637" y="0"/>
                </a:moveTo>
                <a:lnTo>
                  <a:pt x="47637" y="21600"/>
                </a:lnTo>
                <a:lnTo>
                  <a:pt x="46237" y="20200"/>
                </a:lnTo>
                <a:lnTo>
                  <a:pt x="46237" y="1400"/>
                </a:lnTo>
                <a:close/>
              </a:path>
              <a:path fill="darkenLess" w="47637" h="21600">
                <a:moveTo>
                  <a:pt x="4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37" y="20200"/>
                </a:lnTo>
                <a:close/>
              </a:path>
              <a:path fill="lighten" w="4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37" h="21600">
                <a:moveTo>
                  <a:pt x="16812" y="10800"/>
                </a:moveTo>
                <a:lnTo>
                  <a:pt x="30825" y="3794"/>
                </a:lnTo>
                <a:lnTo>
                  <a:pt x="30825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AutoShape 7">
            <a:hlinkClick r:id="" action="ppaction://hlinkshowjump?jump=nextslide"/>
            <a:hlinkClick r:id="rId2"/>
          </p:cNvPr>
          <p:cNvSpPr/>
          <p:nvPr/>
        </p:nvSpPr>
        <p:spPr>
          <a:xfrm>
            <a:off x="802800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(5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колько лет прошло со дня аварии на Чернобыльской АЭС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2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AutoShape 6">
            <a:hlinkClick r:id="" action="ppaction://hlinkshowjump?jump=previousslide"/>
            <a:hlinkClick r:id="rId1"/>
          </p:cNvPr>
          <p:cNvSpPr/>
          <p:nvPr/>
        </p:nvSpPr>
        <p:spPr>
          <a:xfrm>
            <a:off x="250920" y="623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AutoShape 7">
            <a:hlinkClick r:id="" action="ppaction://hlinkshowjump?jump=nextslide"/>
            <a:hlinkClick r:id="rId2"/>
          </p:cNvPr>
          <p:cNvSpPr/>
          <p:nvPr/>
        </p:nvSpPr>
        <p:spPr>
          <a:xfrm>
            <a:off x="7885080" y="6165720"/>
            <a:ext cx="790560" cy="358920"/>
          </a:xfrm>
          <a:custGeom>
            <a:avLst/>
            <a:gdLst>
              <a:gd name="textAreaLeft" fmla="*/ 23040 w 790560"/>
              <a:gd name="textAreaRight" fmla="*/ 767520 w 790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550" h="21600">
                <a:moveTo>
                  <a:pt x="0" y="0"/>
                </a:moveTo>
                <a:lnTo>
                  <a:pt x="47550" y="0"/>
                </a:lnTo>
                <a:lnTo>
                  <a:pt x="47550" y="21600"/>
                </a:lnTo>
                <a:lnTo>
                  <a:pt x="0" y="21600"/>
                </a:lnTo>
                <a:close/>
              </a:path>
              <a:path fill="lightenLess" w="47550" h="21600">
                <a:moveTo>
                  <a:pt x="0" y="0"/>
                </a:moveTo>
                <a:lnTo>
                  <a:pt x="47550" y="0"/>
                </a:lnTo>
                <a:lnTo>
                  <a:pt x="46150" y="1400"/>
                </a:lnTo>
                <a:lnTo>
                  <a:pt x="1400" y="1400"/>
                </a:lnTo>
                <a:close/>
              </a:path>
              <a:path fill="darken" w="47550" h="21600">
                <a:moveTo>
                  <a:pt x="47550" y="0"/>
                </a:moveTo>
                <a:lnTo>
                  <a:pt x="47550" y="21600"/>
                </a:lnTo>
                <a:lnTo>
                  <a:pt x="46150" y="20200"/>
                </a:lnTo>
                <a:lnTo>
                  <a:pt x="46150" y="1400"/>
                </a:lnTo>
                <a:close/>
              </a:path>
              <a:path fill="darkenLess" w="47550" h="21600">
                <a:moveTo>
                  <a:pt x="475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50" y="20200"/>
                </a:lnTo>
                <a:close/>
              </a:path>
              <a:path fill="lighten" w="475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50" h="21600">
                <a:moveTo>
                  <a:pt x="16769" y="3794"/>
                </a:moveTo>
                <a:lnTo>
                  <a:pt x="30782" y="10800"/>
                </a:lnTo>
                <a:lnTo>
                  <a:pt x="16769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Технические характеристики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920" y="1643040"/>
            <a:ext cx="878688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варии на АЭС классифицируются в зависимости от причин отказов оборудования, от механизма развития аварии и масштаба последствий.Различают три типа радиационных аварий на АЭС: локальная, местная и общая. При локальной аварии радиационные последствия ограничиваются одним зданием или сооружением, где создается повышенный уровень внешнего излучения, радиоактивного загрязнения воздуха в рабочих помещениях, а также наружных поверхностей оборудования. Радиационные последствия при местной аварии ограничены зданием и территорией АЭС, где возможно облучения персонала в дозах, выше допустимых. Концентрация радиоактивных веществ в воздухе, а также уровень радиоактивного загрязнения поверхностей помещений и территории превышает регламентируемый. К общим относятся аварии, при которых радиоактивные продукты, выбрасываемые из реактора, распространяются за пределами территории АЭС. В результате возможно облучение населения и радиоактивное загрязнение объектов окружающей среды (почвы, воздуха, растительности 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468360" y="6165720"/>
            <a:ext cx="574560" cy="405000"/>
          </a:xfrm>
          <a:custGeom>
            <a:avLst/>
            <a:gdLst>
              <a:gd name="textAreaLeft" fmla="*/ 25920 w 574560"/>
              <a:gd name="textAreaRight" fmla="*/ 548640 w 5745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0635" h="21600">
                <a:moveTo>
                  <a:pt x="0" y="0"/>
                </a:moveTo>
                <a:lnTo>
                  <a:pt x="30635" y="0"/>
                </a:lnTo>
                <a:lnTo>
                  <a:pt x="30635" y="21600"/>
                </a:lnTo>
                <a:lnTo>
                  <a:pt x="0" y="21600"/>
                </a:lnTo>
                <a:close/>
              </a:path>
              <a:path fill="lightenLess" w="30635" h="21600">
                <a:moveTo>
                  <a:pt x="0" y="0"/>
                </a:moveTo>
                <a:lnTo>
                  <a:pt x="30635" y="0"/>
                </a:lnTo>
                <a:lnTo>
                  <a:pt x="29235" y="1400"/>
                </a:lnTo>
                <a:lnTo>
                  <a:pt x="1400" y="1400"/>
                </a:lnTo>
                <a:close/>
              </a:path>
              <a:path fill="darken" w="30635" h="21600">
                <a:moveTo>
                  <a:pt x="30635" y="0"/>
                </a:moveTo>
                <a:lnTo>
                  <a:pt x="30635" y="21600"/>
                </a:lnTo>
                <a:lnTo>
                  <a:pt x="29235" y="20200"/>
                </a:lnTo>
                <a:lnTo>
                  <a:pt x="29235" y="1400"/>
                </a:lnTo>
                <a:close/>
              </a:path>
              <a:path fill="darkenLess" w="30635" h="21600">
                <a:moveTo>
                  <a:pt x="30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5" y="20200"/>
                </a:lnTo>
                <a:close/>
              </a:path>
              <a:path fill="lighten" w="30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5" h="21600">
                <a:moveTo>
                  <a:pt x="8311" y="10800"/>
                </a:moveTo>
                <a:lnTo>
                  <a:pt x="22324" y="3794"/>
                </a:lnTo>
                <a:lnTo>
                  <a:pt x="2232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Авария на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хническая характеристика РБЖ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Чернобыльская АЭС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диационная авария - происходит при нарушении пределов безопасной эксплуатации АЭС и другого оборудования с выходом радионуклидов за предусмотренные границы в количествах, превышающих значения, установленные для нормальной эксплуатации.Число пострадавших в различной степени, может быть различным, в том числе, как показал опыт Чернобыльской АЭС, и очень больши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настоящему времени накоплен большой опыт эксплуатации АЭС в условиях ядерной и радиационной безопасности, веется также опыт ликвидации радиационных инцидентов и аварий и их последствий. К 1987 г. в мире было зарегистрировано 284 серьёзных аварии на АЭС, сопровождавшиеся выбросом радиоактивных веществ. Наиболее крупные из них были в Северной Англии (Уиндскейл, 1957 г.), в США (Три-Майл-Айленд, 1979 г.) и в СССР(Чернобыльская АЭС,1986 г.). Но, даже несмотря на казалось бы большое количество аварий, атомная энергетика во всем мире относится к отраслям деятельности человека с малой опасностью для жизни, хотя возрастание числа АЭС и участившиеся в последние годы аварийные ситуации делают эту проблему актуальн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9528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244000" y="6381720"/>
            <a:ext cx="649080" cy="287280"/>
          </a:xfrm>
          <a:custGeom>
            <a:avLst/>
            <a:gdLst>
              <a:gd name="textAreaLeft" fmla="*/ 18360 w 649080"/>
              <a:gd name="textAreaRight" fmla="*/ 630720 w 64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769" h="21600">
                <a:moveTo>
                  <a:pt x="0" y="0"/>
                </a:moveTo>
                <a:lnTo>
                  <a:pt x="48769" y="0"/>
                </a:lnTo>
                <a:lnTo>
                  <a:pt x="48769" y="21600"/>
                </a:lnTo>
                <a:lnTo>
                  <a:pt x="0" y="21600"/>
                </a:lnTo>
                <a:close/>
              </a:path>
              <a:path fill="lightenLess" w="48769" h="21600">
                <a:moveTo>
                  <a:pt x="0" y="0"/>
                </a:moveTo>
                <a:lnTo>
                  <a:pt x="48769" y="0"/>
                </a:lnTo>
                <a:lnTo>
                  <a:pt x="47369" y="1400"/>
                </a:lnTo>
                <a:lnTo>
                  <a:pt x="1400" y="1400"/>
                </a:lnTo>
                <a:close/>
              </a:path>
              <a:path fill="darken" w="48769" h="21600">
                <a:moveTo>
                  <a:pt x="48769" y="0"/>
                </a:moveTo>
                <a:lnTo>
                  <a:pt x="48769" y="21600"/>
                </a:lnTo>
                <a:lnTo>
                  <a:pt x="47369" y="20200"/>
                </a:lnTo>
                <a:lnTo>
                  <a:pt x="47369" y="1400"/>
                </a:lnTo>
                <a:close/>
              </a:path>
              <a:path fill="darkenLess" w="48769" h="21600">
                <a:moveTo>
                  <a:pt x="4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69" y="20200"/>
                </a:lnTo>
                <a:close/>
              </a:path>
              <a:path fill="lighten" w="4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69" h="21600">
                <a:moveTo>
                  <a:pt x="17378" y="3794"/>
                </a:moveTo>
                <a:lnTo>
                  <a:pt x="31391" y="10800"/>
                </a:lnTo>
                <a:lnTo>
                  <a:pt x="1737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уткие отголоски прошл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аэс3"/>
          <p:cNvPicPr/>
          <p:nvPr/>
        </p:nvPicPr>
        <p:blipFill>
          <a:blip r:embed="rId1"/>
          <a:stretch/>
        </p:blipFill>
        <p:spPr>
          <a:xfrm>
            <a:off x="611280" y="2205000"/>
            <a:ext cx="367344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аэс9"/>
          <p:cNvPicPr/>
          <p:nvPr/>
        </p:nvPicPr>
        <p:blipFill>
          <a:blip r:embed="rId2"/>
          <a:stretch/>
        </p:blipFill>
        <p:spPr>
          <a:xfrm>
            <a:off x="4356000" y="2205000"/>
            <a:ext cx="4032360" cy="324000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32400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7">
            <a:hlinkClick r:id="" action="ppaction://hlinkshowjump?jump=nextslide"/>
            <a:hlinkClick r:id="rId4"/>
          </p:cNvPr>
          <p:cNvSpPr/>
          <p:nvPr/>
        </p:nvSpPr>
        <p:spPr>
          <a:xfrm>
            <a:off x="8244000" y="638172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3794"/>
                </a:moveTo>
                <a:lnTo>
                  <a:pt x="31337" y="10800"/>
                </a:lnTo>
                <a:lnTo>
                  <a:pt x="1732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83" name="chernobil.wmv" descr=""/>
          <p:cNvPicPr/>
          <p:nvPr/>
        </p:nvPicPr>
        <p:blipFill>
          <a:blip r:embed="rId1"/>
          <a:stretch/>
        </p:blipFill>
        <p:spPr>
          <a:xfrm>
            <a:off x="1608120" y="1643040"/>
            <a:ext cx="5892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46644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аэс8"/>
          <p:cNvPicPr/>
          <p:nvPr/>
        </p:nvPicPr>
        <p:blipFill>
          <a:blip r:embed="rId1"/>
          <a:stretch/>
        </p:blipFill>
        <p:spPr>
          <a:xfrm>
            <a:off x="684360" y="1773360"/>
            <a:ext cx="6983280" cy="43196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395280" y="6308640"/>
            <a:ext cx="792000" cy="333360"/>
          </a:xfrm>
          <a:custGeom>
            <a:avLst/>
            <a:gdLst>
              <a:gd name="textAreaLeft" fmla="*/ 21600 w 792000"/>
              <a:gd name="textAreaRight" fmla="*/ 770400 w 79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1285" h="21600">
                <a:moveTo>
                  <a:pt x="0" y="0"/>
                </a:moveTo>
                <a:lnTo>
                  <a:pt x="51285" y="0"/>
                </a:lnTo>
                <a:lnTo>
                  <a:pt x="51285" y="21600"/>
                </a:lnTo>
                <a:lnTo>
                  <a:pt x="0" y="21600"/>
                </a:lnTo>
                <a:close/>
              </a:path>
              <a:path fill="lightenLess" w="51285" h="21600">
                <a:moveTo>
                  <a:pt x="0" y="0"/>
                </a:moveTo>
                <a:lnTo>
                  <a:pt x="51285" y="0"/>
                </a:lnTo>
                <a:lnTo>
                  <a:pt x="49885" y="1400"/>
                </a:lnTo>
                <a:lnTo>
                  <a:pt x="1400" y="1400"/>
                </a:lnTo>
                <a:close/>
              </a:path>
              <a:path fill="darken" w="51285" h="21600">
                <a:moveTo>
                  <a:pt x="51285" y="0"/>
                </a:moveTo>
                <a:lnTo>
                  <a:pt x="51285" y="21600"/>
                </a:lnTo>
                <a:lnTo>
                  <a:pt x="49885" y="20200"/>
                </a:lnTo>
                <a:lnTo>
                  <a:pt x="49885" y="1400"/>
                </a:lnTo>
                <a:close/>
              </a:path>
              <a:path fill="darkenLess" w="51285" h="21600">
                <a:moveTo>
                  <a:pt x="51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85" y="20200"/>
                </a:lnTo>
                <a:close/>
              </a:path>
              <a:path fill="lighten" w="51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85" h="21600">
                <a:moveTo>
                  <a:pt x="18636" y="10800"/>
                </a:moveTo>
                <a:lnTo>
                  <a:pt x="32649" y="3794"/>
                </a:lnTo>
                <a:lnTo>
                  <a:pt x="32649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6308640"/>
            <a:ext cx="790560" cy="360360"/>
          </a:xfrm>
          <a:custGeom>
            <a:avLst/>
            <a:gdLst>
              <a:gd name="textAreaLeft" fmla="*/ 23040 w 790560"/>
              <a:gd name="textAreaRight" fmla="*/ 767520 w 790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360" h="21600">
                <a:moveTo>
                  <a:pt x="0" y="0"/>
                </a:moveTo>
                <a:lnTo>
                  <a:pt x="47360" y="0"/>
                </a:lnTo>
                <a:lnTo>
                  <a:pt x="47360" y="21600"/>
                </a:lnTo>
                <a:lnTo>
                  <a:pt x="0" y="21600"/>
                </a:lnTo>
                <a:close/>
              </a:path>
              <a:path fill="lightenLess" w="47360" h="21600">
                <a:moveTo>
                  <a:pt x="0" y="0"/>
                </a:moveTo>
                <a:lnTo>
                  <a:pt x="47360" y="0"/>
                </a:lnTo>
                <a:lnTo>
                  <a:pt x="45960" y="1400"/>
                </a:lnTo>
                <a:lnTo>
                  <a:pt x="1400" y="1400"/>
                </a:lnTo>
                <a:close/>
              </a:path>
              <a:path fill="darken" w="47360" h="21600">
                <a:moveTo>
                  <a:pt x="47360" y="0"/>
                </a:moveTo>
                <a:lnTo>
                  <a:pt x="47360" y="21600"/>
                </a:lnTo>
                <a:lnTo>
                  <a:pt x="45960" y="20200"/>
                </a:lnTo>
                <a:lnTo>
                  <a:pt x="45960" y="1400"/>
                </a:lnTo>
                <a:close/>
              </a:path>
              <a:path fill="darkenLess" w="47360" h="21600">
                <a:moveTo>
                  <a:pt x="4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60" y="20200"/>
                </a:lnTo>
                <a:close/>
              </a:path>
              <a:path fill="lighten" w="4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60" h="21600">
                <a:moveTo>
                  <a:pt x="16674" y="3794"/>
                </a:moveTo>
                <a:lnTo>
                  <a:pt x="30687" y="10800"/>
                </a:lnTo>
                <a:lnTo>
                  <a:pt x="1667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4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аэс10"/>
          <p:cNvPicPr/>
          <p:nvPr/>
        </p:nvPicPr>
        <p:blipFill>
          <a:blip r:embed="rId1"/>
          <a:stretch/>
        </p:blipFill>
        <p:spPr>
          <a:xfrm>
            <a:off x="684360" y="1989000"/>
            <a:ext cx="6192720" cy="41040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7">
            <a:hlinkClick r:id="" action="ppaction://hlinkshowjump?jump=nextslide"/>
            <a:hlinkClick r:id="rId3"/>
          </p:cNvPr>
          <p:cNvSpPr/>
          <p:nvPr/>
        </p:nvSpPr>
        <p:spPr>
          <a:xfrm>
            <a:off x="8172360" y="6237360"/>
            <a:ext cx="792360" cy="422280"/>
          </a:xfrm>
          <a:custGeom>
            <a:avLst/>
            <a:gdLst>
              <a:gd name="textAreaLeft" fmla="*/ 27360 w 792360"/>
              <a:gd name="textAreaRight" fmla="*/ 765000 w 7923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40514" h="21600">
                <a:moveTo>
                  <a:pt x="0" y="0"/>
                </a:moveTo>
                <a:lnTo>
                  <a:pt x="40514" y="0"/>
                </a:lnTo>
                <a:lnTo>
                  <a:pt x="40514" y="21600"/>
                </a:lnTo>
                <a:lnTo>
                  <a:pt x="0" y="21600"/>
                </a:lnTo>
                <a:close/>
              </a:path>
              <a:path fill="lightenLess" w="40514" h="21600">
                <a:moveTo>
                  <a:pt x="0" y="0"/>
                </a:moveTo>
                <a:lnTo>
                  <a:pt x="40514" y="0"/>
                </a:lnTo>
                <a:lnTo>
                  <a:pt x="39114" y="1400"/>
                </a:lnTo>
                <a:lnTo>
                  <a:pt x="1400" y="1400"/>
                </a:lnTo>
                <a:close/>
              </a:path>
              <a:path fill="darken" w="40514" h="21600">
                <a:moveTo>
                  <a:pt x="40514" y="0"/>
                </a:moveTo>
                <a:lnTo>
                  <a:pt x="40514" y="21600"/>
                </a:lnTo>
                <a:lnTo>
                  <a:pt x="39114" y="20200"/>
                </a:lnTo>
                <a:lnTo>
                  <a:pt x="39114" y="1400"/>
                </a:lnTo>
                <a:close/>
              </a:path>
              <a:path fill="darkenLess" w="40514" h="21600">
                <a:moveTo>
                  <a:pt x="40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14" y="20200"/>
                </a:lnTo>
                <a:close/>
              </a:path>
              <a:path fill="lighten" w="40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14" h="21600">
                <a:moveTo>
                  <a:pt x="13250" y="3794"/>
                </a:moveTo>
                <a:lnTo>
                  <a:pt x="27263" y="10800"/>
                </a:lnTo>
                <a:lnTo>
                  <a:pt x="13250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аэс5"/>
          <p:cNvPicPr/>
          <p:nvPr/>
        </p:nvPicPr>
        <p:blipFill>
          <a:blip r:embed="rId1"/>
          <a:stretch/>
        </p:blipFill>
        <p:spPr>
          <a:xfrm>
            <a:off x="539640" y="1773360"/>
            <a:ext cx="6769080" cy="431964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8317080" y="6237360"/>
            <a:ext cx="647640" cy="377640"/>
          </a:xfrm>
          <a:custGeom>
            <a:avLst/>
            <a:gdLst>
              <a:gd name="textAreaLeft" fmla="*/ 24480 w 647640"/>
              <a:gd name="textAreaRight" fmla="*/ 623160 w 647640"/>
              <a:gd name="textAreaTop" fmla="*/ 24480 h 377640"/>
              <a:gd name="textAreaBottom" fmla="*/ 353160 h 377640"/>
            </a:gdLst>
            <a:ahLst/>
            <a:rect l="textAreaLeft" t="textAreaTop" r="textAreaRight" b="textAreaBottom"/>
            <a:pathLst>
              <a:path w="37029" h="21600">
                <a:moveTo>
                  <a:pt x="0" y="0"/>
                </a:moveTo>
                <a:lnTo>
                  <a:pt x="37029" y="0"/>
                </a:lnTo>
                <a:lnTo>
                  <a:pt x="37029" y="21600"/>
                </a:lnTo>
                <a:lnTo>
                  <a:pt x="0" y="21600"/>
                </a:lnTo>
                <a:close/>
              </a:path>
              <a:path fill="lightenLess" w="37029" h="21600">
                <a:moveTo>
                  <a:pt x="0" y="0"/>
                </a:moveTo>
                <a:lnTo>
                  <a:pt x="37029" y="0"/>
                </a:lnTo>
                <a:lnTo>
                  <a:pt x="35629" y="1400"/>
                </a:lnTo>
                <a:lnTo>
                  <a:pt x="1400" y="1400"/>
                </a:lnTo>
                <a:close/>
              </a:path>
              <a:path fill="darken" w="37029" h="21600">
                <a:moveTo>
                  <a:pt x="37029" y="0"/>
                </a:moveTo>
                <a:lnTo>
                  <a:pt x="37029" y="21600"/>
                </a:lnTo>
                <a:lnTo>
                  <a:pt x="35629" y="20200"/>
                </a:lnTo>
                <a:lnTo>
                  <a:pt x="35629" y="1400"/>
                </a:lnTo>
                <a:close/>
              </a:path>
              <a:path fill="darkenLess" w="37029" h="21600">
                <a:moveTo>
                  <a:pt x="37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9" y="20200"/>
                </a:lnTo>
                <a:close/>
              </a:path>
              <a:path fill="lighten" w="37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29" h="21600">
                <a:moveTo>
                  <a:pt x="11508" y="3794"/>
                </a:moveTo>
                <a:lnTo>
                  <a:pt x="25521" y="10800"/>
                </a:lnTo>
                <a:lnTo>
                  <a:pt x="1150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7:02:26Z</dcterms:created>
  <dc:creator>SWEET</dc:creator>
  <dc:description/>
  <dc:language>en-US</dc:language>
  <cp:lastModifiedBy>FS</cp:lastModifiedBy>
  <dcterms:modified xsi:type="dcterms:W3CDTF">2009-01-26T08:20:40Z</dcterms:modified>
  <cp:revision>7</cp:revision>
  <dc:subject/>
  <dc:title>Аварии на АЭС</dc:title>
</cp:coreProperties>
</file>