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876-D54F-4914-871E-EB0A0216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909-9538-45AC-8548-D26DE51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FC6-DA08-4635-951E-3F77A0AD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390-075F-4F83-8E2F-2DA91929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876-947B-4474-ADD7-D8E01B7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2A2-C8F4-4403-A074-F8BD80D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4A9-006D-48A8-B995-4C5CEBA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55F-15DB-430E-86D8-FE598A8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B04-CBA0-4A7F-BD46-641388A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98A-BE13-4F49-B5C5-18C57BA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FEA-E272-400F-AC82-38223B9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30F-514B-48F5-9F1A-B0FED49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B4A-6B7B-4116-A632-0C652DB5B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116000" y="189000"/>
            <a:ext cx="71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Балаковская Атомная Электрост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Picture 9" descr="Файл:BalakovoNPP3.jpg"/>
          <p:cNvPicPr/>
          <p:nvPr/>
        </p:nvPicPr>
        <p:blipFill>
          <a:blip r:embed="rId1"/>
          <a:stretch/>
        </p:blipFill>
        <p:spPr>
          <a:xfrm>
            <a:off x="826920" y="119700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5871960" y="630864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ружена: в 1985-199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ако́вская АЭ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 атомная электрическая станция, расположенная в 8 км от города Балаково Саратовской области, на левом берегу Саратовского водохранилища. Является крупнейшей АЭС в России по выработке электроэнергии — более 30 млрд кВт·ч ежегодно, что обеспечивает четверть производства электроэнергии в Приволжском федеральном округе и составляет пятую часть выработки всех АЭС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Балаковская атомная станция"/>
          <p:cNvPicPr/>
          <p:nvPr/>
        </p:nvPicPr>
        <p:blipFill>
          <a:blip r:embed="rId1"/>
          <a:stretch/>
        </p:blipFill>
        <p:spPr>
          <a:xfrm>
            <a:off x="684360" y="0"/>
            <a:ext cx="4174920" cy="277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big3757"/>
          <p:cNvPicPr/>
          <p:nvPr/>
        </p:nvPicPr>
        <p:blipFill>
          <a:blip r:embed="rId2"/>
          <a:stretch/>
        </p:blipFill>
        <p:spPr>
          <a:xfrm>
            <a:off x="0" y="2997360"/>
            <a:ext cx="5435640" cy="35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Файл:BalakovoNPP2.tif"/>
          <p:cNvPicPr/>
          <p:nvPr/>
        </p:nvPicPr>
        <p:blipFill>
          <a:blip r:embed="rId1"/>
          <a:stretch/>
        </p:blipFill>
        <p:spPr>
          <a:xfrm>
            <a:off x="25092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43280" y="6465600"/>
            <a:ext cx="72007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ция и водохранилище-охла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05"/>
          <p:cNvPicPr/>
          <p:nvPr/>
        </p:nvPicPr>
        <p:blipFill>
          <a:blip r:embed="rId2"/>
          <a:stretch/>
        </p:blipFill>
        <p:spPr>
          <a:xfrm>
            <a:off x="1727280" y="-243000"/>
            <a:ext cx="741672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429000"/>
            <a:ext cx="52671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 на энергоблоки со стороны блочных насосных ста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ig3752"/>
          <p:cNvPicPr/>
          <p:nvPr/>
        </p:nvPicPr>
        <p:blipFill>
          <a:blip r:embed="rId1"/>
          <a:stretch/>
        </p:blipFill>
        <p:spPr>
          <a:xfrm>
            <a:off x="179280" y="4608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250920" y="3573360"/>
            <a:ext cx="8893080" cy="302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ая АЭС обеспечивает четверть производства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волжском федеральном округе и пятую часть выработки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ых станций страны. Ее электроэнергией надежно обеспеч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ители Поволжья (76% поставляемой ею электроэнергии), Центра (13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а (8%) и Сибири (3%). Электроэнергия Балаковской АЭС - са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шевая среди всех АЭС и тепловых электростанци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использования установленной мощности (КИУМ)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ой АЭС составляет более 80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6028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нтр обработки отходов Балаковской АЭС - уникальный объект российской атомной энерге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ig3755"/>
          <p:cNvPicPr/>
          <p:nvPr/>
        </p:nvPicPr>
        <p:blipFill>
          <a:blip r:embed="rId1"/>
          <a:stretch/>
        </p:blipFill>
        <p:spPr>
          <a:xfrm>
            <a:off x="0" y="189000"/>
            <a:ext cx="5299200" cy="33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ig3753"/>
          <p:cNvPicPr/>
          <p:nvPr/>
        </p:nvPicPr>
        <p:blipFill>
          <a:blip r:embed="rId2"/>
          <a:stretch/>
        </p:blipFill>
        <p:spPr>
          <a:xfrm>
            <a:off x="4427640" y="3500280"/>
            <a:ext cx="4508280" cy="332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5435640" y="1916280"/>
            <a:ext cx="33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министративно-бытовой корпус №1 Балаковской 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7812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25092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835280" y="4005360"/>
            <a:ext cx="691992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ую часть своей истории Балаковская АЭС сотрудничает со множеством зарубежных партнёров, международная деятельность осуществляется в рамках международных программ ядерной безопасности и программ международного научно-технического сотрудничества, в которые входят международный обмен опытом, участие в конференциях и семинарах по приобретению положительного опыта в вопросах повышения надёжности, безопасности и эффективности работы станции, обучение персонала и другие сфер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Файл:BalakovoNPP head2.jpg"/>
          <p:cNvPicPr/>
          <p:nvPr/>
        </p:nvPicPr>
        <p:blipFill>
          <a:blip r:embed="rId1"/>
          <a:stretch/>
        </p:blipFill>
        <p:spPr>
          <a:xfrm>
            <a:off x="0" y="0"/>
            <a:ext cx="6769080" cy="3895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0"/>
          <p:cNvSpPr txBox="1"/>
          <p:nvPr/>
        </p:nvSpPr>
        <p:spPr>
          <a:xfrm>
            <a:off x="3132000" y="189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еждународное сотрудни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2852280"/>
            <a:ext cx="594036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беди на водоеме-охладителе Балаковской АЭ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ig3754"/>
          <p:cNvPicPr/>
          <p:nvPr/>
        </p:nvPicPr>
        <p:blipFill>
          <a:blip r:embed="rId1"/>
          <a:stretch/>
        </p:blipFill>
        <p:spPr>
          <a:xfrm>
            <a:off x="2195640" y="0"/>
            <a:ext cx="472428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big3758"/>
          <p:cNvPicPr/>
          <p:nvPr/>
        </p:nvPicPr>
        <p:blipFill>
          <a:blip r:embed="rId2"/>
          <a:stretch/>
        </p:blipFill>
        <p:spPr>
          <a:xfrm>
            <a:off x="441972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4211640" y="35002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бно-тренировочный центр Б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big3751"/>
          <p:cNvPicPr/>
          <p:nvPr/>
        </p:nvPicPr>
        <p:blipFill>
          <a:blip r:embed="rId3"/>
          <a:stretch/>
        </p:blipFill>
        <p:spPr>
          <a:xfrm>
            <a:off x="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398880" y="36450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льные бассе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332000" y="285228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8748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35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ковская АЭС является признанным лидером атомной энергетики России, она неоднократно удостаивалась звания «Лучшая АЭС России» (по итогам работы в 1995, 1999, 2000, 2003, 2005 и 2006 гг.). В 2003г. Балаковская АЭС стала победителем конкурса «Предприятие высокой культуры производства и организации труда». Станция также является победителем II (2001 г.), IV (2004 г.), V (2005 г.) и VI (2006 г.) Всероссийских конкурсов «Российская организация высокой социальной эффективности». С 2002г. Балаковская атомная станция имеет статус филиала концерна «Росэнергоатом» Федерального агентства (до марта 2004 г. – Министерства РФ) по атомной энер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1835280" y="26028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ризнанный  лид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73" name="Picture 7" descr="Файл:BalakovoNPP1.jpg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аковская АЭС – крупнейший в России производитель электроэнерг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Файл:Balakovo NPP night.jpg"/>
          <p:cNvPicPr/>
          <p:nvPr/>
        </p:nvPicPr>
        <p:blipFill>
          <a:blip r:embed="rId1"/>
          <a:stretch/>
        </p:blipFill>
        <p:spPr>
          <a:xfrm>
            <a:off x="971640" y="1413000"/>
            <a:ext cx="76197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18:58Z</dcterms:created>
  <dc:creator>Фарида</dc:creator>
  <dc:description/>
  <dc:language>en-US</dc:language>
  <cp:lastModifiedBy>user</cp:lastModifiedBy>
  <dcterms:modified xsi:type="dcterms:W3CDTF">2012-02-03T08:29:59Z</dcterms:modified>
  <cp:revision>3</cp:revision>
  <dc:subject/>
  <dc:title>Слайд 1</dc:title>
</cp:coreProperties>
</file>