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4C2-4D8A-4F7A-BF77-5DEBCB9A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7D2-23B6-4F1F-9F6B-12441DB5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855-08E9-488C-8219-F0EDB442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FC0-EC39-420A-9844-E60ADED3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875B-BBD7-4BC9-8903-C250C698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58DD-228F-43B3-9208-DAA0EFB8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B213-52E1-4F16-A03E-BD2877B6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4CB7-25D0-4B0E-BFE0-A78DD191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EA33-BA8E-42E2-988B-DA95642F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EBF4-06A7-4370-A8D0-4CAFA29B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C9CE-6872-40A4-BE28-553653F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9BA-142F-435D-B87B-9EDD6BC8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B708-C5FE-4B03-9003-15D259CC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0513-B1EF-4D1E-9462-C72F680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8847-EBB4-49E9-8323-5384191D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E7AB-E5E5-447E-BEC2-B2FF9911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B035-B261-4FAB-9127-A18A282A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1EF-5B79-40E8-905B-28D4F70F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563-7501-427C-851E-65B81480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052-268F-474F-BAA2-DEA91F43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0B7-E4AA-4805-9F58-D6ED6807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9CE-CB3C-4FA9-ACE3-D1A56BF7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62B-D742-4092-89C7-D8EE637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915-2CBD-4460-BDC0-EAE1628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0184-95F9-4275-AADA-38040AB2E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4E46-B47B-4624-BF89-B281127531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Первая помощь при укусах </a:t>
            </a: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животных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Укусы членистоно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до срочно удалить жало и приложить холодный компр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64791"/>
          <p:cNvPicPr/>
          <p:nvPr/>
        </p:nvPicPr>
        <p:blipFill>
          <a:blip r:embed="rId1"/>
          <a:stretch/>
        </p:blipFill>
        <p:spPr>
          <a:xfrm>
            <a:off x="5691240" y="2019240"/>
            <a:ext cx="2381040" cy="1790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31" name="Picture 8" descr="artlib_gallery-9638-b"/>
          <p:cNvPicPr/>
          <p:nvPr/>
        </p:nvPicPr>
        <p:blipFill>
          <a:blip r:embed="rId2"/>
          <a:stretch/>
        </p:blipFill>
        <p:spPr>
          <a:xfrm>
            <a:off x="5803920" y="4241880"/>
            <a:ext cx="2154240" cy="1689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к укусам повышенная чувствительность. Необходимо при себе иметь лекарственные препараты и соблюдать меры предосторо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4497_D99bQhdGm9"/>
          <p:cNvPicPr/>
          <p:nvPr/>
        </p:nvPicPr>
        <p:blipFill>
          <a:blip r:embed="rId1"/>
          <a:stretch/>
        </p:blipFill>
        <p:spPr>
          <a:xfrm>
            <a:off x="4917960" y="2527200"/>
            <a:ext cx="3927600" cy="294480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развитии тяжелой аллергической реакции необходимо срочно доставить больного в медицинское учреждение при это следует прикладывать холодный компресс к месту укуса, давать обильное пит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shmeli"/>
          <p:cNvPicPr/>
          <p:nvPr/>
        </p:nvPicPr>
        <p:blipFill>
          <a:blip r:embed="rId1"/>
          <a:stretch/>
        </p:blipFill>
        <p:spPr>
          <a:xfrm>
            <a:off x="3203640" y="4076640"/>
            <a:ext cx="3255840" cy="244152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54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Укусы скорпи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ddp_gad_skorpio_s"/>
          <p:cNvPicPr/>
          <p:nvPr/>
        </p:nvPicPr>
        <p:blipFill>
          <a:blip r:embed="rId1"/>
          <a:stretch/>
        </p:blipFill>
        <p:spPr>
          <a:xfrm>
            <a:off x="2268360" y="2565360"/>
            <a:ext cx="5183280" cy="404172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82956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ракур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203t"/>
          <p:cNvPicPr/>
          <p:nvPr/>
        </p:nvPicPr>
        <p:blipFill>
          <a:blip r:embed="rId1"/>
          <a:stretch/>
        </p:blipFill>
        <p:spPr>
          <a:xfrm>
            <a:off x="7236000" y="1916280"/>
            <a:ext cx="1428480" cy="142848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  <p:pic>
        <p:nvPicPr>
          <p:cNvPr id="144" name="Picture 6" descr="bwidow"/>
          <p:cNvPicPr/>
          <p:nvPr/>
        </p:nvPicPr>
        <p:blipFill>
          <a:blip r:embed="rId2"/>
          <a:stretch/>
        </p:blipFill>
        <p:spPr>
          <a:xfrm>
            <a:off x="755640" y="2708280"/>
            <a:ext cx="5041800" cy="378144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  <p:sp>
        <p:nvSpPr>
          <p:cNvPr id="145" name="Text Box 9"/>
          <p:cNvSpPr/>
          <p:nvPr/>
        </p:nvSpPr>
        <p:spPr>
          <a:xfrm>
            <a:off x="5940360" y="3645000"/>
            <a:ext cx="2772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одимо согреть конечности и тело грелками, много 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Monotype Corsiva"/>
              </a:rPr>
              <a:t>Любя животных, нельзя забывать, что они могут стать источником серьезной опасности для жизн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амостоятельная рабо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в: если ты собираешься в многодневный лыжный поход, составь вариант аптечки, который возьмешь с соб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в: Какую первую помощь необходимо оказать, если в походе один из участников поломал ру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ус домашней собаки, кошки, крысы или мыши может оказаться роко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9974"/>
          <p:cNvPicPr/>
          <p:nvPr/>
        </p:nvPicPr>
        <p:blipFill>
          <a:blip r:embed="rId1"/>
          <a:stretch/>
        </p:blipFill>
        <p:spPr>
          <a:xfrm>
            <a:off x="7620120" y="3357720"/>
            <a:ext cx="1523880" cy="101124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  <p:pic>
        <p:nvPicPr>
          <p:cNvPr id="104" name="Picture 6" descr="835561_20060306131732"/>
          <p:cNvPicPr/>
          <p:nvPr/>
        </p:nvPicPr>
        <p:blipFill>
          <a:blip r:embed="rId2"/>
          <a:stretch/>
        </p:blipFill>
        <p:spPr>
          <a:xfrm>
            <a:off x="5867280" y="4508640"/>
            <a:ext cx="1505160" cy="112392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  <p:pic>
        <p:nvPicPr>
          <p:cNvPr id="105" name="Picture 8" descr="brown_rat"/>
          <p:cNvPicPr/>
          <p:nvPr/>
        </p:nvPicPr>
        <p:blipFill>
          <a:blip r:embed="rId3"/>
          <a:stretch/>
        </p:blipFill>
        <p:spPr>
          <a:xfrm>
            <a:off x="7596360" y="5445000"/>
            <a:ext cx="1368360" cy="108900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  <p:pic>
        <p:nvPicPr>
          <p:cNvPr id="106" name="Picture 9" descr="PA020260"/>
          <p:cNvPicPr/>
          <p:nvPr/>
        </p:nvPicPr>
        <p:blipFill>
          <a:blip r:embed="rId4"/>
          <a:stretch/>
        </p:blipFill>
        <p:spPr>
          <a:xfrm>
            <a:off x="6156360" y="1700280"/>
            <a:ext cx="1338120" cy="178920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  <p:pic>
        <p:nvPicPr>
          <p:cNvPr id="107" name="Picture 11" descr="dog151"/>
          <p:cNvPicPr/>
          <p:nvPr/>
        </p:nvPicPr>
        <p:blipFill>
          <a:blip r:embed="rId5"/>
          <a:stretch/>
        </p:blipFill>
        <p:spPr>
          <a:xfrm>
            <a:off x="468360" y="4724280"/>
            <a:ext cx="2225520" cy="167004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  <p:pic>
        <p:nvPicPr>
          <p:cNvPr id="108" name="Picture 13" descr="храбрый котенок"/>
          <p:cNvPicPr/>
          <p:nvPr/>
        </p:nvPicPr>
        <p:blipFill>
          <a:blip r:embed="rId6"/>
          <a:stretch/>
        </p:blipFill>
        <p:spPr>
          <a:xfrm>
            <a:off x="3276720" y="3716280"/>
            <a:ext cx="2305080" cy="172872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529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Животные, как правило, не нападают на человека без причины. Это происходит тогда, когда они больны или их спровоцировали. Острые зубы животных наносят резанные раны, и микробы находящиеся во рту со слюной проникают глубоко в ткани человеческ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%cb%e8%f1%e0"/>
          <p:cNvPicPr/>
          <p:nvPr/>
        </p:nvPicPr>
        <p:blipFill>
          <a:blip r:embed="rId1"/>
          <a:stretch/>
        </p:blipFill>
        <p:spPr>
          <a:xfrm>
            <a:off x="5292720" y="2690640"/>
            <a:ext cx="3552840" cy="23688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4720" y="1915920"/>
            <a:ext cx="48592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сле промывания раны водой с мылом, обработки йодовым раствором, остановки кровотечения, наложения стерильной повязки, необходимо срочно принять меры по доставке пострадавшего в ближайший медпункт и провести курс привив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leo007"/>
          <p:cNvPicPr/>
          <p:nvPr/>
        </p:nvPicPr>
        <p:blipFill>
          <a:blip r:embed="rId1"/>
          <a:stretch/>
        </p:blipFill>
        <p:spPr>
          <a:xfrm>
            <a:off x="250920" y="1844640"/>
            <a:ext cx="39272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помощью пинцета и увеличительного стекла нужно удалить клеща, обязательно с головкой, предварительно капнув на место укуса растительный или вазелиновым маслом. Ранку затем обработать раствором й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IMG_2548"/>
          <p:cNvPicPr/>
          <p:nvPr/>
        </p:nvPicPr>
        <p:blipFill>
          <a:blip r:embed="rId1"/>
          <a:stretch/>
        </p:blipFill>
        <p:spPr>
          <a:xfrm>
            <a:off x="6012000" y="4508640"/>
            <a:ext cx="2692440" cy="201924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  <p:pic>
        <p:nvPicPr>
          <p:cNvPr id="118" name="Picture 8" descr="IMG_5017"/>
          <p:cNvPicPr/>
          <p:nvPr/>
        </p:nvPicPr>
        <p:blipFill>
          <a:blip r:embed="rId2"/>
          <a:stretch/>
        </p:blipFill>
        <p:spPr>
          <a:xfrm>
            <a:off x="4932360" y="2060640"/>
            <a:ext cx="1514520" cy="201924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52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Укусы зм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укусе на коже остаются одна или две точки, появляется сильная боль. Покраснение и видимый отек, чувство онем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07461"/>
          <p:cNvPicPr/>
          <p:nvPr/>
        </p:nvPicPr>
        <p:blipFill>
          <a:blip r:embed="rId1"/>
          <a:stretch/>
        </p:blipFill>
        <p:spPr>
          <a:xfrm>
            <a:off x="5484960" y="3016080"/>
            <a:ext cx="2793960" cy="196884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1064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которые специалисты предлагают вылавливать кровь с ядом из ранки, сделав на ней крестообразный разре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771113_20050712142141"/>
          <p:cNvPicPr/>
          <p:nvPr/>
        </p:nvPicPr>
        <p:blipFill>
          <a:blip r:embed="rId1"/>
          <a:stretch/>
        </p:blipFill>
        <p:spPr>
          <a:xfrm>
            <a:off x="2484360" y="3398760"/>
            <a:ext cx="4070520" cy="303840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помощь при укусах живот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адавшему необходимо обеспечить покой, давать обильное  питье. Очень важно как можно быстрей, в течение не  более 1-1,5 часов, доставить его в лечебное заведение. Не рекомендуется прижигать место укуса, давать алког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zmei_"/>
          <p:cNvPicPr/>
          <p:nvPr/>
        </p:nvPicPr>
        <p:blipFill>
          <a:blip r:embed="rId1"/>
          <a:stretch/>
        </p:blipFill>
        <p:spPr>
          <a:xfrm>
            <a:off x="5135400" y="2692440"/>
            <a:ext cx="3492720" cy="2616120"/>
          </a:xfrm>
          <a:prstGeom prst="rect">
            <a:avLst/>
          </a:prstGeom>
          <a:ln w="76320">
            <a:solidFill>
              <a:srgbClr val="ffff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09:15:53Z</dcterms:created>
  <dc:creator>Анна</dc:creator>
  <dc:description/>
  <dc:language>en-US</dc:language>
  <cp:lastModifiedBy>FS</cp:lastModifiedBy>
  <dcterms:modified xsi:type="dcterms:W3CDTF">2009-01-20T07:00:22Z</dcterms:modified>
  <cp:revision>16</cp:revision>
  <dc:subject/>
  <dc:title>Первая помощь при укусах животных.</dc:title>
</cp:coreProperties>
</file>