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480-BCC6-4A33-973E-1FF40AF1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478-7C0F-458D-942D-C6B35F5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C70-727B-49E9-A180-5808051E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559-9C9B-4357-A8DA-CFB010A9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A8FF-A1EE-4345-8B5B-CF356445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14F-F84A-4620-B577-3ACD7DF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E8F2-1E91-4EE8-A489-1B3445F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DFA1-4A1B-4B64-88F3-F9A5AA0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B8B8-A9DB-4A4B-B2EB-7C7DFBBF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64A-9C7C-42B2-B28D-54F9E34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6875-FEC4-4338-A7D2-2CF46A93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328-C063-48FC-8919-10077A8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B4F7-8739-4DB9-B9AD-86D546F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E46-CE30-43F0-B882-D94BBBF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E9AE-3952-4A39-A87F-4422744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447-1B20-444B-8CD6-6846E3E7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9B4B-E31B-4641-98D3-2A77E09B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5C7D-D276-462A-B63C-2544E1FD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6EE6-0D93-4088-9D2B-E59B50E4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924F-DDEF-4AF5-98CB-3FD1CCA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CDF4-7B06-4351-897D-BDC26A5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5FF2-1A2B-4FF5-92A6-427A1AA6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800-472B-4746-9DAC-714036B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2F9A-8196-4A8A-9CE0-392DBF6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FB79-659A-4490-8936-0CE2091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8F32-8CCE-4CA4-BB05-AB27584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9977-F4D1-4297-8F1B-A66B3F5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9095-BC52-476F-BAD4-065D255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80B6-F728-499E-979B-99E18177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B291-90C5-4118-BC70-9E8D1A79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8F6D-1EA8-4A41-850E-8B3CD55A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29BD-4982-483A-9A0C-0FAB401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556C-DE66-4F3F-885D-319246F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C79-FED0-43D2-85A6-42F8783A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AF99-E555-4C7D-A312-2B74D68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2B27-5AF0-4E7C-A6EE-A29FB617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3847-1CA2-414B-82E7-9FB8BBB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CE69-B74D-4A2C-994F-22BEFE34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EB3A-FF66-45C0-BD77-26A2C82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7B46-F6AC-4B8C-90C5-ACC3847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5776-4669-41E8-8BFB-69DE3CB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761F-801A-4453-8D16-801E46F5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CC64-3508-4F50-87B3-2B61D0A6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BD179-D680-4774-8A54-FB749F4C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7A2-4E74-42EF-9BCC-4F74EA37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E65A0-6256-41BF-BE60-6D4AF57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76CCE-6386-4B96-BF2C-D57BF6A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3C25F-F997-42DD-97F5-61EC236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99FC7-07A3-40F4-9AC8-8B8C2DD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B35FF-FFC6-4B63-A6F2-3E439948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7377E-029D-4769-8B1D-C717DD4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E3F5A-035E-4040-AFF9-41A4B13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04CCF-DAAB-41A1-9542-0D62B6D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15694-E40F-4D71-84AE-C9834D36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0AB20-F836-418F-879E-2CDFFAEB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5BA-E8F2-4A60-941F-A8AC15F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F0B01-0C17-4B64-994A-C8D19CF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FC8-609D-44A7-BE77-FE270DF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E3C-4AF8-4C49-9F83-5F542D4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B7A-8D21-4F7D-9F1C-1A817CB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69FE12-86F3-42B6-8062-ECA0CBA436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7A7B3-63B5-400C-81A9-02E63C0497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8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F1D649-8C1D-461F-A0BE-F5C069B677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38761D-5787-4BB9-A6B8-77DE2785E1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75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304185-2EAB-4F45-B0AA-F5756A6012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7c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49399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лнце</a:t>
            </a:r>
            <a:br>
              <a:rPr sz="4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олнце-это огромный, пылающий 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Солнце-это ближайшая к Земле …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но создаёт нам (время суток) …………….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По размерам Солнце………….., чем Земля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Нам Солнце кажется маленьким кружочко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тому что находиться ……….от Земли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0000">
              <a:srgbClr val="cc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755280" y="142920"/>
            <a:ext cx="7301160" cy="516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есколько советов, улетающим на Лу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-111600" y="785880"/>
            <a:ext cx="9547920" cy="4753080"/>
          </a:xfrm>
          <a:prstGeom prst="rect">
            <a:avLst/>
          </a:prstGeom>
          <a:gradFill rotWithShape="0">
            <a:gsLst>
              <a:gs pos="40000">
                <a:srgbClr val="ffff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ебе захотелось попрыгать, учти, что подпрыгнешь 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вы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на Земле ,и падать будешь гораздо медленнее. Сила тяжести на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. Будешь прогуливаться – смотри под ноги. Вся поверхность усе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камнями, которые падаю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е забудь взять часы с календарём. На Луне один наш день дл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аших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Зонтик тебе не пригодиться: дождей на Луне не бывает. Там вооб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нет воды, нет облаков, туманов и радуги. Дожди только метеоритны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ка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 Не забудь, что разговаривать сможешь только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Радиопередатчиков. Звуков на Луне нет. Это из-за того, что нет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умай, как ты будешь дышать? Ведь на Луне нет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7.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думай, как тебе одеться, так как днём  поверхность Луны нагре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13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, а ночью охлаждается до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-17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:\Чувилина Валентина Анатольевна\луна\crop0004.jpg"/>
          <p:cNvPicPr/>
          <p:nvPr/>
        </p:nvPicPr>
        <p:blipFill>
          <a:blip r:embed="rId1"/>
          <a:stretch/>
        </p:blipFill>
        <p:spPr>
          <a:xfrm>
            <a:off x="428760" y="5143680"/>
            <a:ext cx="7643520" cy="17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967320" y="714240"/>
            <a:ext cx="7497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Луна-это спутник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Сравни размеры Земли и Лу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R:\Чувилина Валентина Анатольевна\рисунки\Земля илуна.jpg"/>
          <p:cNvPicPr/>
          <p:nvPr/>
        </p:nvPicPr>
        <p:blipFill>
          <a:blip r:embed="rId1"/>
          <a:stretch/>
        </p:blipFill>
        <p:spPr>
          <a:xfrm>
            <a:off x="2143080" y="2000160"/>
            <a:ext cx="4285800" cy="33573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956880" y="5429160"/>
            <a:ext cx="762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Луна движется вокруг Земл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обходит её кругом один раз в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072280" cy="9284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66"/>
                </a:solidFill>
                <a:latin typeface="Arial"/>
              </a:rPr>
              <a:t>Приглашаем вас совершить необычное     путешествие на Луну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3" name="Picture 2" descr="R:\Чувилина Валентина Анатольевна\рисунки\lun-01.jpg"/>
          <p:cNvPicPr/>
          <p:nvPr/>
        </p:nvPicPr>
        <p:blipFill>
          <a:blip r:embed="rId1"/>
          <a:stretch/>
        </p:blipFill>
        <p:spPr>
          <a:xfrm>
            <a:off x="928800" y="1428840"/>
            <a:ext cx="6500520" cy="4357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744480" y="6215040"/>
            <a:ext cx="682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Вас ждёт Луна и молодой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59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вёзды: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ы- это огромные пылающие ……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ни кажутся нам маленькими точкам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ому что находятся очень …………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ы отличаются друг от друг по …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о ………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 на небе очень много, и люди объединили их в …………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а небе можно увидеть большой ковш- эт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звездие ………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71800" y="500040"/>
            <a:ext cx="5714640" cy="27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чью на небе один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олотистый апельсин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овали две недели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пельсина мы не ели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 осталась в небе тольк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пельсиновая  доль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R:\Чувилина Валентина Анатольевна\рисунки\круглая.jpg"/>
          <p:cNvPicPr/>
          <p:nvPr/>
        </p:nvPicPr>
        <p:blipFill>
          <a:blip r:embed="rId1"/>
          <a:stretch/>
        </p:blipFill>
        <p:spPr>
          <a:xfrm>
            <a:off x="642960" y="3500280"/>
            <a:ext cx="3500280" cy="271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R:\Чувилина Валентина Анатольевна\рисунки\долька.jpg"/>
          <p:cNvPicPr/>
          <p:nvPr/>
        </p:nvPicPr>
        <p:blipFill>
          <a:blip r:embed="rId2"/>
          <a:stretch/>
        </p:blipFill>
        <p:spPr>
          <a:xfrm>
            <a:off x="4857840" y="3500280"/>
            <a:ext cx="320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R:\Чувилина Валентина Анатольевна\рисунки\JMCAHPIID9CAUTKO83CARWYECPCAMQMS05CAAG9Y36CAG6IJL5CAF2M55ECAZRX049CA7K5AMPCA6CCPPLCAWKJ3FWCAYRHH1TCA34HK4ZCAFP8DRUCAZ79ANGCAT7A5VTCAPDGBH9CAFQRR8RCAQ4RR4R.jpg"/>
          <p:cNvPicPr/>
          <p:nvPr/>
        </p:nvPicPr>
        <p:blipFill>
          <a:blip r:embed="rId1"/>
          <a:stretch/>
        </p:blipFill>
        <p:spPr>
          <a:xfrm>
            <a:off x="785880" y="642960"/>
            <a:ext cx="2142720" cy="180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2"/>
          <a:stretch/>
        </p:blipFill>
        <p:spPr>
          <a:xfrm>
            <a:off x="857160" y="2714760"/>
            <a:ext cx="2071440" cy="164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R:\Чувилина Валентина Анатольевна\рисунки\круглая.jpg"/>
          <p:cNvPicPr/>
          <p:nvPr/>
        </p:nvPicPr>
        <p:blipFill>
          <a:blip r:embed="rId3"/>
          <a:stretch/>
        </p:blipFill>
        <p:spPr>
          <a:xfrm>
            <a:off x="785880" y="4572000"/>
            <a:ext cx="2142720" cy="17856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3588840" y="1357200"/>
            <a:ext cx="295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тущ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600000" y="3143160"/>
            <a:ext cx="51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уна убывает-такое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656880" y="52149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н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a12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чему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ун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вает разной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R:\Чувилина Валентина Анатольевна\рисунки\Луна вовсех своих обличиях.jpg"/>
          <p:cNvPicPr/>
          <p:nvPr/>
        </p:nvPicPr>
        <p:blipFill>
          <a:blip r:embed="rId1"/>
          <a:stretch/>
        </p:blipFill>
        <p:spPr>
          <a:xfrm>
            <a:off x="2214720" y="2071800"/>
            <a:ext cx="3928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240" cy="157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99"/>
                </a:solidFill>
                <a:latin typeface="Arial"/>
              </a:rPr>
              <a:t>Почему у Месяца нет платья?</a:t>
            </a:r>
            <a:br>
              <a:rPr sz="3200"/>
            </a:br>
            <a:r>
              <a:rPr b="1" lang="ru-RU" sz="2400" spc="-1" strike="noStrike" cap="small">
                <a:solidFill>
                  <a:srgbClr val="cc0099"/>
                </a:solidFill>
                <a:latin typeface="Arial"/>
              </a:rPr>
              <a:t>(Сербская сказка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2" name="Picture 2" descr="R:\Чувилина Валентина Анатольевна\рисунки\Игрушка.jpg"/>
          <p:cNvPicPr/>
          <p:nvPr/>
        </p:nvPicPr>
        <p:blipFill>
          <a:blip r:embed="rId1"/>
          <a:stretch/>
        </p:blipFill>
        <p:spPr>
          <a:xfrm>
            <a:off x="6786720" y="571320"/>
            <a:ext cx="1071360" cy="1571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R:\Чувилина Валентина Анатольевна\рисунки\Луна.jpg"/>
          <p:cNvPicPr/>
          <p:nvPr/>
        </p:nvPicPr>
        <p:blipFill>
          <a:blip r:embed="rId2"/>
          <a:stretch/>
        </p:blipFill>
        <p:spPr>
          <a:xfrm>
            <a:off x="500040" y="3000240"/>
            <a:ext cx="1999800" cy="2428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3"/>
          <a:stretch/>
        </p:blipFill>
        <p:spPr>
          <a:xfrm>
            <a:off x="3071880" y="3143160"/>
            <a:ext cx="1928520" cy="2071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R:\Чувилина Валентина Анатольевна\рисунки\ZHCAGN6L1LCAAVLIKICAAB6SCLCA10RF2PCANTQ679CA8QNSG9CAPNA7JSCA68SN7SCAMT068LCAX17ESECA39PICGCA8M9T42CAZPGOHKCA6ANGEQCA6VDBSYCA89ZIZ1CACI6GD0CAI46ADCCAKI80MH.jpg"/>
          <p:cNvPicPr/>
          <p:nvPr/>
        </p:nvPicPr>
        <p:blipFill>
          <a:blip r:embed="rId4"/>
          <a:stretch/>
        </p:blipFill>
        <p:spPr>
          <a:xfrm>
            <a:off x="5857920" y="3143160"/>
            <a:ext cx="1999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467120" cy="928440"/>
          </a:xfrm>
          <a:prstGeom prst="rect">
            <a:avLst/>
          </a:prstGeom>
          <a:gradFill rotWithShape="0">
            <a:gsLst>
              <a:gs pos="0">
                <a:srgbClr val="ffe8e2"/>
              </a:gs>
              <a:gs pos="100000">
                <a:srgbClr val="ccffff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ff0000"/>
                </a:solidFill>
                <a:latin typeface="Arial"/>
              </a:rPr>
              <a:t>Секрет Луны. Как она светит?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7" name="Picture 2" descr="R:\Чувилина Валентина Анатольевна\луна\crop0001.jpg"/>
          <p:cNvPicPr/>
          <p:nvPr/>
        </p:nvPicPr>
        <p:blipFill>
          <a:blip r:embed="rId1"/>
          <a:stretch/>
        </p:blipFill>
        <p:spPr>
          <a:xfrm>
            <a:off x="785880" y="1928880"/>
            <a:ext cx="7071840" cy="42858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4000320" y="4929120"/>
            <a:ext cx="4663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уна сама не испускает света,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зеркало, отражает све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R:\Чувилина Валентина Анатольевна\луна\crop0003.jpg"/>
          <p:cNvPicPr/>
          <p:nvPr/>
        </p:nvPicPr>
        <p:blipFill>
          <a:blip r:embed="rId1"/>
          <a:stretch/>
        </p:blipFill>
        <p:spPr>
          <a:xfrm>
            <a:off x="357120" y="500040"/>
            <a:ext cx="5786280" cy="3428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R:\Чувилина Валентина Анатольевна\рисунки\B7CA6XOKPYCAGBCZN9CA3O7HBVCAG4DPVSCA5I3WS1CAG1NHXLCA0907KYCA9A1FEVCA0OKHCRCAQ8ZUQNCAPW2PGICAMA0TJHCAKBWOWGCASM1LYECA1E6CBWCAS0X2VICA7PHMK6CA5IU7ZGCA8DZUJZ.jpg"/>
          <p:cNvPicPr/>
          <p:nvPr/>
        </p:nvPicPr>
        <p:blipFill>
          <a:blip r:embed="rId2"/>
          <a:stretch/>
        </p:blipFill>
        <p:spPr>
          <a:xfrm>
            <a:off x="642960" y="4071960"/>
            <a:ext cx="3785760" cy="25714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4796280" y="5072040"/>
            <a:ext cx="213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:\Чувилина Валентина Анатольевна\рисунки\ANCAQI1JHOCAE80G82CAZEHEJVCA3T9X49CAX38WCQCA8UKRIPCAZ3506WCADS2WWWCAN1N9KUCA7AT0UFCAMN6Q31CA3Y55GUCA1X2G6VCAUXJJ7NCAJIWSJFCA2WDBL5CAO4VUGXCAABJW93CARRRD5S.jpg"/>
          <p:cNvPicPr/>
          <p:nvPr/>
        </p:nvPicPr>
        <p:blipFill>
          <a:blip r:embed="rId1"/>
          <a:stretch/>
        </p:blipFill>
        <p:spPr>
          <a:xfrm>
            <a:off x="285840" y="3214800"/>
            <a:ext cx="2642760" cy="335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R:\Чувилина Валентина Анатольевна\луна\crop0002.jpg"/>
          <p:cNvPicPr/>
          <p:nvPr/>
        </p:nvPicPr>
        <p:blipFill>
          <a:blip r:embed="rId2"/>
          <a:stretch/>
        </p:blipFill>
        <p:spPr>
          <a:xfrm>
            <a:off x="3143160" y="3143160"/>
            <a:ext cx="5285880" cy="3428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76080" y="142920"/>
            <a:ext cx="771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Что мы видим на поверхности Л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лядя в телеск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42920" y="1214280"/>
            <a:ext cx="8601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тёмные и светлые пя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ветлые пятна - это лунные моря, но в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т воды. Тёмные пятна – это ровные уча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видны лунные кратеры. Они образовали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даров метеоритов – камней, упавших из косм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  <Words>322</Words>
  <Paragraphs>41</Paragraphs>
  <Company>LIKT590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15:44Z</dcterms:created>
  <dc:creator>Чувилина</dc:creator>
  <dc:description/>
  <dc:language>en-US</dc:language>
  <cp:lastModifiedBy>User</cp:lastModifiedBy>
  <dcterms:modified xsi:type="dcterms:W3CDTF">2012-11-25T09:55:30Z</dcterms:modified>
  <cp:revision>68</cp:revision>
  <dc:subject/>
  <dc:title>Почему Солнце светит днём, звёзды- ночью, а на Луне не ж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