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png" ContentType="image/png"/>
  <Override PartName="/ppt/media/image5.wmf" ContentType="image/x-wmf"/>
  <Override PartName="/ppt/media/image9.gif" ContentType="image/gif"/>
  <Override PartName="/ppt/media/image8.wmf" ContentType="image/x-wmf"/>
  <Override PartName="/ppt/media/image13.png" ContentType="image/png"/>
  <Override PartName="/ppt/media/image6.gif" ContentType="image/gif"/>
  <Override PartName="/ppt/media/image11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14.png" ContentType="image/png"/>
  <Override PartName="/ppt/media/image29.png" ContentType="image/png"/>
  <Override PartName="/ppt/media/image17.png" ContentType="image/png"/>
  <Override PartName="/ppt/media/image28.png" ContentType="image/png"/>
  <Override PartName="/ppt/media/image21.jpeg" ContentType="image/jpeg"/>
  <Override PartName="/ppt/media/image16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23.jpeg" ContentType="image/jpeg"/>
  <Override PartName="/ppt/media/image22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2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CDB-218E-4A7E-8608-5F81A321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195-D78C-4604-8DED-78F13C62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AE6-C897-4B24-A762-7ACF2FF2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ED3-60E0-4051-9335-0C61F9FB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767F-D4E5-45CA-9DD0-DA862B53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001F-8AE2-4856-83EC-4100CD79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3F0E-7513-41D3-A31E-B5257B36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7D25-F20C-488D-A8AD-4058AA02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985E-E117-440B-AF6F-4486CB37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0130-B130-483A-9618-13E48151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4EE8-2D81-4787-85B1-D82CB078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AEE3-AFE5-4BC6-AC71-E681FE80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32D2-A00F-4A2A-9FD3-1DA547AE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8B44-306C-426E-A1D2-253CA925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209F-65FB-45BF-899D-498B91F5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970B-FC25-40F4-A3FB-9FF3B9C8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988A-E350-466D-BDAE-390BD7DE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2827D-D8E3-4EBD-8317-E2E83254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FB38C-05E8-484D-A0F0-D057562B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6C433-143E-45C3-B434-A33E19CB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E3FB0-F401-44C2-93E4-499A4375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BE4DC-00E5-4F32-9442-7AD2A49F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102-76AD-4890-A35C-D8D5243D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45904-EEF5-4A02-913C-8B233CA7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D6004-3F28-40B2-A987-DCF82613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83D4-7D0F-4B9A-82D9-AAB84C1C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30599-6F29-4A41-B83B-8D5E65BD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F0401-C607-4DEC-90BE-F3DA133D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D53DE-08F9-44E4-929C-C8225956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FB9DD-7E5E-44F8-BEC8-7085BE38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C52-37AC-4995-9172-92A13261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8E7C-56A2-4240-8EC2-33C12A7B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486-D636-4FF1-A8D2-A1F7C99A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C67-9175-497F-BD40-C365A676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66A-D385-4823-92B0-812CC20A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EE9-EB57-40FB-8335-90EBFF33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5726-BD41-46F1-BE9A-C743C8BF1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2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884C-2C3E-4A15-9495-77011C15A7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88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FA08-0FFE-4F81-A3E6-917430AF4C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33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6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49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4257720" cy="4567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 rot="19526400">
            <a:off x="3700440" y="2232000"/>
            <a:ext cx="254160" cy="100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 rot="21421800">
            <a:off x="3924360" y="3499920"/>
            <a:ext cx="341280" cy="801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 rot="21421800">
            <a:off x="3924360" y="2707920"/>
            <a:ext cx="341280" cy="801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3635280" y="4616280"/>
            <a:ext cx="5148360" cy="2241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 rot="1013400">
            <a:off x="1522080" y="946080"/>
            <a:ext cx="7329600" cy="20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Пожарная безопасность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619280" y="3476160"/>
            <a:ext cx="727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Почему телефон пожарной службы -  01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тому что номер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прост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го всякий запомн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тому что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удобный номер, его даже в темноте легко набрать на диске телеф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тому что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короткий номер, ведь на пожаре дорога каждая мину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Пусть знает каждый граждан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Пожарная служба - 0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71640" y="404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eorgia"/>
              </a:rPr>
              <a:t>Единая служба спасения «01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3716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оссии появился телефон Единой спасательной службы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«01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В разных городах были свои телефоны спасательных служб, это длинные шести- семизначные номера, которые  не так легко вспомнить в экстренной ситуации.Теперь достаточно набрать «01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11280" y="1197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Пожарное дело - для крепких пар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Пожарное дело - спасение люд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Пожарное дело - отвага и че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Пожарное дело - так было и ес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00040" y="3141720"/>
            <a:ext cx="1684440" cy="3311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411280" y="3257280"/>
            <a:ext cx="64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рденом </a:t>
            </a: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Мужеств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награждаются граждане за самоотверженность, мужество и отвагу, проявленные при спасении людей, охране общественного порядка, в борьбе с преступностью, во время стихийных бедствий, пожаров, катастроф и других чрезвычайных обстоятельств, а также за смелые и решительные действия, совершенные при исполнении воинского, гражданского или служебного долга в условиях, сопряжённых с риском для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987640" y="115920"/>
            <a:ext cx="1990800" cy="2286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71480" y="11592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156360" y="260280"/>
            <a:ext cx="2243160" cy="244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435640" y="2657160"/>
            <a:ext cx="3386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рд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"За личное мужество"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учрежден для награждения граждан СССР за мужество и отвагу, проявленные при спасении людей, охране общественного порядка и социалистической собственности, в борьбе с преступностью, стихийными бедствиями и при других чрезвычайных обстоятельств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95440"/>
            <a:ext cx="55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даль учреждена Указом Президиума Верховного Совета СССР от 31 октября 1957 год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далью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“За отвагу на пожаре”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награждаются работники пожарной охраны, члены добровольных пожарных дружин, военнослужащие и другие граждане: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 смелость, отвагу и самоотверженность, проявленные при тушении пожаров, спасении людей, социалистической собственности и имущества граждан от огня;за умелое руководство боевой работой подразделений пожарной охраны  по тушению пожаров и спасению людей;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 отвагу, мужество и настойчивость, проявленные в целях предотвращения взрыва или пож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2706840" cy="3367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932360" y="404640"/>
            <a:ext cx="2905200" cy="3384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08360" y="3759840"/>
            <a:ext cx="53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грудный знак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"Отличник пожарной охраны МВД СССР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чрежден в 1936 г. Президиумом ЦИК СССР. Вручался за активную деятельность в укреплении пожарной охраны СССР, образцовую и самоотверженную работу на пожарах. Имеет четыре разновидности аббревиатур, сопровождавшие разные этапы перестройки правоохранительной системы: НКВД - МВД - МООП - МВД СС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6560" y="3979440"/>
            <a:ext cx="32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ОТЛИЧНЫЙ ПОЖАРНИК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ыдавались где-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начале  19 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755640" y="32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ожарные – люди необыкновенные. Бесконечные подъемы по тревоге и постоянные схватки с огнем для них – обычная повседневная работа. Смысл и суть этой работы укладывается в три слова: спасти… сохранить… помочь. </a:t>
            </a:r>
            <a:endParaRPr b="0" lang="en-US" sz="2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0 апреля  пожарные России отмечают свой профессиональный праздник.  Именно в этот день в 1649 году царем Алексеем Михайловичем был издан “Наказ о градском благочинии”, который стал одним из первых основополагающих  нормативных актов, содержащих признаки установления в России профессиональной пожарной охраны. </a:t>
            </a:r>
            <a:endParaRPr b="0" lang="en-US" sz="2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3384360" cy="2527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940360" y="692280"/>
            <a:ext cx="161280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755640" y="2565360"/>
            <a:ext cx="7772400" cy="31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Современная пожарная охрана – принципиально новая, технически оснащенная и высоко квалифицированная. Однако содержание и сущность службы остаются прежними: быть всегда начеку, на линии огня…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7724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79280" y="971640"/>
            <a:ext cx="8064720" cy="5886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427640" y="5084640"/>
            <a:ext cx="144360" cy="586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198720" cy="801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067280" y="3645000"/>
            <a:ext cx="144360" cy="801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1979640" y="4221000"/>
            <a:ext cx="198360" cy="801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5435640" y="4724280"/>
            <a:ext cx="144360" cy="586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5435640" y="3933720"/>
            <a:ext cx="144360" cy="585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116000" y="5300640"/>
            <a:ext cx="198360" cy="801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50920" y="260280"/>
            <a:ext cx="5184720" cy="20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ет каждый гражда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т номер –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к вам придёт бед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вони скорей т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если нету телефо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ови людей с балк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732720" y="836640"/>
            <a:ext cx="1871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8000"/>
                  </a:srgbClr>
                </a:solidFill>
                <a:latin typeface="Arial"/>
              </a:rPr>
              <a:t>0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68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2050920" y="2852640"/>
            <a:ext cx="682920" cy="682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flipH="1" rot="20341800">
            <a:off x="243000" y="2674800"/>
            <a:ext cx="1726920" cy="609840"/>
          </a:xfrm>
          <a:prstGeom prst="wedgeRoundRectCallout">
            <a:avLst>
              <a:gd name="adj1" fmla="val -46884"/>
              <a:gd name="adj2" fmla="val 117532"/>
              <a:gd name="adj3" fmla="val 16667"/>
            </a:avLst>
          </a:prstGeom>
          <a:solidFill>
            <a:srgbClr val="ffffff">
              <a:alpha val="84000"/>
            </a:srgbClr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ЖА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411280" y="404640"/>
            <a:ext cx="489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 пожара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3368520" cy="1550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364000" y="3068640"/>
            <a:ext cx="3257640" cy="1539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292720" y="1125360"/>
            <a:ext cx="3311640" cy="1586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1619280" y="3068640"/>
            <a:ext cx="3600360" cy="1574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763640" y="4869000"/>
            <a:ext cx="69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Неисправность электрических приб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Забывчивость  (забыл выключи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Искра (печь, кам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2951280" cy="1871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564000" y="2997360"/>
            <a:ext cx="2808360" cy="19396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403280" y="4797360"/>
            <a:ext cx="7740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Легковоспламеняющие 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Спи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Керосин, бензин,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Georgia"/>
              </a:rPr>
              <a:t>Но самые главные виновники пожара – лю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56000" y="260280"/>
            <a:ext cx="489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 пожара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63640" y="1201320"/>
            <a:ext cx="705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4 декабря в пресс-центре МЧС России Министр по делам гражданской обороны, чрезвычайным ситуациям и ликвидации последствий стихийных бедствий Сергей Шойгу подвел итоги работы министерства за 2008 год. Глава МЧС России сообщил, что в 2008 году было спасено 90 тысяч человек. По его словам, за 11 месяцев этого года количество чрезвычайных ситуаций в России снизилось на 11 %, число погибших в них людей по сравнению с показателями 2007 года уменьшилось на 21%, что составило почти тысячу челове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19280" y="546840"/>
            <a:ext cx="7524720" cy="57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жедневно в Саратовской области происходит 7-10 пожаров. За 11 месяцев 2008 года произошло 2294 пожара, причем 74% от общего количества – это пожары в жилье (1695 пожаров). Почти 60% ущерба от пожаров приходится на жилой сектор, 95% погибших на пожарах – это погибшие опять же в жилье - 237 человек.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и причинами возникновения пожаров в жильё являются несоблюдение норм и правил устройства и эксплуатации                  электрического оборудования, печей, газовых приборов, 22% пожаров происходит по вине лиц в нетрезвом состоянии. Кроме того, зачастую люди элементарно не знают, как вызвать пожарных. А между тем, время безжалостно уходи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 пожаров произошел в Аркадакском, Екатериновском, Ершовском, Питерском, Краснокутском районах. Что касается города Саратова, то количество пожаров увеличилось в Волжском районе. Всего за 11 месяцев в г. Саратове было зарегистрировано 665 пожаров, погибли 52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есс-служба ГУ МЧС России по Саратов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619280" y="921600"/>
            <a:ext cx="72248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Если огонь небольшой, можно попробовать сразу же затушить его, набросив, например, на него плотную ткань, одеяло или вылив кастрюлю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2. Если огонь сразу не погас, немедленно убегай из дома в безопасное место. И только после этого звони в пожарную охрану по телефону «О 1» (табличка) или попроси об этом сосе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3. Если не можешь убежать из горящей квартиры, сразу же позвони по телефону «01» и сообщи пожарным точный адрес и номер своей квартиры. После этого из окна зови на помощь соседей и прохож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4. Если чувствуешь, что задыхаешься от дыма, опустись на корточки или продвигайся к выходу ползком - внизу меньше ды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5. При пожаре в подъезде никогда не садись в лифт. Он может отключиться, и ты задохнеш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6. Ожидая приезда пожарных, не теряй головы и не выпрыгивай из окна. Тебя обязательно спас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7. Когда приедут пожарные, во всем их слушайся и не бойся. Они лучше знают, как тебя сп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908000" y="260280"/>
            <a:ext cx="698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мятка как вести себя при пожаре.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5905440" cy="2922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195640" y="544428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жар мы быстро побе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ль позвоним по 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547640" y="254160"/>
            <a:ext cx="352908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6:45:17Z</dcterms:created>
  <dc:creator>Никита</dc:creator>
  <dc:description/>
  <dc:language>en-US</dc:language>
  <cp:lastModifiedBy>Никита</cp:lastModifiedBy>
  <dcterms:modified xsi:type="dcterms:W3CDTF">2009-07-14T20:23:10Z</dcterms:modified>
  <cp:revision>11</cp:revision>
  <dc:subject/>
  <dc:title>Слайд 1</dc:title>
</cp:coreProperties>
</file>