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008-70CF-4B21-AD94-20F3DA98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090-F8DE-4D8A-8C2E-74A2DBF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1FB-A838-44ED-A145-59CEF246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667-7F00-47BD-A6DF-0082C75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677-04C7-449C-9BB8-662C11D5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558-01DF-4A12-9AD6-9C4C6C6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9CB0-06B5-4EBE-A126-007E179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1AF5-E9BD-409C-B973-06BE7DE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11B2-DF45-4909-A6C8-8D91BA9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6B7F-41B1-4157-BB09-27AE9BCD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5FC2-2900-4C8A-B825-5E19266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E4F-BD29-4290-A930-5BECDEB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1E6-91F1-443D-AA6D-5607EEF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1C43-FB82-45CF-BBBC-7C09D45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ABBE-209C-4E82-B1AC-0056230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AB5-6E86-46BC-985C-D396642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1368-AAED-4DBD-B6B4-A2FACB2D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A1F-A067-4989-A3C0-09360AB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7FF-3363-4160-936D-8834C62D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045-EC73-477D-8B47-76EAF83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AC1-2225-49A5-9B47-CAD7A1D9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C9C-FC18-4F54-80B4-31918DF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C38-EEC7-4DBF-9492-666C650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F55-D38D-424E-A4EB-514DECE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5F1-0EF2-4CAF-AA4F-A94C3DF91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868-87B9-4A75-93A3-D36032FE35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12855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Пожары и взрывы на взрывопожароопасных объектах экономики и их возможные последстви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                 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ыво- и пожароопас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ствия аварий на взрыво- и пожароопасных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чины                     аварий на взрыво-                               и пожароопасных                   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AGDUFKD"/>
          <p:cNvPicPr/>
          <p:nvPr/>
        </p:nvPicPr>
        <p:blipFill>
          <a:blip r:embed="rId1"/>
          <a:stretch/>
        </p:blipFill>
        <p:spPr>
          <a:xfrm>
            <a:off x="5364000" y="3635280"/>
            <a:ext cx="3167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476280"/>
            <a:ext cx="830592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зрывопожароопасные объек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предприятия, на которых производят, хранят, транспортируют взрывоопасные продукты или продукты, приобретающие при определенных условиях способность к возгоранию или взры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CAHNBTV1"/>
          <p:cNvPicPr/>
          <p:nvPr/>
        </p:nvPicPr>
        <p:blipFill>
          <a:blip r:embed="rId1"/>
          <a:stretch/>
        </p:blipFill>
        <p:spPr>
          <a:xfrm>
            <a:off x="5688000" y="3716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AQN0D4X"/>
          <p:cNvPicPr/>
          <p:nvPr/>
        </p:nvPicPr>
        <p:blipFill>
          <a:blip r:embed="rId2"/>
          <a:stretch/>
        </p:blipFill>
        <p:spPr>
          <a:xfrm>
            <a:off x="1258920" y="3429000"/>
            <a:ext cx="22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430080" y="333000"/>
            <a:ext cx="57135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 взрывопожароопасным объект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химической, нефтехимической и нефтеперерабатывающей п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фте- и газопро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, производящие порох, взрывчат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ьные шах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лесной и пищевой пр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CA4PGLS3"/>
          <p:cNvPicPr/>
          <p:nvPr/>
        </p:nvPicPr>
        <p:blipFill>
          <a:blip r:embed="rId1"/>
          <a:stretch/>
        </p:blipFill>
        <p:spPr>
          <a:xfrm>
            <a:off x="0" y="414972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ANCL5R8"/>
          <p:cNvPicPr/>
          <p:nvPr/>
        </p:nvPicPr>
        <p:blipFill>
          <a:blip r:embed="rId2"/>
          <a:stretch/>
        </p:blipFill>
        <p:spPr>
          <a:xfrm>
            <a:off x="395280" y="260280"/>
            <a:ext cx="2544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590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ражающим фактора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варий на взрывопожароопасных объектах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душная ударная волна с образованием большого количества отлетающих оскол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язнение воздуха продуктами горения, в том числе и углекислый г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CA9VNNKH"/>
          <p:cNvPicPr/>
          <p:nvPr/>
        </p:nvPicPr>
        <p:blipFill>
          <a:blip r:embed="rId1"/>
          <a:stretch/>
        </p:blipFill>
        <p:spPr>
          <a:xfrm>
            <a:off x="5292720" y="2637000"/>
            <a:ext cx="38512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718080" y="333360"/>
            <a:ext cx="54259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ые последствия аварий на взрыво- и пожароопасных объек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ажение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ли частичное разрушение жилых или промышленны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химически опас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яжелые социальные и экономические посл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43photo_reuters_8[1]"/>
          <p:cNvPicPr/>
          <p:nvPr/>
        </p:nvPicPr>
        <p:blipFill>
          <a:blip r:embed="rId1"/>
          <a:stretch/>
        </p:blipFill>
        <p:spPr>
          <a:xfrm>
            <a:off x="0" y="1197000"/>
            <a:ext cx="330660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последствия аварий на взрыво- и пожароопасных объекта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0" descr="attach848[1]"/>
          <p:cNvPicPr/>
          <p:nvPr/>
        </p:nvPicPr>
        <p:blipFill>
          <a:blip r:embed="rId1"/>
          <a:stretch/>
        </p:blipFill>
        <p:spPr>
          <a:xfrm>
            <a:off x="4716360" y="3317760"/>
            <a:ext cx="4427640" cy="332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129378_20070813085123[1]"/>
          <p:cNvPicPr/>
          <p:nvPr/>
        </p:nvPicPr>
        <p:blipFill>
          <a:blip r:embed="rId2"/>
          <a:stretch/>
        </p:blipFill>
        <p:spPr>
          <a:xfrm>
            <a:off x="324000" y="184464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3360" y="47592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бъекты эконом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ятся к взрыво-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оопас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сновные факторы определяют возникновение аварии на взрыво- и пожароопасном объек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поражающие факторы, возникающие при авариях на взрыво- и пожароопасных объектах, представляют высокую степень опасности для работающего персонала 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94730885[1]"/>
          <p:cNvPicPr/>
          <p:nvPr/>
        </p:nvPicPr>
        <p:blipFill>
          <a:blip r:embed="rId1"/>
          <a:stretch/>
        </p:blipFill>
        <p:spPr>
          <a:xfrm>
            <a:off x="5508720" y="272880"/>
            <a:ext cx="363528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93360" y="2060640"/>
            <a:ext cx="8450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.6 учеб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з различных информационных источников подберите несколько характерных примеров возникновения чрезвычайных ситуаций из-за аварий на взрыво- и пожароопасном объекте. Выпишите причины их возникнов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CA89AJ8L"/>
          <p:cNvPicPr/>
          <p:nvPr/>
        </p:nvPicPr>
        <p:blipFill>
          <a:blip r:embed="rId1"/>
          <a:stretch/>
        </p:blipFill>
        <p:spPr>
          <a:xfrm>
            <a:off x="539640" y="160200"/>
            <a:ext cx="374508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3:01:38Z</dcterms:created>
  <dc:creator>sh</dc:creator>
  <dc:description/>
  <dc:language>en-US</dc:language>
  <cp:lastModifiedBy>FS</cp:lastModifiedBy>
  <dcterms:modified xsi:type="dcterms:W3CDTF">2009-01-26T08:24:10Z</dcterms:modified>
  <cp:revision>9</cp:revision>
  <dc:subject/>
  <dc:title>Пожары и взрывы на взрывопожароопасных объектах экономики и их возможные последствия.                                                                                              </dc:title>
</cp:coreProperties>
</file>