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1.jpeg" ContentType="image/jpeg"/>
  <Override PartName="/ppt/media/image36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31.jpeg" ContentType="image/jpeg"/>
  <Override PartName="/ppt/media/image14.gif" ContentType="image/gif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3D1-D382-46B6-BF06-2CC12005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41C-8894-4A13-9E57-0A045C2A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E3231-ECC2-42B2-A2D1-986F9CED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46113-1A86-47D2-B829-C8401CF1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48D84-5992-49AE-8E60-299131E7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E1065-9974-4FA4-8026-2BF654D5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33095-0D33-4420-B4EA-95A85FA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67A44-3F7E-4C63-A5A0-38446699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3810E-538A-433E-B5C8-8223F833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10C4F-B83E-491E-A32F-AACDA7F2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607ED-477B-4B57-B68D-3B601EED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B4A0D-0D75-4639-BDF8-F326B58F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2F9-D6C7-4111-9751-C558B6F8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099E8-553E-4CCB-975D-749FAED8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0910C-0F20-499C-9B05-70BE2A43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8B574-E05F-4C68-9259-EC5EED44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27A18-4E77-43C1-BE2B-63B3AD7D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2FD82-D328-474A-AFC7-816010F4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3DCDC-5A80-4718-8988-60AD695D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CE3C4-343C-4491-AEF4-D9286644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B8A7B-3196-451E-993B-390DD394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609A3-7719-4109-8A75-E5E1EEEC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8F6C9-0387-4283-9FA9-F0F2A8E0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7B3-C545-44E7-B8AC-A238C679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C6B4C-1BF8-4F23-B3E2-7C739F4E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2E17DE-9555-4229-A42B-E17EFFD3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61C64D-9122-47A8-A5A0-8F8CBC7A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9D5D81-C256-4802-984F-EFF2A934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1256F5-E7CC-4F04-A758-48626F03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AD2056-C2A4-4199-AC4A-D731A4AA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5BAE80-0FBA-4018-AE5A-1FE652A0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832A33-353F-4BC2-AE16-B051F80C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18D9BF-651C-43F7-B928-F3CB9A73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96249A-EE4C-4C1F-8D91-EF8554FB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83B2-308C-4A97-BA88-40778B18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1F891D-E974-43B2-B82A-FFD91E5B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6BD244-769B-40C6-882A-6D01EDAD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1778A6-5885-4A53-8F4C-B1B34436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4AF04-1C07-4FEE-AD5E-81692E04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7E0AB-1C2C-482C-9E80-66772893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C6D81-C49E-42F6-938A-12DE86AB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F022A-D1A1-49AC-B165-CB4A8FF1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4A6C2-1E3C-4B96-B719-C23BE9AC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54CAF-877F-4D87-9C0E-26CE1463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27D2C-7C7A-4B68-B486-C7147EAE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C95A-4D4D-4D8F-B8CB-53E4CDA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E399F-A874-40BB-9791-22E12613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CFC18-5B73-457C-9339-3249144E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4E386-DBB3-40F9-877D-01AD5EAC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1C169-04C9-48C5-B091-68C3BF87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5C80D-7DBC-4158-955D-22E5C3C5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5E1AE-FDF0-4915-B7B6-87213D2C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7B6A7-65CE-45B7-8245-55134FA0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C67B4-AE44-4C5E-897B-AE188505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2C9C8-E847-47F8-9F52-17490BA4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E0D3C-5BAB-46FF-9589-BF22BB6B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ABA8-B966-47B0-9F0A-38DEB6EE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53054-FF59-4C75-B82B-F4F7E074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11C2E-A676-44DF-AEC5-FEE1D3CD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8F47F-FF1A-4982-AABA-56F217D7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68B9B-1A9C-4124-B9C6-D5F85033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B9F09-6A3A-48FB-824A-589DAAD8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7042D-CDC5-4D7D-88CC-0C77ACCA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A0212-6826-4231-B132-A93E490E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CD7CA-BFCC-44D6-8BEC-128139BB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D75F3-AA51-45F2-A18C-0BFDA029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D7B9B-BFA2-4E82-962C-5815F0B8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F83B-0244-4BDF-91C3-24C715A8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F1090-BA9E-4673-8833-0671287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DD111-95AE-4EA8-91B4-4C58B1EE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C9E6D-939E-44E2-AA51-2DA94CEB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84ACFC-D281-40AF-B65D-A97221C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13E03-648E-4967-9E9B-C71FB246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9B576-C70C-4613-B8E3-FA1EC09C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35BAC-7B1C-4E9B-B440-40BA3749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88F2A-8A4E-4A2C-B9D5-30971B18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3405F-17C4-4202-BC4E-33F3D090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51E88-373C-4731-87F6-2F4A7A8E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80DD-6281-4170-AFD5-9F800A87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2F9CE-AF84-46E7-88AF-7CCCE179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8D516-F457-4BA7-952C-5C59EB87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A8A47F-38F9-42C5-B44C-EAF52D0E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C2797-3980-40CB-B2C3-01140125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A6BB3-4C76-4A56-AFBB-C8C9C8D9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E95A0-E6FF-434D-907B-1B4B1EA2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13FFE-5070-45FD-83AB-317A9C99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26D217-7399-4C5C-AC97-15CABFA9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D35C8-0B66-4ED9-8518-044FCFB6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237D6-AF80-450C-9EEC-A65106B5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E1FF-5AA9-4F97-A047-94850FC1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5AD45-0C31-4FE3-9DAD-8E14BBEB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5413DF-162C-4480-8CA1-0D9DC125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FEF704-A91A-40DF-9476-4EFF944A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33DA92-EA88-4C46-BDA5-E251B5AE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7448B9-A3CF-499A-962E-278D7BFC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A3AC36-ACF4-4D88-A3CF-B9D86892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912068-7DD2-4DF7-A1E8-8E997033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B2457B-E4FB-46F8-90CE-7DCF46E1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6A1160-503C-4272-8124-E3D462D1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145C08-A234-46FC-80F8-05D6FF9E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882B-8ED8-4D6C-9AC5-1E45DEB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D7558F-8AC7-45DF-9CF1-FAAE6454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0A1FB9-17A5-4569-AE3A-EA19F1FA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B46732-4D33-44FD-B7CD-17EF6955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0FF36B-3ABA-46AB-941A-539E9941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0ABED-36BA-460E-94A6-87FAD7AB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45E06B-1764-4B6C-8A3C-91A7B130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9F611-C627-49AD-ACD3-8B30C196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05EAD-CB50-40FB-8017-97CD94AA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B2A94-B5F1-4073-900A-794A5FCC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A3BD0-E81F-4EA4-A673-F703BC3B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C64-5879-409A-BA23-209E7DE0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50D3-3061-4D50-81E3-F2B5EE1B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B9E44-53ED-4224-B0C4-3BA61C3B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5B650-7658-4E9D-9F49-275E5F04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43FBC-07F4-4F0F-8270-A9DD32D4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C52EF-6ACA-4BF9-9BF8-F098482B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EFA94-2595-43E5-996E-10C28356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6A2CD0-4581-448E-ABB9-215331BA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515A4-F68E-4405-9F5D-9813EC50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603BE-FD2E-4140-B89F-BE1FF5C3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4BCCA-C1AA-4B8F-9391-B8CEFE8C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3675DF-3671-43B5-9030-E1AD4CDA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FA14-1522-4CA5-8053-B7C1928A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577D49-558F-4FDB-93B5-D1B7582C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004D42-96D9-4448-B442-081CC73E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183E24-AF7E-43E7-89D8-BE423F80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1B7BE-798C-44B2-AA24-94E1B4E9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68052-FE37-4810-A7F9-1F46474D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DD80B-225B-4429-9DC1-1DDC7426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B8B6C-334F-4FA5-8B7D-5C3FBDCE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17CC5F-B94B-44F7-8D54-84BA185E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5F6DAA-A32C-439C-9A8D-CD7B2A18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8B967-CD28-4B78-8DE6-808A0B14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6283-E9C7-4040-97BA-B667450A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89724-12A6-4E19-9110-2979C39D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7F71E-DF36-454D-A668-8B19B993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278565-ABD2-4A01-BF98-E4B3A9A2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2B9103-B5B3-4472-A79C-C100CCAA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7ABE8-FCFB-4AB9-B404-8D2D1FC6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86622-8EFC-4353-B2D3-BA9D115B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41DC21-2D7C-4370-AC19-FD7B8CA4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3CE19B-277B-41F3-BA35-036F008A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0F3224-86A2-40BB-AEC6-D115B8D0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5EB4E-D7AC-4E91-952D-6CE5B4E7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1478-8FCD-477D-ADE1-59CD7A01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298225-31B7-4D6B-AF99-3F215066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8E4C6C-C0A1-492E-9E5A-B8D0C977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8ED5DF-DAD1-495C-B8CA-7063B58B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5F4B48-55E2-423C-A23F-BD43557C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0D2489-B62E-45B9-8D93-7179BCEF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444D24-8C5E-4014-8981-9DD02E20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52059-6ADE-46AD-AA66-1F2F6A6A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D5F97-89AE-454A-A590-76E2F3AC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6EACC5-8C85-49FB-9E48-12455E73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2C85E9-BF7D-48A5-8373-6B8539F5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7A87-6863-4316-A2C9-2F0C89BE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0413B5-5FB1-4326-8AA8-CD33BE37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F6BD48-C693-4BC6-A7DB-9949C607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6D41C9-712B-41D4-8C63-0E58C397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78EC5-FDAA-46EC-BDEA-CCD043A1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56E140-DD6F-4297-BD43-1C535F30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EB9E3E-C5F9-4822-959B-9D8DEFF9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F70CD6-0D89-4386-A9E5-88D79A09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27132D-1DE0-4181-9576-5C2617A8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C78240-8BDF-4380-A652-B7AA65C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02C0F9-3782-457E-8290-4D9AA8B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0E2F4-46B1-4FB8-801C-AE25E0F1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242530-007B-476C-B24D-3B737EB8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ABE1BF-8860-4A35-920B-D929CE6D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583F8-8783-4886-8FA8-FD517423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663637-6C12-48F9-9A6A-18960CD0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559551-E106-4145-AD6A-6C76591A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1D4FBF-92E7-4385-BC32-FE9D115E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66261C-30BF-4B83-8B4F-311767CC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97CC3A-538F-42CD-875F-BA3DC533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49AFC-4467-4E20-92F3-2953B969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3DFA85-E23F-44CF-8548-F18585C4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2B5C-AAB7-4241-A610-048D0907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A9E0AB-DD25-41E2-BE3F-9823CE66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5C5472-82F6-44E2-991C-FEC22F23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3685B8-C2D6-445C-BAD9-34FB014E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56C3E3-4503-42EA-B610-B795B9CE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993BE8-5CE7-482D-B75C-719296E1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2E6C-68DF-4460-B368-7746133D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9E8F8-9935-449F-84E7-BD1308A9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D27B-A1D9-4726-963F-7F2BA19E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93F-A2F9-40F0-B7EC-63B7881A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BFF6-3D0D-4609-97A0-CD1A8A04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908D3-B527-49CE-A884-B7F85EC6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94BCA-A7F3-42B3-B6C0-3FC51E99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411A-DDF3-416E-B99B-64E1C7EA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F626C-3E2F-459A-A289-9A80C063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C9A2-4A06-4004-99E2-43C8058A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CC72-9DA9-4D12-925E-70381009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B0AB-F0B0-4341-94D9-E1160B8C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8E0DD-E7A3-4B45-81BB-E518B003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33462-37E0-4A06-976F-3D87A7E6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D45-B320-4576-85B0-2793843B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144A-9AE4-4E8E-8265-65D88201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0263-157E-4B81-9058-032CB37A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F0C8E-BAA3-46C3-8EFD-341A30F5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3AC35-BCDD-4847-ABD0-9721408A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CA6EB-912C-4BA3-B17C-ABC85EC7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41A3-D891-4C87-B9E6-E2CDD272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DAF57-3FA1-421D-A52F-A64E2734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3D76C-6737-46E0-AAB9-F2E77510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92F6-30F7-409F-9654-8F3B2C72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440D9-896A-4B79-8DA1-66DF3433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16E-78FE-4E28-93B0-EDB86C76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7248A-5F3B-4F5B-8FE5-8493B77C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95295-FDB1-437E-9807-50F1F851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870A9-3E0A-4350-9A2A-08D52266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9442B-B974-4DCA-AEC4-A8946C2C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8E0B3-6AD9-4015-A934-522BE8C4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CB6E4-48CB-4681-90E6-AE91790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80697-5DBE-414B-BA83-6D856CA9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7B537-C859-4A06-B613-7F98D7A2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6CD41-95BA-4FCA-9D36-B392C2E3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AC30-5AD8-4939-8A33-4C13683F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9F3-7D70-4914-8225-FF32AFD8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C690E-AA71-4A0A-95E7-C936DE05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A356-6AAD-4744-9B47-25F669ED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FCBBF-A3F9-437C-8846-407EB0DD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810A3-A538-46C4-A3D8-107B3298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DA2DD-CFB0-4345-8E59-6B00D589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911DF-E6B7-4A6B-AB53-3B1E74F9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5BD63-1D4F-4409-9E61-13EB4554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B7ECA-4563-4483-9FA7-461FC77F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D8027-0837-412A-8B87-258AD52E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7E01A-0D81-46A3-B0C8-9674D7C1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C91-6962-41AA-A37E-E5478AEB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61509-421D-4A3F-97EA-271A520D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38AF2-F13B-4DE7-95DA-C4B2EE46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E51C2-46CA-487D-A617-3BEBDAA0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E5A1-5815-450A-9303-F6081280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76C62-C09C-4DD0-A0FB-8F9F7AEF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DF1B6-25F8-4AB0-BF32-FA2E4F66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C12A8-F209-444B-A1D6-30363B26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E4D3-DFAA-4C04-B5B6-2AF07AD6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0ED7-EC78-4CC4-AA2A-517787AE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D47B5-678D-46AD-BBDD-CFBCF9CD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1AD-DCB2-4E40-91B9-654F3EF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47F59-5960-46FE-8E37-963695E1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86C60-4802-4C5D-8D71-86D64AB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2AD6E-48CB-4696-9664-4349DDE1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68B1A-A6FB-4A88-8C9E-8FF40FBB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8B3A8-E408-44F5-9F60-4E5540C3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29FB4-E61B-46B0-95F8-56A9A117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FFD53-B61B-4094-B8BD-F535A51D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019A5-7231-4D0D-A0E7-E71D65C6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611D1-6907-494C-B247-FA95F23E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50398-C5AC-4BB1-AE81-A37AB533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5B9-F4B9-4D0F-B181-D4446912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36854-4776-439F-816E-78331160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77AEB-EAE8-4FD0-8DF7-71617763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FB7E7-2129-40B5-AC41-8C40B663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6D564-00FE-4196-8060-46C12C89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840B6-1643-4D6C-9F9C-06201CE0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BB980-AD9F-4495-985D-E2C2006F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F5248-EED6-4C8F-9C6E-982D086A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12678-5D37-4CE3-BAB0-9E34FA95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4EA86-B756-4B22-9DDB-DED5A865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A05B0-780C-4D3A-87A5-09D5D279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EA47-8D83-494B-BA22-30223101F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6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FC55-24A1-4741-9C96-F3C282D75B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4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34AE-4781-46FC-93EB-616190D6A6C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0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0A49-42D1-4774-9D20-98C5F884EF1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6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7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7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8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0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1C80-247F-447E-93E3-E4FC3C5538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6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6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6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7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8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8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0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01C5-20FC-410A-A466-9C47D09F44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6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6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7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11AF-DE6D-41E5-963B-03661985A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1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2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2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A38D-2EFA-4A32-B3E9-3145E22A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7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9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8B69-7D61-48EE-BBA7-C4F5FB51E5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5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07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B062-1109-4EAE-95D6-9A520593205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A637-8805-4E4D-B2B8-8F9CB8CED8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BA2F-D14B-48F2-8774-187006C47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9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36DD-E5C6-4916-8378-5A68DB6295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253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254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56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257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0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62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263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64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265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0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1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2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3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4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5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6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7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8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9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0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1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2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3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4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5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6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9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0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1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2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3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4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5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6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7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8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9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0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01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302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3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4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5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6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7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8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9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0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1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2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3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314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5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6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7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8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9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0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1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2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3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4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5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6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7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8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9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0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1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2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3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4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5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6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7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8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9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0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1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2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3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4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5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6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7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8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9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50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351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3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354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3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364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0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371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6" name="PlaceHolder 1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269B-0191-45F2-B992-0B8CBDA0AD4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418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419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21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422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5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426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27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428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29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430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1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2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3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4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5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6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7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8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9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0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1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2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3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4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5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6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7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8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9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0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1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2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3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4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5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6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7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8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9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0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1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2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3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4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5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6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467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8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9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0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1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2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3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4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5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6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7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8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79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0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1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2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3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4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5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6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7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8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9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0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1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2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3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4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5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6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7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8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9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0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1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2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3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4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5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6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7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8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9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0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1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2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3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4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515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516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8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519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8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529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536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0A66-24BC-47C1-BA5D-8589123F271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6E40-3CA4-4B76-854E-64FB35F34F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15DF-3F61-4C3B-BC90-C0EEF465FF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49A8-5026-4CE5-92CB-D76401059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1A2F-0595-45EA-AFE2-6DA2AF333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D076-C930-4D76-8F89-3C95A6BB1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0C5A-3E61-4E86-BA9F-A8A7AD42B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8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D141-CFFB-4E2E-9EF1-5D25F6AEDD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3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0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8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1258920" y="2060640"/>
            <a:ext cx="655164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olidays of Great Britai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1440000" cy="2119320"/>
          </a:xfrm>
          <a:prstGeom prst="rect">
            <a:avLst/>
          </a:prstGeom>
          <a:ln w="0">
            <a:noFill/>
          </a:ln>
        </p:spPr>
      </p:pic>
      <p:pic>
        <p:nvPicPr>
          <p:cNvPr id="1584" name="" descr=""/>
          <p:cNvPicPr/>
          <p:nvPr/>
        </p:nvPicPr>
        <p:blipFill>
          <a:blip r:embed="rId2"/>
          <a:stretch/>
        </p:blipFill>
        <p:spPr>
          <a:xfrm>
            <a:off x="4067280" y="4724280"/>
            <a:ext cx="1873080" cy="1825920"/>
          </a:xfrm>
          <a:prstGeom prst="rect">
            <a:avLst/>
          </a:prstGeom>
          <a:ln w="0">
            <a:noFill/>
          </a:ln>
        </p:spPr>
      </p:pic>
      <p:pic>
        <p:nvPicPr>
          <p:cNvPr id="1585" name="" descr=""/>
          <p:cNvPicPr/>
          <p:nvPr/>
        </p:nvPicPr>
        <p:blipFill>
          <a:blip r:embed="rId3"/>
          <a:stretch/>
        </p:blipFill>
        <p:spPr>
          <a:xfrm>
            <a:off x="7451640" y="404640"/>
            <a:ext cx="1295640" cy="1872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10920" y="1768320"/>
            <a:ext cx="745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subTitle"/>
          </p:nvPr>
        </p:nvSpPr>
        <p:spPr>
          <a:xfrm>
            <a:off x="1042920" y="2708280"/>
            <a:ext cx="705816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Tahoma"/>
              </a:rPr>
              <a:t>It’s the religious holida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Tahoma"/>
              </a:rPr>
              <a:t>Easter Monday falls on the first Monday in Ma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2124000" y="404640"/>
            <a:ext cx="4897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as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324000" y="4221000"/>
            <a:ext cx="1900080" cy="227340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7236000" y="189000"/>
            <a:ext cx="170496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0066"/>
                </a:solidFill>
                <a:latin typeface="Arial"/>
              </a:rPr>
              <a:t>Symbols of Easter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1403280" y="292392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Verdana"/>
              </a:rPr>
              <a:t>Easter Bunny and Easter eggs are the symbols of Easter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0" name="" descr=""/>
          <p:cNvPicPr/>
          <p:nvPr/>
        </p:nvPicPr>
        <p:blipFill>
          <a:blip r:embed="rId1"/>
          <a:stretch/>
        </p:blipFill>
        <p:spPr>
          <a:xfrm>
            <a:off x="468360" y="4869000"/>
            <a:ext cx="2016000" cy="1793880"/>
          </a:xfrm>
          <a:prstGeom prst="rect">
            <a:avLst/>
          </a:prstGeom>
          <a:ln w="0">
            <a:noFill/>
          </a:ln>
        </p:spPr>
      </p:pic>
      <p:pic>
        <p:nvPicPr>
          <p:cNvPr id="1631" name="" descr=""/>
          <p:cNvPicPr/>
          <p:nvPr/>
        </p:nvPicPr>
        <p:blipFill>
          <a:blip r:embed="rId2"/>
          <a:stretch/>
        </p:blipFill>
        <p:spPr>
          <a:xfrm>
            <a:off x="7020000" y="4581360"/>
            <a:ext cx="191772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subTitle"/>
          </p:nvPr>
        </p:nvSpPr>
        <p:spPr>
          <a:xfrm>
            <a:off x="826920" y="2349000"/>
            <a:ext cx="756144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All over the country people celebrate Guy Fawkes’s Day on the 5</a:t>
            </a:r>
            <a:r>
              <a:rPr b="0" lang="en-US" sz="3600" spc="-1" strike="noStrike" baseline="30000">
                <a:solidFill>
                  <a:srgbClr val="0000ff"/>
                </a:solidFill>
                <a:latin typeface="Verdana"/>
              </a:rPr>
              <a:t>th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of Novemb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1619280" y="1413000"/>
            <a:ext cx="5667480" cy="77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Guy Fawkes's D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233440" cy="2255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0" y="26028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Children make a guy, a figure of a man and put it on the top of a bonfir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At the party people eat jacket potato and hot- dogs and watch the firework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2808360" cy="2703600"/>
          </a:xfrm>
          <a:prstGeom prst="rect">
            <a:avLst/>
          </a:prstGeom>
          <a:ln w="0">
            <a:noFill/>
          </a:ln>
        </p:spPr>
      </p:pic>
      <p:pic>
        <p:nvPicPr>
          <p:cNvPr id="1639" name="" descr=""/>
          <p:cNvPicPr/>
          <p:nvPr/>
        </p:nvPicPr>
        <p:blipFill>
          <a:blip r:embed="rId2"/>
          <a:stretch/>
        </p:blipFill>
        <p:spPr>
          <a:xfrm>
            <a:off x="6804000" y="2637000"/>
            <a:ext cx="174960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745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subTitle"/>
          </p:nvPr>
        </p:nvSpPr>
        <p:spPr>
          <a:xfrm>
            <a:off x="684000" y="2276280"/>
            <a:ext cx="755964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People celebrate it on October 3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On Halloween children dress up costumes and go from door to door with calling “Trick or Trea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2268360" y="692280"/>
            <a:ext cx="4319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allowee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89" name="" descr=""/>
          <p:cNvPicPr/>
          <p:nvPr/>
        </p:nvPicPr>
        <p:blipFill>
          <a:blip r:embed="rId3"/>
          <a:stretch/>
        </p:blipFill>
        <p:spPr>
          <a:xfrm>
            <a:off x="468360" y="4653000"/>
            <a:ext cx="2886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00ab8"/>
                </a:solidFill>
                <a:latin typeface="Arial Black"/>
              </a:rPr>
              <a:t>Symbols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d00ab8"/>
                </a:solidFill>
                <a:latin typeface="Arial Black"/>
              </a:rPr>
              <a:t>of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d00ab8"/>
                </a:solidFill>
                <a:latin typeface="Arial Black"/>
              </a:rPr>
              <a:t>Hallowe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6400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re are some symbols such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Jack – o – lan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hosts, witches, black cats, skeletons and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2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2531880" cy="2551320"/>
          </a:xfrm>
          <a:prstGeom prst="rect">
            <a:avLst/>
          </a:prstGeom>
          <a:ln w="0">
            <a:noFill/>
          </a:ln>
        </p:spPr>
      </p:pic>
      <p:pic>
        <p:nvPicPr>
          <p:cNvPr id="1593" name="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1412640" cy="2233440"/>
          </a:xfrm>
          <a:prstGeom prst="rect">
            <a:avLst/>
          </a:prstGeom>
          <a:ln w="0">
            <a:noFill/>
          </a:ln>
        </p:spPr>
      </p:pic>
      <p:pic>
        <p:nvPicPr>
          <p:cNvPr id="1594" name="" descr=""/>
          <p:cNvPicPr/>
          <p:nvPr/>
        </p:nvPicPr>
        <p:blipFill>
          <a:blip r:embed="rId3"/>
          <a:stretch/>
        </p:blipFill>
        <p:spPr>
          <a:xfrm>
            <a:off x="4788000" y="4365720"/>
            <a:ext cx="1263600" cy="2128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6965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Arial"/>
              </a:rPr>
              <a:t>Jack – o - lantern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676764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bb2f"/>
                </a:solidFill>
                <a:latin typeface="Arial"/>
              </a:rPr>
              <a:t>Children scrape out a pumpkin and cut put eyes, nose and mouth in its side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597" name="" descr=""/>
          <p:cNvPicPr/>
          <p:nvPr/>
        </p:nvPicPr>
        <p:blipFill>
          <a:blip r:embed="rId1"/>
          <a:stretch/>
        </p:blipFill>
        <p:spPr>
          <a:xfrm>
            <a:off x="826920" y="4629240"/>
            <a:ext cx="2232360" cy="167472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2"/>
          <a:stretch/>
        </p:blipFill>
        <p:spPr>
          <a:xfrm>
            <a:off x="5651640" y="333360"/>
            <a:ext cx="176976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10920" y="2130120"/>
            <a:ext cx="745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On this day people go to church, open their Christmas presents, eat a Christmas dinner and sing Christmas songs like “Jingle Bells” or “Rudolph The Red-nosed Reindeer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1763640" y="476280"/>
            <a:ext cx="525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Christmas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602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087280" cy="2057400"/>
          </a:xfrm>
          <a:prstGeom prst="rect">
            <a:avLst/>
          </a:prstGeom>
          <a:ln w="0">
            <a:noFill/>
          </a:ln>
        </p:spPr>
      </p:pic>
      <p:pic>
        <p:nvPicPr>
          <p:cNvPr id="1603" name="" descr=""/>
          <p:cNvPicPr/>
          <p:nvPr/>
        </p:nvPicPr>
        <p:blipFill>
          <a:blip r:embed="rId5"/>
          <a:stretch/>
        </p:blipFill>
        <p:spPr>
          <a:xfrm>
            <a:off x="6443640" y="4508640"/>
            <a:ext cx="239400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ebf25a"/>
                </a:solidFill>
                <a:uFillTx/>
                <a:latin typeface="Tahoma"/>
              </a:rPr>
              <a:t>Christmas is a family holida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539640" y="2781000"/>
            <a:ext cx="8064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The fun starts the night before, on 24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of December. People decorate their trees, children hang stockins, hoping that Father Christmas will come with pres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1170000" cy="2117520"/>
          </a:xfrm>
          <a:prstGeom prst="rect">
            <a:avLst/>
          </a:prstGeom>
          <a:ln w="0">
            <a:noFill/>
          </a:ln>
        </p:spPr>
      </p:pic>
      <p:pic>
        <p:nvPicPr>
          <p:cNvPr id="1607" name="" descr=""/>
          <p:cNvPicPr/>
          <p:nvPr/>
        </p:nvPicPr>
        <p:blipFill>
          <a:blip r:embed="rId2"/>
          <a:stretch/>
        </p:blipFill>
        <p:spPr>
          <a:xfrm>
            <a:off x="4716360" y="4797360"/>
            <a:ext cx="4032360" cy="1857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745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684360" y="2421000"/>
            <a:ext cx="799128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c32b8"/>
                </a:solidFill>
                <a:latin typeface="Tahoma"/>
              </a:rPr>
              <a:t>St Valentine’s day is February 14</a:t>
            </a:r>
            <a:r>
              <a:rPr b="0" i="1" lang="en-US" sz="3600" spc="-1" strike="noStrike" baseline="30000">
                <a:solidFill>
                  <a:srgbClr val="4c32b8"/>
                </a:solidFill>
                <a:latin typeface="Tahoma"/>
              </a:rPr>
              <a:t>th</a:t>
            </a:r>
            <a:r>
              <a:rPr b="0" i="1" lang="en-US" sz="3600" spc="-1" strike="noStrike">
                <a:solidFill>
                  <a:srgbClr val="4c32b8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c32b8"/>
                </a:solidFill>
                <a:latin typeface="Tahoma"/>
              </a:rPr>
              <a:t>On that day people send valentine cards and presents to their boyfriends and girlfrie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1692360" y="333360"/>
            <a:ext cx="5545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St Valentine's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611" name="" descr=""/>
          <p:cNvPicPr/>
          <p:nvPr/>
        </p:nvPicPr>
        <p:blipFill>
          <a:blip r:embed="rId1"/>
          <a:stretch/>
        </p:blipFill>
        <p:spPr>
          <a:xfrm>
            <a:off x="324000" y="4869000"/>
            <a:ext cx="2016000" cy="1701720"/>
          </a:xfrm>
          <a:prstGeom prst="rect">
            <a:avLst/>
          </a:prstGeom>
          <a:ln w="0">
            <a:noFill/>
          </a:ln>
        </p:spPr>
      </p:pic>
      <p:pic>
        <p:nvPicPr>
          <p:cNvPr id="1612" name="" descr=""/>
          <p:cNvPicPr/>
          <p:nvPr/>
        </p:nvPicPr>
        <p:blipFill>
          <a:blip r:embed="rId2"/>
          <a:stretch/>
        </p:blipFill>
        <p:spPr>
          <a:xfrm>
            <a:off x="6372360" y="4365720"/>
            <a:ext cx="2057400" cy="1650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Red hearts, birds, love letters, candles, chocolates and kisses are the symbols of St Valentine’s da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1873080" cy="165564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"/>
          <a:stretch/>
        </p:blipFill>
        <p:spPr>
          <a:xfrm>
            <a:off x="7380360" y="2565360"/>
            <a:ext cx="1536480" cy="1890720"/>
          </a:xfrm>
          <a:prstGeom prst="rect">
            <a:avLst/>
          </a:prstGeom>
          <a:ln w="0">
            <a:noFill/>
          </a:ln>
        </p:spPr>
      </p:pic>
      <p:pic>
        <p:nvPicPr>
          <p:cNvPr id="1616" name="" descr=""/>
          <p:cNvPicPr/>
          <p:nvPr/>
        </p:nvPicPr>
        <p:blipFill>
          <a:blip r:embed="rId3"/>
          <a:stretch/>
        </p:blipFill>
        <p:spPr>
          <a:xfrm>
            <a:off x="3059280" y="4076640"/>
            <a:ext cx="3365280" cy="24336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128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990720" y="2997000"/>
            <a:ext cx="6781680" cy="27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It’s the day when practical jokes are playe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1979640" y="907920"/>
            <a:ext cx="5184720" cy="18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pril Fool's Day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20" name="" descr=""/>
          <p:cNvPicPr/>
          <p:nvPr/>
        </p:nvPicPr>
        <p:blipFill>
          <a:blip r:embed="rId1"/>
          <a:stretch/>
        </p:blipFill>
        <p:spPr>
          <a:xfrm>
            <a:off x="7596360" y="1557360"/>
            <a:ext cx="1368360" cy="2273400"/>
          </a:xfrm>
          <a:prstGeom prst="rect">
            <a:avLst/>
          </a:prstGeom>
          <a:ln w="0">
            <a:noFill/>
          </a:ln>
        </p:spPr>
      </p:pic>
      <p:pic>
        <p:nvPicPr>
          <p:cNvPr id="1621" name="" descr=""/>
          <p:cNvPicPr/>
          <p:nvPr/>
        </p:nvPicPr>
        <p:blipFill>
          <a:blip r:embed="rId2"/>
          <a:stretch/>
        </p:blipFill>
        <p:spPr>
          <a:xfrm>
            <a:off x="6300720" y="4581360"/>
            <a:ext cx="1656000" cy="1681200"/>
          </a:xfrm>
          <a:prstGeom prst="rect">
            <a:avLst/>
          </a:prstGeom>
          <a:ln w="0">
            <a:noFill/>
          </a:ln>
        </p:spPr>
      </p:pic>
      <p:pic>
        <p:nvPicPr>
          <p:cNvPr id="16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964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4:51:04Z</dcterms:created>
  <dc:creator>User</dc:creator>
  <dc:description/>
  <dc:language>en-US</dc:language>
  <cp:lastModifiedBy>New user</cp:lastModifiedBy>
  <dcterms:modified xsi:type="dcterms:W3CDTF">2007-05-04T15:47:06Z</dcterms:modified>
  <cp:revision>5</cp:revision>
  <dc:subject/>
  <dc:title>Слайд 1</dc:title>
</cp:coreProperties>
</file>