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applause.wav" ContentType="audio/x-wav"/>
  <Override PartName="/ppt/media/image3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910-223E-4382-B6BC-7444FCDB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873-26EF-4731-BD61-04BB3A28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80B-1236-4B05-9026-8A185278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AF7-88E5-422E-938A-4D3F5656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594-B5C0-4BB4-A01D-ED0099DF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00E-D050-4AA2-8B97-7360DF65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871-75D8-4C0C-8FF3-D433C918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75D-089A-47A8-B3A3-CDB8E57B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924-034E-4804-8277-B683039A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86E-0FFA-4FA4-ADEC-90C340E5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1A5-4C17-48AB-91BB-29FD9C87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0D0-D948-4BC9-859D-6F59AB39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9FFC-0DD0-4A45-9DA4-4EFEF50ABD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ятно 2 5"/>
          <p:cNvSpPr/>
          <p:nvPr/>
        </p:nvSpPr>
        <p:spPr>
          <a:xfrm>
            <a:off x="1285920" y="0"/>
            <a:ext cx="4857840" cy="4357800"/>
          </a:xfrm>
          <a:prstGeom prst="irregularSeal2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Our cla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9" descr=""/>
          <p:cNvPicPr/>
          <p:nvPr/>
        </p:nvPicPr>
        <p:blipFill>
          <a:blip r:embed="rId2"/>
          <a:stretch/>
        </p:blipFill>
        <p:spPr>
          <a:xfrm>
            <a:off x="5143680" y="3571920"/>
            <a:ext cx="3786120" cy="3100320"/>
          </a:xfrm>
          <a:prstGeom prst="rect">
            <a:avLst/>
          </a:prstGeom>
          <a:ln w="0">
            <a:noFill/>
          </a:ln>
        </p:spPr>
      </p:pic>
      <p:sp>
        <p:nvSpPr>
          <p:cNvPr id="44" name="Табличка 9"/>
          <p:cNvSpPr/>
          <p:nvPr/>
        </p:nvSpPr>
        <p:spPr>
          <a:xfrm>
            <a:off x="1928880" y="4429080"/>
            <a:ext cx="2714400" cy="2000160"/>
          </a:xfrm>
          <a:custGeom>
            <a:avLst/>
            <a:gdLst>
              <a:gd name="textAreaLeft" fmla="*/ 235440 w 2714400"/>
              <a:gd name="textAreaRight" fmla="*/ 2478960 w 2714400"/>
              <a:gd name="textAreaTop" fmla="*/ 235440 h 2000160"/>
              <a:gd name="textAreaBottom" fmla="*/ 1764720 h 2000160"/>
            </a:gdLst>
            <a:ahLst/>
            <a:rect l="textAreaLeft" t="textAreaTop" r="textAreaRight" b="textAreaBottom"/>
            <a:pathLst>
              <a:path w="29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712" y="21600"/>
                </a:lnTo>
                <a:arcTo wR="3600" hR="3600" stAng="10800000" swAng="5400000"/>
                <a:lnTo>
                  <a:pt x="29312" y="3600"/>
                </a:lnTo>
                <a:arcTo wR="3600" hR="3600" stAng="5400000" swAng="5400000"/>
                <a:close/>
              </a:path>
            </a:pathLst>
          </a:cu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Bernard MT Condensed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Горизонтальный свиток 10"/>
          <p:cNvSpPr/>
          <p:nvPr/>
        </p:nvSpPr>
        <p:spPr>
          <a:xfrm>
            <a:off x="6215040" y="214200"/>
            <a:ext cx="3429000" cy="2500560"/>
          </a:xfrm>
          <a:prstGeom prst="horizontalScrol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ut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T. Potryas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638520" y="2567160"/>
            <a:ext cx="5372280" cy="4132080"/>
          </a:xfrm>
          <a:prstGeom prst="rect">
            <a:avLst/>
          </a:prstGeom>
          <a:ln w="0">
            <a:noFill/>
          </a:ln>
        </p:spPr>
      </p:pic>
      <p:sp>
        <p:nvSpPr>
          <p:cNvPr id="47" name="Выноска-облако 2"/>
          <p:cNvSpPr/>
          <p:nvPr/>
        </p:nvSpPr>
        <p:spPr>
          <a:xfrm>
            <a:off x="3786120" y="0"/>
            <a:ext cx="5000760" cy="2428920"/>
          </a:xfrm>
          <a:prstGeom prst="cloudCallout">
            <a:avLst>
              <a:gd name="adj1" fmla="val -19648"/>
              <a:gd name="adj2" fmla="val 6873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Hi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is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our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с двумя скругленными противолежащими углами 3"/>
          <p:cNvSpPr/>
          <p:nvPr/>
        </p:nvSpPr>
        <p:spPr>
          <a:xfrm>
            <a:off x="285840" y="214200"/>
            <a:ext cx="3143160" cy="642960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"/>
              </a:rPr>
              <a:t>W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"/>
              </a:rPr>
              <a:t>are the students of the sixth grade. Our class is very big. There are 20 pupils i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edge/>
    <p:sndAc>
      <p:stSnd>
        <p:snd r:embed="rId2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6:36:01Z</dcterms:created>
  <dc:creator>ooo</dc:creator>
  <dc:description/>
  <dc:language>en-US</dc:language>
  <cp:lastModifiedBy>ooo</cp:lastModifiedBy>
  <dcterms:modified xsi:type="dcterms:W3CDTF">2012-11-03T16:57:26Z</dcterms:modified>
  <cp:revision>7</cp:revision>
  <dc:subject/>
  <dc:title>Слайд 1</dc:title>
</cp:coreProperties>
</file>