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A14-37DB-4946-92A1-4BC0146E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4B3-A7E9-4733-AF48-A1305820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252-19C9-4D60-BC33-86C1C5AC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1E0-6913-435C-BDBC-B9DBB86A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10F1-2EB1-42ED-ABBD-29C06302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3AB3-907F-4F6C-A8E1-F09C63DE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3476-BC73-4B87-8611-01766833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33C7-D746-41CE-B0A9-95CD76A5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175B-637F-4E63-95D3-A9C148BC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772C-CFC2-458B-B5B2-AD600059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6475-544F-46DA-9D34-FAB09A3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A3B-6682-4125-8B89-B7A67023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5C54-F417-47DF-98BD-64EB72C2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E3AC-C338-4AA0-AF2A-46EE1ED0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D5CD-9213-4FB0-B39A-CE3A712C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4AB0-DF70-4086-BCB7-E1888CF2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C27D-330A-4CF8-9AB9-39226BCF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DA35-1D2B-4E3E-9309-91EF0148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3523-13F9-4D85-936F-E13D1624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356A-37BA-455F-B1DA-4165FDDF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063FB-F093-4CD8-A922-BEB50B8D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16AAA-4FE5-4A6E-9DC3-BEF9C53C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09C-4EBC-482F-B92C-1B38DD78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B57F-1681-473C-8FBD-D974930D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D0A7-0FAF-4776-BADC-DCED228C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9829-FDB6-42E7-A2B8-D4D93BC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8ACF-7884-4804-8F81-DA911F0D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68FAB-B60E-4EBD-B33E-AAD11C74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6130-5A34-4A59-BB3E-61A9BD72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9E311-EAE5-4DFE-B2EB-1462D796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0BA-3187-4916-BFA6-2060F01C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988-1F24-4918-986B-669354F5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D9C-5B71-418A-ACB0-E361290B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90C-9A58-4F7F-BFE5-04B7D6F5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FD7-2CED-4A94-901B-2BA8F6F2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9E9-7CA9-4FC1-9364-A5DE7C7A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B8E0-4D7B-41A8-89EA-73944B554B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35AE-0B13-41B3-9FD9-3006B7EB99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2EAD-1612-40A3-8449-79E1314635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89840" cy="619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Тема проекта: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«Использование информационных технологий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 учебно-воспитательном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роцессе начальной школы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3739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учение на базе компьютера – всевозможные формы передачи знаний обучаем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вание с помощью компьютера – передача знаний, при наличии специальной системы оценки качества усвоения зн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коммуникации – программные средства информационных технологий обучения и образовательных технологий выстраиваются в качестве подсист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ПОД ИНФОРМАЦИОННОЙ КУЛЬТУР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нимается умение целенаправленно работать с информацией ( поиск, отбор, создание и тиражирование) и использовать её для получения, обработки и передачи средствами информатизации и информационных техноло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Выпускники начальной ступени должны владеть следующими компетенциям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5960" indent="-615960">
              <a:spcBef>
                <a:spcPts val="799"/>
              </a:spcBef>
              <a:buClr>
                <a:srgbClr val="ff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товность к постоянной работе над собой для овладения культурой учебной и трудов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5960" indent="-615960">
              <a:spcBef>
                <a:spcPts val="799"/>
              </a:spcBef>
              <a:buClr>
                <a:srgbClr val="ff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явление интереса к познанию окружающего мира, природных, социокультурных особенностей реги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концентрировать волю и терпение при преодолении трудностей, возникающих в учебной деятельности и во взаимоотношении с разными людь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нательное и безопасное использование основных технических средств в бы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новый бо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5" descr="Рисунок3"/>
          <p:cNvPicPr/>
          <p:nvPr/>
        </p:nvPicPr>
        <p:blipFill>
          <a:blip r:embed="rId1"/>
          <a:stretch/>
        </p:blipFill>
        <p:spPr>
          <a:xfrm>
            <a:off x="1835280" y="2133720"/>
            <a:ext cx="525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179280" y="189000"/>
            <a:ext cx="84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a4"/>
                </a:solidFill>
                <a:latin typeface="Arial"/>
              </a:rPr>
              <a:t>Река Волг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Рисунок5"/>
          <p:cNvPicPr/>
          <p:nvPr/>
        </p:nvPicPr>
        <p:blipFill>
          <a:blip r:embed="rId1"/>
          <a:stretch/>
        </p:blipFill>
        <p:spPr>
          <a:xfrm>
            <a:off x="1332000" y="1916280"/>
            <a:ext cx="590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3"/>
          <p:cNvSpPr/>
          <p:nvPr/>
        </p:nvSpPr>
        <p:spPr>
          <a:xfrm>
            <a:off x="5435640" y="549360"/>
            <a:ext cx="352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a4"/>
                </a:solidFill>
                <a:latin typeface="Arial"/>
              </a:rPr>
              <a:t>Река Холын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a4"/>
                </a:solidFill>
                <a:latin typeface="Arial"/>
              </a:rPr>
              <a:t>Левый приток Волг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Рисунок6"/>
          <p:cNvPicPr/>
          <p:nvPr/>
        </p:nvPicPr>
        <p:blipFill>
          <a:blip r:embed="rId1"/>
          <a:stretch/>
        </p:blipFill>
        <p:spPr>
          <a:xfrm>
            <a:off x="684360" y="476280"/>
            <a:ext cx="3816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560" y="2491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Цель педагогического проекта –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здание педагогических условий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ля использования информационно-коммуникационных технологий в учебно-воспитательном процессе начальной школ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Для реализации цели необходимо решить ряд задач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Охарактеризовать особенности информационно-коммуникационных технологий в образова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Раскрыть роль и эффективность использования информационно-коммуникационных технологий в учебно-воспитательном проце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Разработать содержательно-организационную модель (проектную часть) использования информационных технологий в учебно-воспитательном процессе начальной шко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Новая информационная технолог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влетворяет основным принципам педагогической технологии (предварительное проектирование, воспроизводимость, целеполагание, целостность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ает задачи, которые ранее в дидактике не были теоретически или практически реше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Способы информатизации процесса обуч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оптимального учебного плана шко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электронных моделей школьных учеб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внутришкольного педагогического мониторин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и проведение полного внутришкольного психологического мониторин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6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68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 Построение и проведение полного внутришкольного мониторинга здоровья и физического развития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 Прогнозирование результатов обучения учащихся и класса в цел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 Оптимизация распределения учебного времени внутри предмета и по классу в цел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 Дифференцированный и индивидуальный подход к ученик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 Оптимальный отбор форм и методов работы на уро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76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12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08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Построение оптимальной системы уроков и каждого урока по 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. Оптимальное сочетание управления и самоуправления учебно-познавательной деятельностью на уро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. Текущий анализ, самоанализ и оперативное регулирование процесса обу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3.  Тематический анализ, самоанализ и стратегическое регулирование процесса обу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32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96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76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«ИНФОРМАЦИОННЫЕ ТЕХНОЛОГИИ –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совокупность знаний о способах и средствах работы с информационными ресурсами, и способ сбора, обработки и передачи информации для получения новых сведений об изучаемом объект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И.Г.Захаров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Классификация компьютерных технологий обуче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675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ое программное обучение – обеспечивает реализацию механизма с помощью соответствующих компьютерных програм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ие с помощью компьютера – самостоятельная работа по изучению нового материала с помощью различных средств, в том числе и компью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ие на базе компьютера – использование программных средств, обеспечивающих эффективную самостоятельную работу обучаемых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1:38:24Z</dcterms:created>
  <dc:creator>Учитель</dc:creator>
  <dc:description/>
  <dc:language>en-US</dc:language>
  <cp:lastModifiedBy>User</cp:lastModifiedBy>
  <dcterms:modified xsi:type="dcterms:W3CDTF">2012-12-03T18:18:17Z</dcterms:modified>
  <cp:revision>19</cp:revision>
  <dc:subject/>
  <dc:title>Тема: «Использование информационных технологий в учебно-воспитательном процессе начальной школе»</dc:title>
</cp:coreProperties>
</file>