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A5E-BAD0-4267-8EBB-F9877CE1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9B09-08B0-4228-B8B7-6D3021C0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ADA-04A5-421F-960C-2D1698ED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E5E-ACE7-4376-B0BF-D2ACEDF7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2BAE-37CA-42A4-962A-D69C4876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49FB-8E71-4C03-9D67-0171074F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8DB8-FD43-4B57-800F-589F0739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A324-654F-40F5-A2C4-4DD2B139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7212-313B-496E-8449-0E091A39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AB8D-DA6E-472F-9B62-FD25ADA8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8E88-2213-4731-9A5F-74A9DCC3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961-14DC-452F-992B-4D6ACE5D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1C63-5F7F-4085-893D-6E22AAB7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3FB1-3C68-40B2-B976-C25BA18D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B169-4829-494C-BDC9-FA3D82CA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3999-69C0-49CE-8CD6-8F569185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ABAA-66DE-4461-9101-8904F1AF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93C-3FA5-46CA-A377-242A1F2A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763-F458-4C85-A4C0-DD7B36A6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3AD-F298-42D2-AC40-5E7D932F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CF12-582F-44FA-8CC8-CE5FD443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F9B-F490-4CAF-B6CC-CD69C114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B21-A654-43C5-923F-70C6C739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32E-BF07-4F56-AFAA-25707CBE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1FC4-BC0B-4454-974E-B6F5A3EFDE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C90C-BBD2-42D1-A32B-371AC932CB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акова роль самообразования в развитии профессиональной компетентности учител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32000" y="980640"/>
            <a:ext cx="6400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Самообразован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это целенаправленная познавательная деятельность, управляемая самой личностью; приобретение систематических знаний в какой-либо области нау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Самообразов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уществляется доброволь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уществляется сознатель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анируется, управляется и контролируется самим челове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обходимо для совершенствования каких-либо качеств и навы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195640" y="907920"/>
            <a:ext cx="51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Формы самообразования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328464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дивидуальная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21300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Группов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123640" y="2349360"/>
            <a:ext cx="1295640" cy="72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2421000"/>
            <a:ext cx="1511640" cy="72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Направления самообразов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фессиональное (предмет преподава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сихолого-педагогическое и психологическ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тодическ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стетическ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области ИКТ –технологий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области охраны здоров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итическ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Языков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Самообразование осуществляется посредством следующих видов деятельности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осмотр телепередач,  чтение пресс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Знакомство с педагогической и методической литературо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Регулярное использование информации из Интерне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сещение семинаров, тренингов, конференций, уроков колле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истематическое повышение квалификац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ие современных психологических и педагогических методи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истематическая демонстрация собственного педагогического опы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нимание к собственному физическому и психическому здоров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Значение самообразования для профессиональной компетентности учител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овышение качества преподавания предм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Готовность к педагогическому творчеств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рофессиональный и карьерный рос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оздание имиджа современного учителя –  новатора, учителя-мастера, учителя-наставни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оответствие учителя требованиям  общества и государст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71640" y="907920"/>
            <a:ext cx="74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ff99"/>
                </a:solidFill>
                <a:latin typeface="Arial"/>
              </a:rPr>
              <a:t>Профессиональное самовоспитание, самообразование и самовыражение - это основные условия для формирования авторитета педагог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3:39:24Z</dcterms:created>
  <dc:creator>Ученик</dc:creator>
  <dc:description/>
  <dc:language>en-US</dc:language>
  <cp:lastModifiedBy>Users</cp:lastModifiedBy>
  <dcterms:modified xsi:type="dcterms:W3CDTF">2010-01-20T07:44:07Z</dcterms:modified>
  <cp:revision>3</cp:revision>
  <dc:subject/>
  <dc:title>Какова роль самообразования в развитии профессиональной компетентности учителя?</dc:title>
</cp:coreProperties>
</file>