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5.jpeg" ContentType="image/jpeg"/>
  <Override PartName="/ppt/media/image32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38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0.jpeg" ContentType="image/jpeg"/>
  <Override PartName="/ppt/media/image24.jpeg" ContentType="image/jpeg"/>
  <Override PartName="/ppt/media/image31.png" ContentType="image/png"/>
  <Override PartName="/ppt/media/image33.png" ContentType="image/png"/>
  <Override PartName="/ppt/media/image14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6EFF-AA86-4D9A-9284-0EFC5A9E6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6E01-18C0-45AA-A8DE-653725F2F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41CD-9C0A-415F-8A29-2397DF005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780C-E1C2-48DE-A978-728C5EBA2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AED2-7C9A-4586-A4BB-483A13D0A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8771-EDCC-45F5-88CA-E075FBC01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CA4A-3E22-43EB-BDAF-35F5EE4EB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6CC8-26D5-4799-9936-520D290A8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A11C-0008-4EEC-B82B-6D920BA8B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4D38-355B-484E-B135-FA982B68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0BF9-5F12-48EC-A80E-9686150F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7748-7634-4B90-874A-3A7D5330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a6eaf8"/>
            </a:gs>
            <a:gs pos="100000">
              <a:srgbClr val="ffff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0212F-E2DD-4C08-A0EA-39051562B0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редства пожаротуш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4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2419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475920"/>
            <a:ext cx="4038480" cy="6119640"/>
          </a:xfrm>
          <a:prstGeom prst="rect">
            <a:avLst/>
          </a:prstGeom>
          <a:solidFill>
            <a:srgbClr val="b3deeb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гнетушитель ОП-1(з) А, В, С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сса заряда порошка не менее: 0,9кг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гнетушащее вещество - огнетушащий порошок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ина струи огнетушащего вещества: 3м.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должительность подачи огнетушащего вещества: 5с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сса огнетушителя не более: 2,8кг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абаритные размеры: 316 * 135 * 100мм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гнетушитель ОП-2(з) А, В, С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сса заряда порошка не менее: 1,5кг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гнетушащее вещество - огнетушащий порошок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ина струи огнетушащего вещества: 3м.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должительность подачи огнетушащего вещества: 5с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сса огнетушителя не более: 3,7кг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абаритные размеры: 325 * 150 * 130м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op1(3)"/>
          <p:cNvPicPr/>
          <p:nvPr/>
        </p:nvPicPr>
        <p:blipFill>
          <a:blip r:embed="rId1"/>
          <a:stretch/>
        </p:blipFill>
        <p:spPr>
          <a:xfrm>
            <a:off x="7599240" y="476280"/>
            <a:ext cx="1544760" cy="3357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op2(3)"/>
          <p:cNvPicPr/>
          <p:nvPr/>
        </p:nvPicPr>
        <p:blipFill>
          <a:blip r:embed="rId2"/>
          <a:stretch/>
        </p:blipFill>
        <p:spPr>
          <a:xfrm>
            <a:off x="6877080" y="3141720"/>
            <a:ext cx="142704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4038480" cy="5721480"/>
          </a:xfrm>
          <a:prstGeom prst="rect">
            <a:avLst/>
          </a:prstGeom>
          <a:solidFill>
            <a:srgbClr val="b3deeb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Огнетушитель ОП-3(з) А, В, С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сса заряда порошка не менее: 2,3кг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гнетушащее вещество - огнетушащий порошок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лина струи огнетушащего вещества: 3м. 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должительность подачи огнетушащего вещества: 5с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сса огнетушителя не более: 5кг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абаритные размеры: 325 * 150 * 130мм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Огнетушитель ОП-4(з) А, В, С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сса заряда порошка не менее: 3,7кг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гнетушащее вещество - огнетушащий порошок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лина струи огнетушащего вещества: 3,5м. 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должительность подачи огнетушащего вещества: 6с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сса огнетушителя не более: 6,6кг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абаритные размеры: 450 * 320 * 300м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op3(3)"/>
          <p:cNvPicPr/>
          <p:nvPr/>
        </p:nvPicPr>
        <p:blipFill>
          <a:blip r:embed="rId1"/>
          <a:stretch/>
        </p:blipFill>
        <p:spPr>
          <a:xfrm>
            <a:off x="7702560" y="260280"/>
            <a:ext cx="1441440" cy="3168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op5(3)"/>
          <p:cNvPicPr/>
          <p:nvPr/>
        </p:nvPicPr>
        <p:blipFill>
          <a:blip r:embed="rId2"/>
          <a:stretch/>
        </p:blipFill>
        <p:spPr>
          <a:xfrm>
            <a:off x="6084720" y="3141720"/>
            <a:ext cx="279720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464000" y="549360"/>
            <a:ext cx="4680000" cy="5904000"/>
          </a:xfrm>
          <a:prstGeom prst="rect">
            <a:avLst/>
          </a:prstGeom>
          <a:solidFill>
            <a:srgbClr val="b3deeb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гнетушитель ОП-50(з) А, В, С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сса заряда порошка не менее: 42,5кг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гнетушащее вещество - огнетушащий порошок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ина струи огнетушащего вещества: 6м.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должительность подачи огнетушащего вещества: 20с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сса огнетушителя не более: 85кг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абаритные размеры: 1020 * 460 * 480мм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гнетушитель ОП-100(з) А, В, С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сса заряда порошка не менее: 79кг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гнетушащее вещество - огнетушащий порошок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ина струи огнетушащего вещества: 6м.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должительность подачи огнетушащего вещества: 30с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сса огнетушителя не более: 135кг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абаритные размеры: 1090 * 640 * 630м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op50(3)"/>
          <p:cNvPicPr/>
          <p:nvPr/>
        </p:nvPicPr>
        <p:blipFill>
          <a:blip r:embed="rId1"/>
          <a:stretch/>
        </p:blipFill>
        <p:spPr>
          <a:xfrm>
            <a:off x="0" y="260280"/>
            <a:ext cx="1685880" cy="3673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op100(3)"/>
          <p:cNvPicPr/>
          <p:nvPr/>
        </p:nvPicPr>
        <p:blipFill>
          <a:blip r:embed="rId2"/>
          <a:stretch/>
        </p:blipFill>
        <p:spPr>
          <a:xfrm>
            <a:off x="0" y="3141720"/>
            <a:ext cx="201600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-360" y="260280"/>
            <a:ext cx="3887640" cy="6408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"ОУ-1" - огнетушитель углекислотный (вместимость - 1 лит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гнетушители углекислотные "ОУ-1" предназначены для тушения горения жидкостей, газов, твердых материалов и электроустановок, находящихся под напряжением не более 10 кВ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гнетушащее вещество – двуокись углерода.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обенн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ушение электрооборудования под напряжением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применяется для тушения веществ горящих без доступа воздуха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хнические характеристики "ОУ-1"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сса заряда, кг: 1,4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местимость, л: 1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меры, мм: 440x120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с с зарядом, мм: 5,4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fire-ou-1"/>
          <p:cNvPicPr/>
          <p:nvPr/>
        </p:nvPicPr>
        <p:blipFill>
          <a:blip r:embed="rId1"/>
          <a:stretch/>
        </p:blipFill>
        <p:spPr>
          <a:xfrm>
            <a:off x="4667400" y="1268280"/>
            <a:ext cx="4081320" cy="446580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8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8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8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8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8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8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8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8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-360" y="404280"/>
            <a:ext cx="7978680" cy="57610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уран-8-Н" - модуль порошковог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жаротушения для настенного креп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 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дуль порошкового пожаротушения (МПП) "Буран-8" применяется для тушения пожаров при горении твердых и жидких горючих материалов, а также для тушения электрооборудования под напряжени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обен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тера "Н" - для настенного крепления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ушение электрооборудования под напряжением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применяется для тушения веществ горящих без доступа воздуха Технические характеристики "Буран-8-Н"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ощадь, м2 по очагам класса 'А': 32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ъем, м3 по очагам класса 'А': 64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ощадь, м2 по очагам класса 'В': 20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ъем, м3 по очагам класса 'В': 31 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fire-buran-8-n"/>
          <p:cNvPicPr/>
          <p:nvPr/>
        </p:nvPicPr>
        <p:blipFill>
          <a:blip r:embed="rId1"/>
          <a:stretch/>
        </p:blipFill>
        <p:spPr>
          <a:xfrm>
            <a:off x="6407280" y="4292640"/>
            <a:ext cx="2736720" cy="25653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19280" y="475920"/>
            <a:ext cx="842472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орудование оповещения и озвучивания 'Ivolga‘, «Орфей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opow-ivolga"/>
          <p:cNvPicPr/>
          <p:nvPr/>
        </p:nvPicPr>
        <p:blipFill>
          <a:blip r:embed="rId1"/>
          <a:stretch/>
        </p:blipFill>
        <p:spPr>
          <a:xfrm>
            <a:off x="5219640" y="1989000"/>
            <a:ext cx="3460680" cy="346104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pic>
        <p:nvPicPr>
          <p:cNvPr id="81" name="Picture 5" descr="opow-orfej"/>
          <p:cNvPicPr/>
          <p:nvPr/>
        </p:nvPicPr>
        <p:blipFill>
          <a:blip r:embed="rId2"/>
          <a:stretch/>
        </p:blipFill>
        <p:spPr>
          <a:xfrm>
            <a:off x="539640" y="1989000"/>
            <a:ext cx="3533760" cy="353376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932000" y="404280"/>
            <a:ext cx="4211640" cy="6193080"/>
          </a:xfrm>
          <a:prstGeom prst="rect">
            <a:avLst/>
          </a:prstGeom>
          <a:solidFill>
            <a:srgbClr val="ecb2d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ымовые пожарные извещател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рименяются в системах пожарной сигнализации для обнаружения загорания, сопровождающегося появлением дыма.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 способу питания и передачи тревожного сигнала на контрольный прибор дымовые датчики подразделяются на автономные и проводные. Автономные дымовые датчики имеют встроенную сирену и источник питания (батарею).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инейные дымовые датчики используют в качестве чувствительного элемента для обнаружения дыма инфракрасный луч, излучаемый передатчиком и обрабатываемый приемником. Контролируемая дальность может достигать 100 м и площадь контроля одного извещателя до 1000 м2.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тролируемая площадь одного точечного дымового извещателя до 85 м2, в зависимости от высоты установ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sigdym"/>
          <p:cNvPicPr/>
          <p:nvPr/>
        </p:nvPicPr>
        <p:blipFill>
          <a:blip r:embed="rId1"/>
          <a:stretch/>
        </p:blipFill>
        <p:spPr>
          <a:xfrm>
            <a:off x="0" y="765000"/>
            <a:ext cx="4788000" cy="5185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564000" y="189000"/>
            <a:ext cx="5580000" cy="648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хранно-пожарная сигнализация (ОПС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временная охранно-пожарная сигнализация (ОПС) - представляет собой комплекс оборудования, который позволяет своевременно обнаружить проникновение в охраняемую зону или возникновение пожара на объекте.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ые функции охранно-пожарной сигнализа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троль и обработка информации с извещателей охранно-пожарной сигнализа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вуковое, световое и текстовое оповещение службы охраны о событиях на охраняемом объек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ключение системы речевого оповещения о чрезвычайных ситуациях, управление системами вентиляции, автоматического пожаротушения и дымоуда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сообщений на пульт центрального наблюдения (ПЦН) или владельцу при помощи проводных, радио и GSM каналов связ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хранно-пожарная сигнализация может быть интегрирована в комплекс систем безопасности включающий системы видеонаблюдения и контроля доступа.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signal"/>
          <p:cNvPicPr/>
          <p:nvPr/>
        </p:nvPicPr>
        <p:blipFill>
          <a:blip r:embed="rId1"/>
          <a:stretch/>
        </p:blipFill>
        <p:spPr>
          <a:xfrm>
            <a:off x="0" y="1413000"/>
            <a:ext cx="3886200" cy="381636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5280" y="404280"/>
            <a:ext cx="4183200" cy="5185080"/>
          </a:xfrm>
          <a:prstGeom prst="rect">
            <a:avLst/>
          </a:prstGeom>
          <a:solidFill>
            <a:srgbClr val="ecb2d9"/>
          </a:solidFill>
          <a:ln w="1260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омофоны и                             видеодомофон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мофон  - это самое распространенное устройство для обеспечения безопасности и доступа в квартирах, офисах и т.д., позволяющее говорить с посетителем и дистанционно открыть ему дверь.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мофоны могут работать в составе системы контроля доступа или автономно и выпускаются на несколько абонентов, несколько дверей,  с блоком памяти изображений и т. д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domof"/>
          <p:cNvPicPr/>
          <p:nvPr/>
        </p:nvPicPr>
        <p:blipFill>
          <a:blip r:embed="rId1"/>
          <a:stretch/>
        </p:blipFill>
        <p:spPr>
          <a:xfrm>
            <a:off x="4643280" y="1989000"/>
            <a:ext cx="4500720" cy="4494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Фото 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i?id=6222244&amp;tov=5"/>
          <p:cNvPicPr/>
          <p:nvPr/>
        </p:nvPicPr>
        <p:blipFill>
          <a:blip r:embed="rId2"/>
          <a:stretch/>
        </p:blipFill>
        <p:spPr>
          <a:xfrm>
            <a:off x="5940360" y="4365720"/>
            <a:ext cx="3203640" cy="243684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img001"/>
          <p:cNvPicPr/>
          <p:nvPr/>
        </p:nvPicPr>
        <p:blipFill>
          <a:blip r:embed="rId1"/>
          <a:stretch/>
        </p:blipFill>
        <p:spPr>
          <a:xfrm>
            <a:off x="2050920" y="1041480"/>
            <a:ext cx="5042160" cy="46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Фото 6"/>
          <p:cNvPicPr/>
          <p:nvPr/>
        </p:nvPicPr>
        <p:blipFill>
          <a:blip r:embed="rId1"/>
          <a:stretch/>
        </p:blipFill>
        <p:spPr>
          <a:xfrm>
            <a:off x="0" y="0"/>
            <a:ext cx="3564000" cy="320688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pic>
        <p:nvPicPr>
          <p:cNvPr id="95" name="Picture 7" descr="Фото 4"/>
          <p:cNvPicPr/>
          <p:nvPr/>
        </p:nvPicPr>
        <p:blipFill>
          <a:blip r:embed="rId2"/>
          <a:stretch/>
        </p:blipFill>
        <p:spPr>
          <a:xfrm>
            <a:off x="5508720" y="0"/>
            <a:ext cx="3635280" cy="321300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  <p:pic>
        <p:nvPicPr>
          <p:cNvPr id="96" name="Picture 9" descr="Фото 5"/>
          <p:cNvPicPr/>
          <p:nvPr/>
        </p:nvPicPr>
        <p:blipFill>
          <a:blip r:embed="rId3"/>
          <a:stretch/>
        </p:blipFill>
        <p:spPr>
          <a:xfrm>
            <a:off x="2556000" y="3200400"/>
            <a:ext cx="3816360" cy="3657600"/>
          </a:xfrm>
          <a:prstGeom prst="rect">
            <a:avLst/>
          </a:prstGeom>
          <a:ln w="12600">
            <a:solidFill>
              <a:srgbClr val="a6ea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3960720" cy="3989520"/>
          </a:xfrm>
          <a:prstGeom prst="rect">
            <a:avLst/>
          </a:prstGeom>
          <a:solidFill>
            <a:srgbClr val="ecb2d9"/>
          </a:solidFill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оевая одежда предназначена для защиты от воды, пониженных температур, водных растворов ПАВ и тепловых излучений. 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сть несколько видов костюмов: 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костюмы теплоотражающие 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костюмы брезентовые 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огнетермостойкая боевая одежд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f1"/>
          <p:cNvPicPr/>
          <p:nvPr/>
        </p:nvPicPr>
        <p:blipFill>
          <a:blip r:embed="rId1"/>
          <a:stretch/>
        </p:blipFill>
        <p:spPr>
          <a:xfrm>
            <a:off x="3708360" y="333360"/>
            <a:ext cx="4032360" cy="6120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f4"/>
          <p:cNvPicPr/>
          <p:nvPr/>
        </p:nvPicPr>
        <p:blipFill>
          <a:blip r:embed="rId2"/>
          <a:stretch/>
        </p:blipFill>
        <p:spPr>
          <a:xfrm>
            <a:off x="5796000" y="1413000"/>
            <a:ext cx="3965400" cy="619272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2"/>
          <p:cNvSpPr/>
          <p:nvPr/>
        </p:nvSpPr>
        <p:spPr>
          <a:xfrm>
            <a:off x="826920" y="333360"/>
            <a:ext cx="49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оевая одежда пожар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8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l1"/>
          <p:cNvPicPr/>
          <p:nvPr/>
        </p:nvPicPr>
        <p:blipFill>
          <a:blip r:embed="rId1"/>
          <a:stretch/>
        </p:blipFill>
        <p:spPr>
          <a:xfrm>
            <a:off x="0" y="620640"/>
            <a:ext cx="3290760" cy="5832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f2"/>
          <p:cNvPicPr/>
          <p:nvPr/>
        </p:nvPicPr>
        <p:blipFill>
          <a:blip r:embed="rId2"/>
          <a:stretch/>
        </p:blipFill>
        <p:spPr>
          <a:xfrm>
            <a:off x="4572000" y="260280"/>
            <a:ext cx="5046840" cy="684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kih"/>
          <p:cNvPicPr/>
          <p:nvPr/>
        </p:nvPicPr>
        <p:blipFill>
          <a:blip r:embed="rId1"/>
          <a:stretch/>
        </p:blipFill>
        <p:spPr>
          <a:xfrm>
            <a:off x="0" y="304920"/>
            <a:ext cx="3695760" cy="6553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f5"/>
          <p:cNvPicPr/>
          <p:nvPr/>
        </p:nvPicPr>
        <p:blipFill>
          <a:blip r:embed="rId2"/>
          <a:stretch/>
        </p:blipFill>
        <p:spPr>
          <a:xfrm>
            <a:off x="5076720" y="0"/>
            <a:ext cx="318132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154400" y="0"/>
            <a:ext cx="498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пособы тушения пожа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хлаждение (например, водой). Охлаждающие вещества отнимают часть тепла, идущего на поддержание гор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оляция (например, пеной, песком или плотной тканью). Эти вещества прекращают доступ кислорода в зону гор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бавление газами, не поддерживающими горение, например, углекислым газом, азотом, водяным пар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имическое торможение реакции горения специальными веществами, например, бромэтилом или фреон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img415"/>
          <p:cNvPicPr/>
          <p:nvPr/>
        </p:nvPicPr>
        <p:blipFill>
          <a:blip r:embed="rId1"/>
          <a:stretch/>
        </p:blipFill>
        <p:spPr>
          <a:xfrm>
            <a:off x="0" y="1413000"/>
            <a:ext cx="4535640" cy="3538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img417"/>
          <p:cNvPicPr/>
          <p:nvPr/>
        </p:nvPicPr>
        <p:blipFill>
          <a:blip r:embed="rId2"/>
          <a:stretch/>
        </p:blipFill>
        <p:spPr>
          <a:xfrm>
            <a:off x="4716360" y="4194000"/>
            <a:ext cx="44276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Прямоугольник 6" descr=""/>
          <p:cNvPicPr/>
          <p:nvPr/>
        </p:nvPicPr>
        <p:blipFill>
          <a:blip r:embed="rId1"/>
          <a:stretch/>
        </p:blipFill>
        <p:spPr>
          <a:xfrm>
            <a:off x="811080" y="927000"/>
            <a:ext cx="729612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img414"/>
          <p:cNvPicPr/>
          <p:nvPr/>
        </p:nvPicPr>
        <p:blipFill>
          <a:blip r:embed="rId1"/>
          <a:stretch/>
        </p:blipFill>
        <p:spPr>
          <a:xfrm>
            <a:off x="1042920" y="549360"/>
            <a:ext cx="6877080" cy="5975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5"/>
          <p:cNvSpPr/>
          <p:nvPr/>
        </p:nvSpPr>
        <p:spPr>
          <a:xfrm>
            <a:off x="468360" y="1328760"/>
            <a:ext cx="5184720" cy="326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сновные средства тушения пожа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    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гонь безжалостен, но люди, подготовленные к этому стихийному бедствию, имеющие под руками даже элементарные средства пожаротушения, выходят победителями в борьбе с н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   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Огнетушитель"/>
          <p:cNvPicPr/>
          <p:nvPr/>
        </p:nvPicPr>
        <p:blipFill>
          <a:blip r:embed="rId2"/>
          <a:stretch/>
        </p:blipFill>
        <p:spPr>
          <a:xfrm>
            <a:off x="5867280" y="2708280"/>
            <a:ext cx="2694240" cy="331308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6"/>
          <p:cNvSpPr/>
          <p:nvPr/>
        </p:nvSpPr>
        <p:spPr>
          <a:xfrm>
            <a:off x="4911840" y="1073160"/>
            <a:ext cx="340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2843280" y="549360"/>
            <a:ext cx="3600360" cy="825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редства пожароту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1476360" y="3213000"/>
            <a:ext cx="32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2"/>
          <p:cNvSpPr/>
          <p:nvPr/>
        </p:nvSpPr>
        <p:spPr>
          <a:xfrm>
            <a:off x="5940360" y="2276640"/>
            <a:ext cx="237816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абе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3"/>
          <p:cNvSpPr/>
          <p:nvPr/>
        </p:nvSpPr>
        <p:spPr>
          <a:xfrm>
            <a:off x="1547640" y="2205000"/>
            <a:ext cx="2162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друч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4"/>
          <p:cNvSpPr/>
          <p:nvPr/>
        </p:nvSpPr>
        <p:spPr>
          <a:xfrm flipH="1">
            <a:off x="2987280" y="1628640"/>
            <a:ext cx="576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5"/>
          <p:cNvSpPr/>
          <p:nvPr/>
        </p:nvSpPr>
        <p:spPr>
          <a:xfrm>
            <a:off x="6012000" y="1557360"/>
            <a:ext cx="57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7" descr="Настоящий пожарный!  :)"/>
          <p:cNvPicPr/>
          <p:nvPr/>
        </p:nvPicPr>
        <p:blipFill>
          <a:blip r:embed="rId1"/>
          <a:stretch/>
        </p:blipFill>
        <p:spPr>
          <a:xfrm>
            <a:off x="5796000" y="2997360"/>
            <a:ext cx="3024000" cy="3579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5" name="Picture 18" descr="4"/>
          <p:cNvPicPr/>
          <p:nvPr/>
        </p:nvPicPr>
        <p:blipFill>
          <a:blip r:embed="rId2"/>
          <a:stretch/>
        </p:blipFill>
        <p:spPr>
          <a:xfrm>
            <a:off x="539640" y="2997360"/>
            <a:ext cx="1871640" cy="2303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9" descr="oddesk1"/>
          <p:cNvPicPr/>
          <p:nvPr/>
        </p:nvPicPr>
        <p:blipFill>
          <a:blip r:embed="rId3"/>
          <a:stretch/>
        </p:blipFill>
        <p:spPr>
          <a:xfrm>
            <a:off x="2700360" y="3068640"/>
            <a:ext cx="26636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475920"/>
            <a:ext cx="82296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ожарный шка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315v"/>
          <p:cNvPicPr/>
          <p:nvPr/>
        </p:nvPicPr>
        <p:blipFill>
          <a:blip r:embed="rId1"/>
          <a:stretch/>
        </p:blipFill>
        <p:spPr>
          <a:xfrm>
            <a:off x="2843280" y="2133720"/>
            <a:ext cx="3585960" cy="3133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koshma"/>
          <p:cNvPicPr/>
          <p:nvPr/>
        </p:nvPicPr>
        <p:blipFill>
          <a:blip r:embed="rId1"/>
          <a:stretch/>
        </p:blipFill>
        <p:spPr>
          <a:xfrm>
            <a:off x="0" y="1413000"/>
            <a:ext cx="3382920" cy="45370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solidFill>
            <a:srgbClr val="b3deeb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шма противопожар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еклоткань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мер полотн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,5 * 2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ериал: стеклоткань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пературный режим: до 6000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4038480" cy="5865840"/>
          </a:xfrm>
          <a:prstGeom prst="rect">
            <a:avLst/>
          </a:prstGeom>
          <a:solidFill>
            <a:srgbClr val="b3deeb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жарные щи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жарные щиты предназначены для хранения пожарного инвентаря изготавливаются из метала. В комплект пожарных щитов входят: лом, багор, лопата, два ведра и два огнетушителя (по выбору заказчик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Щит металлический закрытого типа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готавливаются из тонколистовой стали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абаритные размер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300 * 1000 * 300мм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сса: 38к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Щит металлический открытого типа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готавливаются из тонколистовой стали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абаритные размер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400 * 1250 * 25мм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сса: 30к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shchit(mz)"/>
          <p:cNvPicPr/>
          <p:nvPr/>
        </p:nvPicPr>
        <p:blipFill>
          <a:blip r:embed="rId1"/>
          <a:stretch/>
        </p:blipFill>
        <p:spPr>
          <a:xfrm>
            <a:off x="5904000" y="260280"/>
            <a:ext cx="3240000" cy="2835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shchit(o)"/>
          <p:cNvPicPr/>
          <p:nvPr/>
        </p:nvPicPr>
        <p:blipFill>
          <a:blip r:embed="rId2"/>
          <a:stretch/>
        </p:blipFill>
        <p:spPr>
          <a:xfrm>
            <a:off x="5219640" y="3527280"/>
            <a:ext cx="360036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орошковые огнетушител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3deeb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назначены для тушения возгорания твёрдых, жидких и газообразных веществ (класса А, В, С), а также возможно их применение для тушения электроустановок, находящихся под напряжением до 1000 В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ошковыми огнетушителями рекомендуется оборудовать легковые и грузовые автомобили, сельскохозяйственную технику, противопожарные щиты на химических объектах, в гаражах, мастерских, офисах, гостиницах и квартирах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гнетушители должны эксплуатироваться в диапазоне рабочих температур от -400С до +500С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13:43:55Z</dcterms:created>
  <dc:creator>Пионер</dc:creator>
  <dc:description/>
  <dc:language>en-US</dc:language>
  <cp:lastModifiedBy>FS</cp:lastModifiedBy>
  <dcterms:modified xsi:type="dcterms:W3CDTF">2009-02-05T07:26:35Z</dcterms:modified>
  <cp:revision>59</cp:revision>
  <dc:subject/>
  <dc:title>Кошма стеклоткань противопожарнаяФотоОписание  Кошма стеклоткань Размер полотна: 1,5 * 2м. Материал: стеклоткань Температурный режим: до 6000С</dc:title>
</cp:coreProperties>
</file>