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40F-3C1C-4AF9-8FB7-5F60805E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9F7-E93A-4292-B721-06325FA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327-E29E-4252-B65D-F0381C15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7E4-B35A-4F09-8E93-C9FAE22C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E67-ED08-4E39-A71A-77C55A33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2E6-3CE5-4446-863B-E897319B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E04-CC51-40E9-A7A7-3B225D62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036-1906-44E4-B0AB-3F949302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E0E-0996-4841-A184-23D62B1E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C24-28E1-43D7-808D-76AB48C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87B-E7A0-4526-8D1C-4E3D084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409-729A-4D72-B14B-F7D9998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48E3-25D1-4A68-B297-12BC45103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Бисятова Фар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-ся 11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СОШ №3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1476360" y="1628640"/>
            <a:ext cx="6264360" cy="3527640"/>
          </a:xfrm>
          <a:prstGeom prst="horizontalScroll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Виды излучений.</a:t>
            </a:r>
            <a:br>
              <a:rPr sz="5400"/>
            </a:b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Источники све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627280" y="47628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Излучени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124000" y="5084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ЯЧОК, БАКТЕРИИ, НАСЕКОМЫЕ, РЫБЫ И КУСОЧКИ ГНИЮЩЕГО 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NA01441_"/>
          <p:cNvPicPr/>
          <p:nvPr/>
        </p:nvPicPr>
        <p:blipFill>
          <a:blip r:embed="rId1"/>
          <a:stretch/>
        </p:blipFill>
        <p:spPr>
          <a:xfrm>
            <a:off x="324000" y="3500280"/>
            <a:ext cx="2133360" cy="2524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2124000" y="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Хеми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611280" y="836640"/>
            <a:ext cx="8280360" cy="2808360"/>
          </a:xfrm>
          <a:custGeom>
            <a:avLst/>
            <a:gdLst>
              <a:gd name="textAreaLeft" fmla="*/ 2070000 w 8280360"/>
              <a:gd name="textAreaRight" fmla="*/ 6210360 w 8280360"/>
              <a:gd name="textAreaTop" fmla="*/ 351000 h 2808360"/>
              <a:gd name="textAreaBottom" fmla="*/ 280872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емилюминесцен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Х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это све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вождающее химическую реак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исляющийся в воздух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ор(гнилуш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ячки)(свечение за счет энер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ой реакции окис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aequoreaGFP"/>
          <p:cNvPicPr/>
          <p:nvPr/>
        </p:nvPicPr>
        <p:blipFill>
          <a:blip r:embed="rId4"/>
          <a:stretch/>
        </p:blipFill>
        <p:spPr>
          <a:xfrm>
            <a:off x="5219640" y="3284640"/>
            <a:ext cx="3138480" cy="338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187280" y="18446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ыделение энергии в результате химических реакций. Часть энергии расходуется на излучение света, источник света остается хол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4360" y="59500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ветля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568320" y="58770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ниющее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6520" y="603576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лубоковод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rcRect l="13249" t="12436" r="11170" b="0"/>
          <a:stretch/>
        </p:blipFill>
        <p:spPr>
          <a:xfrm>
            <a:off x="179280" y="3500280"/>
            <a:ext cx="2592360" cy="2222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хемилюминисценция"/>
          <p:cNvPicPr/>
          <p:nvPr/>
        </p:nvPicPr>
        <p:blipFill>
          <a:blip r:embed="rId2"/>
          <a:srcRect l="20072" t="22776" r="31852" b="29166"/>
          <a:stretch/>
        </p:blipFill>
        <p:spPr>
          <a:xfrm>
            <a:off x="2987640" y="357336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images"/>
          <p:cNvPicPr/>
          <p:nvPr/>
        </p:nvPicPr>
        <p:blipFill>
          <a:blip r:embed="rId3"/>
          <a:stretch/>
        </p:blipFill>
        <p:spPr>
          <a:xfrm>
            <a:off x="6516720" y="3213000"/>
            <a:ext cx="2409840" cy="288144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>
            <a:off x="1908000" y="692280"/>
            <a:ext cx="561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Хеми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16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люминесц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вечение вещества под действием оптического изл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1979640" y="18900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ото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9" name="Picture 8" descr="{795F5D3F-9C77-40A1-AC49-37DAA4F79BCC}"/>
          <p:cNvPicPr/>
          <p:nvPr/>
        </p:nvPicPr>
        <p:blipFill>
          <a:blip r:embed="rId3"/>
          <a:stretch/>
        </p:blipFill>
        <p:spPr>
          <a:xfrm>
            <a:off x="179280" y="836640"/>
            <a:ext cx="3794400" cy="396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{1D739276-6EC4-4C0D-8456-65600FADC0A4}"/>
          <p:cNvPicPr/>
          <p:nvPr/>
        </p:nvPicPr>
        <p:blipFill>
          <a:blip r:embed="rId4"/>
          <a:stretch/>
        </p:blipFill>
        <p:spPr>
          <a:xfrm>
            <a:off x="3780000" y="3860640"/>
            <a:ext cx="2484360" cy="299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лампа люминесцентная"/>
          <p:cNvPicPr/>
          <p:nvPr/>
        </p:nvPicPr>
        <p:blipFill>
          <a:blip r:embed="rId1"/>
          <a:stretch/>
        </p:blipFill>
        <p:spPr>
          <a:xfrm>
            <a:off x="250920" y="3645000"/>
            <a:ext cx="5143320" cy="149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533880" y="1916280"/>
            <a:ext cx="845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 действием падающего излучения, ато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щества возбуждаются  и высвечи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асть энер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62160" y="551664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ампа дневного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088680" y="587700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ветящиеся кр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097440" cy="24778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8"/>
          <p:cNvSpPr txBox="1"/>
          <p:nvPr/>
        </p:nvSpPr>
        <p:spPr>
          <a:xfrm>
            <a:off x="1619280" y="476280"/>
            <a:ext cx="611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Фото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нтонов-Романовский В.В. «Оптика и спектроскопия» 195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тепанов Б.И. «Классификация вторичного свечения» 195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нсгейм П. «Флюоресценция и фосфоренценция» 195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Левшин В. Л. «Фотолюминесценция жидких и твердых веществ» 195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Люминесценция, в книге "Физический энциклопедический словарь" т.3,М.,19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осквин А. В. «Катодолюминесценция» 194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nergomir.net/svetotexnika/221-teplovoe-izluc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6"/>
          <p:cNvSpPr/>
          <p:nvPr/>
        </p:nvSpPr>
        <p:spPr>
          <a:xfrm>
            <a:off x="179280" y="981000"/>
            <a:ext cx="6553440" cy="4969080"/>
          </a:xfrm>
          <a:prstGeom prst="horizontalScroll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пловое излучен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лектролюминесценц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тодолюминесценц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Хемилюминесценц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Фотолюминесценц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2050920" y="333360"/>
            <a:ext cx="50421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иды излуч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6" name="Picture 8" descr="BD04924_"/>
          <p:cNvPicPr/>
          <p:nvPr/>
        </p:nvPicPr>
        <p:blipFill>
          <a:blip r:embed="rId1"/>
          <a:stretch/>
        </p:blipFill>
        <p:spPr>
          <a:xfrm>
            <a:off x="6443640" y="2060640"/>
            <a:ext cx="2347920" cy="31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971640" y="4594320"/>
            <a:ext cx="3017880" cy="22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лассификация источников све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 света различаются по виду излучения, которое определяется способом возбуждения атомов (молекул): 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пловое изл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озбуждаемое за счёт кинетической энергии теплового движения атомов (молекул) излучающего тела (Солнце, лампа накаливания); 2)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юминесц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лительное излучение, дополнительное к тепловому, – возбуждается за счёт источников других видов энергии, отличных от внутренней энергии теплового дви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вое излучение – электромагнитное излучение, испускаемое веществом, возникающее за счет его внутренней энер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словленное его нагре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вое излучение возникает в результате теплового движения молекул и атомов излучающего тела. Количество излучаемой энергии измеряется соответственно количеству подводимого тепла. Повышенная температура тела сопровождается ростом потока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2124000" y="33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Corsiva"/>
              </a:rPr>
              <a:t>Тепловое излуч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52" name="Picture 12" descr="Солнце"/>
          <p:cNvPicPr/>
          <p:nvPr/>
        </p:nvPicPr>
        <p:blipFill>
          <a:blip r:embed="rId3"/>
          <a:stretch/>
        </p:blipFill>
        <p:spPr>
          <a:xfrm>
            <a:off x="4643280" y="1844640"/>
            <a:ext cx="4218120" cy="410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лампа накаливания"/>
          <p:cNvPicPr/>
          <p:nvPr/>
        </p:nvPicPr>
        <p:blipFill>
          <a:blip r:embed="rId1"/>
          <a:srcRect l="0" t="0" r="47721" b="0"/>
          <a:stretch/>
        </p:blipFill>
        <p:spPr>
          <a:xfrm>
            <a:off x="6659640" y="2997360"/>
            <a:ext cx="1790640" cy="2396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913320" y="1824120"/>
            <a:ext cx="67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самый распространенный и простой вид из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818000" y="232740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епловыми источниками излучения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2120" y="539604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51280" y="5516640"/>
            <a:ext cx="13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84720" y="5445000"/>
            <a:ext cx="28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ампа накал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солнце 2"/>
          <p:cNvPicPr/>
          <p:nvPr/>
        </p:nvPicPr>
        <p:blipFill>
          <a:blip r:embed="rId2"/>
          <a:stretch/>
        </p:blipFill>
        <p:spPr>
          <a:xfrm>
            <a:off x="304920" y="3048120"/>
            <a:ext cx="2395440" cy="239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1-web"/>
          <p:cNvPicPr/>
          <p:nvPr/>
        </p:nvPicPr>
        <p:blipFill>
          <a:blip r:embed="rId3"/>
          <a:stretch/>
        </p:blipFill>
        <p:spPr>
          <a:xfrm>
            <a:off x="2987640" y="299736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61" name="WordArt 11"/>
          <p:cNvSpPr txBox="1"/>
          <p:nvPr/>
        </p:nvSpPr>
        <p:spPr>
          <a:xfrm>
            <a:off x="1835280" y="549360"/>
            <a:ext cx="59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Тепловое излу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{7CED741B-1981-4C71-A1CA-1D2B6B585D0A}"/>
          <p:cNvPicPr/>
          <p:nvPr/>
        </p:nvPicPr>
        <p:blipFill>
          <a:blip r:embed="rId1"/>
          <a:stretch/>
        </p:blipFill>
        <p:spPr>
          <a:xfrm>
            <a:off x="611280" y="549360"/>
            <a:ext cx="5422680" cy="3671640"/>
          </a:xfrm>
          <a:prstGeom prst="rect">
            <a:avLst/>
          </a:prstGeom>
          <a:ln w="0">
            <a:noFill/>
          </a:ln>
        </p:spPr>
      </p:pic>
      <p:pic>
        <p:nvPicPr>
          <p:cNvPr id="63" name="{E7AA4DB6-E1F6-4A04-9432-74E6B2E11412}.wmv" descr=""/>
          <p:cNvPicPr/>
          <p:nvPr/>
        </p:nvPicPr>
        <p:blipFill>
          <a:blip r:embed="rId2"/>
          <a:stretch/>
        </p:blipFill>
        <p:spPr>
          <a:xfrm>
            <a:off x="6095880" y="1628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2195640" y="0"/>
            <a:ext cx="540072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Электро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826920" y="3789360"/>
            <a:ext cx="5905800" cy="3456000"/>
          </a:xfrm>
          <a:prstGeom prst="horizontalScroll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ктролюминесценци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бу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ёт энергии заряж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иц, разгоняющихся в электриче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е. Например, полярное сия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ламные труб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юда же относится излучение газ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 газоразрядных лампах в результате прох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ического тока); (свечение под действием с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Северное сияние"/>
          <p:cNvPicPr/>
          <p:nvPr/>
        </p:nvPicPr>
        <p:blipFill>
          <a:blip r:embed="rId1"/>
          <a:srcRect l="0" t="0" r="0" b="12237"/>
          <a:stretch/>
        </p:blipFill>
        <p:spPr>
          <a:xfrm>
            <a:off x="468360" y="2637000"/>
            <a:ext cx="286524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02_s"/>
          <p:cNvPicPr/>
          <p:nvPr/>
        </p:nvPicPr>
        <p:blipFill>
          <a:blip r:embed="rId2"/>
          <a:stretch/>
        </p:blipFill>
        <p:spPr>
          <a:xfrm>
            <a:off x="4067280" y="2637000"/>
            <a:ext cx="4359240" cy="2603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920" y="1700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блюдается при разряде в газ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збужденные атомы отдают энергию в виде световых волн.</a:t>
            </a:r>
            <a:r>
              <a:rPr b="0" lang="ru-RU" sz="2800" spc="-1" strike="noStrike">
                <a:solidFill>
                  <a:srgbClr val="ffffd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59600" y="595008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Северное с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225400" y="55897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екламные на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1908000" y="404640"/>
            <a:ext cx="5689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Электро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ждение за счёт химических процессов в твёрдых телах (люминофорах) при их бомбардировке электронами, движущимися с высокими скор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{BB6BF096-56BF-4B9A-835C-003A5896DF76}"/>
          <p:cNvPicPr/>
          <p:nvPr/>
        </p:nvPicPr>
        <p:blipFill>
          <a:blip r:embed="rId1"/>
          <a:stretch/>
        </p:blipFill>
        <p:spPr>
          <a:xfrm>
            <a:off x="4427640" y="620640"/>
            <a:ext cx="4716360" cy="5589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539640" y="522936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ЧЕНИЕ ТВЕРДЫХ ТЕЛ, ВЫЗВАННОЕ БОМБАРДИРОВКОЙ ИХ ЭЛЕКТР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1619280" y="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атодо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электронно - лучевая трубка 2"/>
          <p:cNvPicPr/>
          <p:nvPr/>
        </p:nvPicPr>
        <p:blipFill>
          <a:blip r:embed="rId1"/>
          <a:stretch/>
        </p:blipFill>
        <p:spPr>
          <a:xfrm>
            <a:off x="395280" y="3357720"/>
            <a:ext cx="2362320" cy="190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электронно - лучевая трубка"/>
          <p:cNvPicPr/>
          <p:nvPr/>
        </p:nvPicPr>
        <p:blipFill>
          <a:blip r:embed="rId2"/>
          <a:stretch/>
        </p:blipFill>
        <p:spPr>
          <a:xfrm>
            <a:off x="3419640" y="3357720"/>
            <a:ext cx="2269800" cy="1904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55640" y="1628640"/>
            <a:ext cx="7996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вечение твердых тел, вызванное бомбардировкой их электрон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первый телевизор"/>
          <p:cNvPicPr/>
          <p:nvPr/>
        </p:nvPicPr>
        <p:blipFill>
          <a:blip r:embed="rId3"/>
          <a:stretch/>
        </p:blipFill>
        <p:spPr>
          <a:xfrm>
            <a:off x="6156360" y="3429000"/>
            <a:ext cx="2438280" cy="1849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6227640" y="551664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ервый телеви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ВН –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76680" y="5516640"/>
            <a:ext cx="369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лектронно – лучевая труб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елевиз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1835280" y="260280"/>
            <a:ext cx="590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Катодолюминесц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8:41:53Z</dcterms:created>
  <dc:creator>Фарида</dc:creator>
  <dc:description/>
  <dc:language>en-US</dc:language>
  <cp:lastModifiedBy>user</cp:lastModifiedBy>
  <dcterms:modified xsi:type="dcterms:W3CDTF">2012-02-01T10:41:54Z</dcterms:modified>
  <cp:revision>6</cp:revision>
  <dc:subject/>
  <dc:title>Слайд 1</dc:title>
</cp:coreProperties>
</file>