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65A4-6F98-4B40-A635-806703C57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AF94-AD70-4565-9B3F-0A06B543A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54DF-0CA4-4748-B905-C928C0978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18D4-4085-4CCE-A98B-C0E5C2837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8D344-9996-4683-B4CF-008D16BB2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8CC5F-E62D-45F4-AC28-C30C3FA26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0265F-3D67-4DB9-8527-CBD4C739C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B0EA7-7AFF-4582-856D-60B57511E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B0842-65D0-4D25-A100-F81F90B04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E3E58-2A8C-4A5B-BC9F-E6A51763E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877DE-95CE-459D-A3B1-E13C2F20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3144-6872-46C6-92DD-D0DD849CB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A0288-6525-4722-8B91-C0BC22D0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0B6F6-924D-459F-83FC-08D62BA7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19CA8-FEBC-48C3-B026-4F6BE25CE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9B2CC-D870-4A17-B47B-C8AB40D5C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92458-E40B-4432-B389-C4DD55CC8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3B882-AB0F-42EF-88F7-DF1B86B02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9122C-ED2B-4B8D-9926-B392331D9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CCB00-E78C-40D0-AD5D-20F7E3D8D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F03CE-3E94-4C95-B86A-452D34480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8872A-9339-43AE-894D-E31E1EC4B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B82C-CA4F-49C4-B7D4-648E6BB09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E10AF-2C37-41B9-B5CA-AC7EB819D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4E87C-EE15-4FAE-98C2-B56D1171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19D82-0290-4D37-9FE0-CEDE266C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96FFB-2AD0-4249-B47F-3ED627B3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F8A42-8839-4F6F-B243-FBBBBC95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0D427-6D9F-4486-9225-0A916934D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F3011-F6A4-4A40-9DBC-8E7A52EC9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CCB17-8D0A-4EBA-AD81-95E8B587D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E1BC8-0C9D-476E-94E4-A7EB5C4EB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F7B08-484B-4A58-8570-A575A5032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48B5-C6AA-43AF-A514-4DFEDE395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A8415-475C-4DFD-A726-4B6065293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CF24E-DDB4-4A47-A91D-F66DEBC82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DC963-2F4A-4443-BA80-9463668D1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CB8D1-7A48-44A1-959C-5740A0A3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FFC4C-DB69-44B0-9E21-C738C0A7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13AE9-0041-4318-B79B-41599C18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043F7-4EB5-4A60-AD0A-7A04799C3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020F3-FD32-4321-9C5B-01F475D34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DC86C-3E9F-45BE-98C6-A53449B92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CF4B-FD50-46C9-90B8-AE151C5F5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FC07-59C1-4604-9DD4-06E26EDBA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04B1-562E-4C63-B518-133AC4FB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12FD-5CFC-4FC6-B3BA-CDE28CBC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5E01-BF69-4DD4-A703-960A2394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abee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FF0FD-02C5-4772-983A-E2414D29EDE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abee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55449-CA5E-49F0-97CC-DC27F48AA7EB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abee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235D4-6AC9-4833-804F-78937F3B8F6D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abee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4A7D5-91BC-4400-B2AA-DF1F9DC0C02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Рисунок 4" descr="_DSC5882.JPG"/>
          <p:cNvPicPr/>
          <p:nvPr/>
        </p:nvPicPr>
        <p:blipFill>
          <a:blip r:embed="rId1"/>
          <a:stretch/>
        </p:blipFill>
        <p:spPr>
          <a:xfrm>
            <a:off x="185760" y="1143000"/>
            <a:ext cx="881532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Рисунок 1" descr="_DSC5883.JPG"/>
          <p:cNvPicPr/>
          <p:nvPr/>
        </p:nvPicPr>
        <p:blipFill>
          <a:blip r:embed="rId1"/>
          <a:stretch/>
        </p:blipFill>
        <p:spPr>
          <a:xfrm>
            <a:off x="571680" y="693720"/>
            <a:ext cx="8224560" cy="54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Рисунок 1" descr="_DSC5884.JPG"/>
          <p:cNvPicPr/>
          <p:nvPr/>
        </p:nvPicPr>
        <p:blipFill>
          <a:blip r:embed="rId1"/>
          <a:stretch/>
        </p:blipFill>
        <p:spPr>
          <a:xfrm>
            <a:off x="214200" y="1214280"/>
            <a:ext cx="858708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Рисунок 2" descr="DCAM1473.JPG"/>
          <p:cNvPicPr/>
          <p:nvPr/>
        </p:nvPicPr>
        <p:blipFill>
          <a:blip r:embed="rId1"/>
          <a:stretch/>
        </p:blipFill>
        <p:spPr>
          <a:xfrm>
            <a:off x="500040" y="857160"/>
            <a:ext cx="79279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Рисунок 2" descr="DCAM1474.JPG"/>
          <p:cNvPicPr/>
          <p:nvPr/>
        </p:nvPicPr>
        <p:blipFill>
          <a:blip r:embed="rId1"/>
          <a:stretch/>
        </p:blipFill>
        <p:spPr>
          <a:xfrm>
            <a:off x="500040" y="500040"/>
            <a:ext cx="815040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Рисунок 2" descr="DCAM1476.JPG"/>
          <p:cNvPicPr/>
          <p:nvPr/>
        </p:nvPicPr>
        <p:blipFill>
          <a:blip r:embed="rId1"/>
          <a:stretch/>
        </p:blipFill>
        <p:spPr>
          <a:xfrm>
            <a:off x="214200" y="165240"/>
            <a:ext cx="8648640" cy="57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Рисунок 1" descr="S1056634.JPG"/>
          <p:cNvPicPr/>
          <p:nvPr/>
        </p:nvPicPr>
        <p:blipFill>
          <a:blip r:embed="rId1"/>
          <a:stretch/>
        </p:blipFill>
        <p:spPr>
          <a:xfrm>
            <a:off x="2071800" y="95400"/>
            <a:ext cx="5000400" cy="66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5:03:45Z</dcterms:created>
  <dc:creator>Владимир</dc:creator>
  <dc:description/>
  <dc:language>en-US</dc:language>
  <cp:lastModifiedBy>Владимир</cp:lastModifiedBy>
  <dcterms:modified xsi:type="dcterms:W3CDTF">2012-12-04T04:28:13Z</dcterms:modified>
  <cp:revision>4</cp:revision>
  <dc:subject/>
  <dc:title>Слайд 1</dc:title>
</cp:coreProperties>
</file>